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9D20-103F-4138-90F3-B706F91AF1FA}" type="datetime">
              <a:rPr b="0" lang="en-US" sz="1200" spc="-1" strike="noStrike">
                <a:solidFill>
                  <a:srgbClr val="000000"/>
                </a:solidFill>
                <a:latin typeface="Gill San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19AC-9B1C-4641-886B-1EEC513843E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83A8-ABB6-4EEE-B508-3628B282E82F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2A02-9BA7-4FB4-A219-1815222ED151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C17F-1254-421D-B88B-2056DAAA8A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0121-D958-4508-BECD-79F7F86A62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C427-88B8-4EE1-95F6-E979631CA4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C5E1-4475-4A04-BB47-C129FC98AC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7B2A-FB08-44FB-9725-CBDA2F955A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33B6-0DD9-41DE-867B-5927B42751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B622-FAE4-4F63-B898-450553A4D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5B08-56BD-41B8-9C2D-DEFC6C8CDC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7A52-8446-498B-90B4-24FD840D77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8371-B8BA-4318-89CC-02141690C1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BCEE-D668-4C00-8B7C-BCE3021D5E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9420-AA9C-4D56-B1D2-FC6BC867EA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BF69-BFAB-4F11-9A32-2FD52EA772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0589-0A72-4499-AEC3-480FEA412F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2CDB-EA10-49F4-B5DB-026FCF6BC4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FD60-4B97-4C99-B509-61B0C307B4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B272-2352-4ECD-98C1-DB21ECAF9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168A-7C8C-42B6-8151-B921609867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74282-93E5-4300-8C9E-A23E226467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7942-806B-4DE1-814A-C5C24BEF09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4E3C-1976-469D-843C-4A0F4E9A40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FE73-19D5-415D-892D-1479FAC69A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C5BE-2131-4DFC-9C6F-45BBCEA443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F1C9-9C49-418A-9DBC-5CF0AAED44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30240" y="1700280"/>
            <a:ext cx="13053960" cy="3443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68200" y="5562360"/>
            <a:ext cx="10566360" cy="327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2000"/>
          </a:bodyPr>
          <a:p>
            <a:pPr marL="2124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1" marL="212400" indent="-212400"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212400" indent="-212400">
              <a:buClr>
                <a:srgbClr val="000000"/>
              </a:buClr>
              <a:buFont typeface="Museo Sans Rounded 300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212400" indent="-212400"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4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5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6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8200" y="2603520"/>
            <a:ext cx="10566360" cy="165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27080" rIns="127080" tIns="127080" bIns="127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2184480" y="406440"/>
            <a:ext cx="40766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useo Sans Rounded 700"/>
              </a:rPr>
              <a:t>REFORMA PÉČE O DUŠEVNÍ ZDRAVÍ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useo Sans Rounded 300"/>
              </a:rPr>
              <a:t>Strategie reformy psychiatrické péč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1168560" y="40644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9893160" y="622440"/>
            <a:ext cx="182880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Museo Sans Rounded 300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1" marL="45720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4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5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6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35040" y="635040"/>
            <a:ext cx="11734920" cy="41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930240" y="306000"/>
            <a:ext cx="295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700"/>
              </a:rPr>
              <a:t>REFORMA PÉČE O DUŠEVNÍ ZDRAVÍ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242160" y="306000"/>
            <a:ext cx="5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300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316560" y="9245160"/>
            <a:ext cx="357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6666"/>
                </a:solidFill>
                <a:latin typeface="Museo Sans Rounded 30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0EAF-2E96-4A5A-9361-F77FDE34A5E7}" type="slidenum">
              <a:rPr b="0" lang="en-US" sz="1800" spc="-1" strike="noStrike">
                <a:solidFill>
                  <a:srgbClr val="666666"/>
                </a:solidFill>
                <a:latin typeface="Museo Sans Rounded 300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8840" y="914040"/>
            <a:ext cx="1130328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Museo Sans Rounded 300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76240" y="3479760"/>
            <a:ext cx="7112160" cy="542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1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4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5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6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35040" y="635040"/>
            <a:ext cx="11734920" cy="41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930240" y="306000"/>
            <a:ext cx="295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700"/>
                <a:ea typeface="ヒラギノ角ゴ ProN W3"/>
              </a:rPr>
              <a:t>REFORMA PÉČE O DUŠEVNÍ ZDRAVÍ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0112040" y="306000"/>
            <a:ext cx="227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300"/>
                <a:ea typeface="ヒラギノ角ゴ ProN W3"/>
              </a:rPr>
              <a:t>Pracovní skupina 15.5.201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6316560" y="9245160"/>
            <a:ext cx="357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839D-D12D-4F53-A073-0A383A5D6971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8200" y="2590920"/>
            <a:ext cx="10566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27080" rIns="127080" tIns="127080" bIns="127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Strategie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reformy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psychiatrické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péče</a:t>
            </a:r>
            <a:br>
              <a:rPr sz="4800"/>
            </a:b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a geriatrická problematika transformace psychiatrických služeb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8200" y="5562360"/>
            <a:ext cx="10566360" cy="327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82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MUDr. Simona Papežová / Bc. Vanda Horná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Ministerstvo zdravotnictví ČR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14. 6. 2016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Rada vlády pro seniory a stárnutí popul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101600" y="339840"/>
            <a:ext cx="514368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Cíle Národního akčního plánu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75880" y="1563840"/>
            <a:ext cx="11302920" cy="733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jištění včasné a správné diagnózy syndromu demen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Úhrada léčby z veřejného zdravotního pojišt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lepšení přístupu k vhodné péči, zajištění vhodné péče a její koordin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výšení podpory pro pečovatel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jištění edukace rodinných pečujících </a:t>
            </a: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 asistentů sociální péč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revence v rámci zdravotních a sociální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výšení povědomí široké veřejnosti </a:t>
            </a: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BD42-167A-48BA-854A-60EA711CDCD1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8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Cíle Národního akčního plánu II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75880" y="1852560"/>
            <a:ext cx="11302920" cy="70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ýchova k ohleduplnosti vůči seniorům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odpora a rozvoj vzdělávání pro profesionální pečujíc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zdělávání pracovníků ve školství a veřejném sektoru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Koordinované úsilí v oblasti výzkumu včetně využití již dostupných výsledk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rganizace epidemiologického dozoru a sledová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pojení ČR do evropské spoluprá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1EE1-2334-4090-995B-C1C63B657296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0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Aktuální stav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75880" y="2068560"/>
            <a:ext cx="11302920" cy="683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lnění některých cílů bude probíhat v rámci  pracovní skupiny pro neurodegenerativní onemocnění  (SRPP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Tím se dostáváme ke geriatrické problematice transformace psychiatrický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ochází k posunu směrem k terénní psychiatrii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o systému by v souladu s cílem 3. mělo dojít k zapojení terénních psychiatrických sester (sestra pro péči v psychiatrii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A30C-A74B-406A-9E02-23384E47D5E0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Změny v síti psychiatrické péč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85600" y="2068200"/>
            <a:ext cx="1130292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Museo Sans Rounded 700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utní oddělení v rámci VN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sychiatrická nemocnice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CDZ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mbulantní péče,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mbulance s rozšířenou péčí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duševně nemocné  - přesun péče do komunity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 pomocí a podporou psychiatrických sester, sociálních pracovníků a dalších specialistů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6C64-CFD4-42F3-8440-030C404A0A2F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85600" y="163656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 současné době probíhají jednání na úrovni krajských úřad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ýstupem by měl být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trategický plán psychiatrické péče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 kraji v návaznosti na SRPP (transformační plán psychiatrických nemocnic v návaznosti na rozvoj dalších složek psychiatrické péče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tualizace kapitol zdravotního a střednědobého plánu sociální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6B1A-A9D9-4F7F-B653-4E5748CAD912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85600" y="773280"/>
            <a:ext cx="11302920" cy="122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Ukázka práce na udržitelném financování – </a:t>
            </a:r>
            <a:br>
              <a:rPr sz="3600"/>
            </a:b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odb. 914 – psychiatrická sestra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85600" y="2068200"/>
            <a:ext cx="11302920" cy="748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Zavedení/ukončení individuální psychiatrické rehabilitace, konzultace, administrativní činnost psychiatrické sestry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sychiatrická rehabilitace individuální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erénní krizová intervence prováděná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sychoterapeutické činnosti poskytované sestrou (pod odborným vedením a indikací psychiatra či psychologa)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Sociální šetření a objektivní anamnéza v pacientově prostředí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Edukace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Reedukace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Museo Sans Rounded 700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5662-F8B7-4874-A574-D4C3308CE558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8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Souhrn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13960" y="2428560"/>
            <a:ext cx="1130292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RPP řeší problematiku duševních onemocnění komplexně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Jsme na počátku procesu, který by měl kvalitativně změnit péči poskytovanou duševně nemocným všech věkových skupin a diagnostického spektra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ůležitá je koordinovaná a provázaná změna ve všech oblastech péče o duševně nemocné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EC48-3124-4E3F-8449-5B567FB2A193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70c0"/>
                </a:solidFill>
                <a:latin typeface="Museo Sans Rounded 300"/>
              </a:rPr>
              <a:t>Zvýšení </a:t>
            </a:r>
            <a:r>
              <a:rPr b="1" lang="cs-CZ" sz="4400" spc="-1" strike="noStrike">
                <a:solidFill>
                  <a:srgbClr val="0070c0"/>
                </a:solidFill>
                <a:latin typeface="Museo Sans Rounded 300"/>
              </a:rPr>
              <a:t>kvality</a:t>
            </a:r>
            <a:r>
              <a:rPr b="1" lang="cs-CZ" sz="4000" spc="-1" strike="noStrike">
                <a:solidFill>
                  <a:srgbClr val="0070c0"/>
                </a:solidFill>
                <a:latin typeface="Museo Sans Rounded 300"/>
              </a:rPr>
              <a:t> života duševně nemocných – globální cíl našeho společného snažení</a:t>
            </a:r>
            <a:endParaRPr b="0" lang="en-US" sz="40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4A55-DB7B-4E77-A4E5-7061F49F0661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389240" y="2459160"/>
            <a:ext cx="10383840" cy="727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Děkuji za Vaši pozornost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85600" y="1923840"/>
            <a:ext cx="1130292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Simona Papežová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simona.papezova</a:t>
            </a:r>
            <a:r>
              <a:rPr b="0" lang="en-US" sz="3800" spc="-1" strike="noStrike">
                <a:solidFill>
                  <a:srgbClr val="000000"/>
                </a:solidFill>
                <a:latin typeface="Museo Sans Rounded 700"/>
              </a:rPr>
              <a:t>@</a:t>
            </a: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mzcr.cz 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Vanda Horná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vanda.horna</a:t>
            </a:r>
            <a:r>
              <a:rPr b="0" lang="en-US" sz="3800" spc="-1" strike="noStrike">
                <a:solidFill>
                  <a:srgbClr val="000000"/>
                </a:solidFill>
                <a:latin typeface="Museo Sans Rounded 700"/>
              </a:rPr>
              <a:t>@</a:t>
            </a: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mzcr.cz 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D6C-76B9-4393-A484-3840E9972CFC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Hlavní cíl SRPP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75880" y="2355840"/>
            <a:ext cx="11302920" cy="654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osun péče co nejblíže do vlastního sociálního prostředí pacienta (komunitní – terénní péče)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ůra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na destigmatizaci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umanizaci péč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respektování potřeb pacienta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lepšení dostupnosti i kvality péče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včas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ý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záchyt a včas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léč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vážně duševně nemocných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3F35-FD5E-4974-B411-AB01CB875BC4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Genez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3960" y="213984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říjen 2013 – Strategie schválena  ministrem zdravotnictví Martinem Holcátem, MBA.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nyní jsme v první fázi procesu implementace: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niciace a zajištění podmínek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I. Realizace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II. Vyhodnocení a evaluace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marL="254160" indent="-254160" algn="just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153D-914A-413B-BA15-81206129C415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Genez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6880" y="1924200"/>
            <a:ext cx="1130292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schváleno institucionální ukotvení 8 pracovních skupin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inklusivní přístup zachován i v procesu implement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700"/>
              </a:rPr>
              <a:t>v roce 2015 byly k reformě jmenovány další 3 skupiny: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Museo Sans Rounded 300"/>
              </a:rPr>
              <a:t>PS pro neurodegenerativní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PS pro problematiku dětské a dorostové psychiatri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PS pro problematiku závislostí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ECCC-274C-4C41-ADB8-AB5916208F8D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75880" y="2212920"/>
            <a:ext cx="11302920" cy="669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2A84-0B8A-46DC-8054-F84B8463F220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461960" y="1060560"/>
            <a:ext cx="10031400" cy="759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Rok 2015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75880" y="2644560"/>
            <a:ext cx="11302920" cy="62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oučasně na MZ pracovala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v 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loňské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roc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Mezirezortní a mezioborová skupina pro přípravu Národního akčního plánu pro Alzheimerovu nemoc a další obdobná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Účelem akčního plánu je zajistit odpovídající péči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 pacienty ve všech stadiích tohoto závažného onemocnění, podle potřeb, které průběh onemocnění přináší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A056-915D-4C74-AC23-AD1E685751DA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3960" y="988920"/>
            <a:ext cx="11302920" cy="100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6666"/>
                </a:solidFill>
                <a:latin typeface="Museo Sans Rounded 300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Rok 2016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72880" y="1924200"/>
            <a:ext cx="11302920" cy="707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ne 3.2.2016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Vláda svým usnesením přijala Národní akční plan pro Alzheimerovu nemoc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 další obdobná onemocněnéná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a léta 2016 -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2019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dkaz na Národní akční plán: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zcr.cz/Odbornik/dokumenty/narodni-akcni-plan-pro-alzheimerovu-nemoc-a-dalsi-obdobna-onemocneni-na-leta-201_11429_2785_3.html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A15-857B-4F24-88B5-92553409047C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Museo Sans Rounded 300"/>
              </a:rPr>
              <a:t>Usnesení č. 85 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118E-9A52-434D-A4FF-106A73F42A9C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2" name="Zástupný symbol pro obsah 6" descr="Bez názvu.png"/>
          <p:cNvPicPr/>
          <p:nvPr/>
        </p:nvPicPr>
        <p:blipFill>
          <a:blip r:embed="rId1"/>
          <a:stretch/>
        </p:blipFill>
        <p:spPr>
          <a:xfrm>
            <a:off x="2901960" y="1827360"/>
            <a:ext cx="6232680" cy="707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4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Národní akční plán </a:t>
            </a:r>
            <a:r>
              <a:rPr b="1" lang="cs-CZ" sz="3600" spc="-1" strike="noStrike">
                <a:solidFill>
                  <a:srgbClr val="666666"/>
                </a:solidFill>
                <a:latin typeface="Arial"/>
                <a:ea typeface="Arial"/>
              </a:rPr>
              <a:t>byl </a:t>
            </a:r>
            <a:r>
              <a:rPr b="1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tvořen </a:t>
            </a:r>
            <a:r>
              <a:rPr b="0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ve spolupráci s</a:t>
            </a:r>
            <a:r>
              <a:rPr b="0" lang="cs-CZ" sz="3600" spc="-1" strike="noStrike">
                <a:solidFill>
                  <a:srgbClr val="666666"/>
                </a:solidFill>
                <a:latin typeface="Arial"/>
                <a:ea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75880" y="1923840"/>
            <a:ext cx="11302920" cy="697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nisterstvem práce a sociálních věc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nisterstvem školství, mládeže a tělovýchovy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Sdružení měs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obcí, kraj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i zdravotních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pojišťoven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i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odborných společnost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(neurologická, psychiatrická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FB88-994E-48A1-B61F-7E3A1EA9B068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20:36:45Z</dcterms:created>
  <dc:creator>Duškov Ivan PhDr.</dc:creator>
  <dc:description/>
  <dc:language>en-US</dc:language>
  <cp:lastModifiedBy>Horná Vanda</cp:lastModifiedBy>
  <dcterms:modified xsi:type="dcterms:W3CDTF">2016-06-13T10:57:06Z</dcterms:modified>
  <cp:revision>199</cp:revision>
  <dc:subject/>
  <dc:title>Sociální dopady Národního plánu péče o osoby s duševním onemocněním</dc:title>
</cp:coreProperties>
</file>