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8EDD-9615-4B16-951B-52A18CD8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1586-FD30-4AB9-BDFC-000FD6B5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31C4-0DEC-437B-867D-525D22FB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1D3-9356-42F9-B274-F8C97012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382C9-B273-4994-A808-1EBCFBCE9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1397-1DAD-41B3-BE80-713086591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8595C-9705-4302-BCDD-C63A732F6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6AD7F-8FED-4A9F-AB93-08FCB94CF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15C8-4FF1-4F6C-A006-BF5EEA2D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BD1C-D583-4EA8-A669-D9E865E3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BD8A-C336-4042-85FA-4144F1F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6CF3-BF55-4C70-8391-360BE106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9A5D-5B27-4B1C-AA0C-75F1ECE1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6EB1B-0C8C-469C-95E5-1F66259F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4BBA-7FB4-46A7-90D1-4B133500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1AB08-8031-42A9-AF67-16289727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72276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58600" y="213372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728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72276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58600" y="4219200"/>
            <a:ext cx="2414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2F5C-1B66-41AD-A89F-09E10F5F8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F87-B112-44ED-B3BC-E66CCBE45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AC3-F833-415A-ABE3-879D5C5A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E2DC-CA1B-4C50-9F9C-9A01046A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99624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9E42-8DDC-4B1D-AADA-360490B0B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E9F3-6E7C-401D-B166-78A45EE1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0280" y="421920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CAB6-59F9-4AEF-B10F-B10DB93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0280" y="2133720"/>
            <a:ext cx="36597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87280" y="4219200"/>
            <a:ext cx="749952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3B3-DE9C-4655-AA61-8C67AB63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03640" y="259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strana </a:t>
            </a:r>
            <a:fld id="{76D4AD93-7238-48B1-BDD4-C6341CEF058D}" type="slidenum"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187280" y="260280"/>
            <a:ext cx="338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0" y="0"/>
            <a:ext cx="4572000" cy="2276640"/>
          </a:xfrm>
          <a:prstGeom prst="rect">
            <a:avLst/>
          </a:prstGeom>
          <a:solidFill>
            <a:srgbClr val="78be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572000" y="0"/>
            <a:ext cx="4572000" cy="2276640"/>
          </a:xfrm>
          <a:prstGeom prst="rect">
            <a:avLst/>
          </a:prstGeom>
          <a:solidFill>
            <a:srgbClr val="50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2" descr="C:\Users\AVC\Desktop\powerpoint\logo_MENDELU_CMYK_neg1.jpg"/>
          <p:cNvPicPr/>
          <p:nvPr/>
        </p:nvPicPr>
        <p:blipFill>
          <a:blip r:embed="rId2"/>
          <a:stretch/>
        </p:blipFill>
        <p:spPr>
          <a:xfrm>
            <a:off x="285840" y="142920"/>
            <a:ext cx="2428920" cy="202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8be14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713160" indent="-27432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2" marL="1097280" indent="-21924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3" marL="1536120" indent="-219240">
              <a:spcBef>
                <a:spcPts val="799"/>
              </a:spcBef>
              <a:buClr>
                <a:srgbClr val="505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4" marL="1974960" indent="-219240">
              <a:spcBef>
                <a:spcPts val="799"/>
              </a:spcBef>
              <a:buClr>
                <a:srgbClr val="505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0505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EE2A-3EDB-4E63-AD01-9D43780AE1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63640" y="2852640"/>
            <a:ext cx="75960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78be14"/>
                </a:solidFill>
                <a:latin typeface="Arial"/>
              </a:rPr>
              <a:t>Analýza kvality života seniorů v ČR</a:t>
            </a:r>
            <a:endParaRPr b="1" lang="en-US" sz="40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63640" y="3716280"/>
            <a:ext cx="7596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Prezentace výsledků projektu TAČR č.TB05MPSV004 „Výzkum v oblasti kvality života seniorů v ČR“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4859280" y="26028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11.4.2017, B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řipravil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doc. Ing. Lea Kubíčková, Ph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125360"/>
            <a:ext cx="799128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Roční frekvence návštěvy obvodního lékaře ve vztahu ke zdravotnímu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5" name="Zástupný symbol pro obsah 4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7704000" cy="388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736F7BA4-4C1A-492E-8AA5-A9D905D00DC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Finanční situace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8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712980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F443F70A-1A40-4015-A461-F53EA305FB1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zdravotnímu stavu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1" name="Zástupný symbol pro obsah 4" descr=""/>
          <p:cNvPicPr/>
          <p:nvPr/>
        </p:nvPicPr>
        <p:blipFill>
          <a:blip r:embed="rId1"/>
          <a:stretch/>
        </p:blipFill>
        <p:spPr>
          <a:xfrm>
            <a:off x="1332000" y="2292480"/>
            <a:ext cx="6851520" cy="4016160"/>
          </a:xfrm>
          <a:prstGeom prst="rect">
            <a:avLst/>
          </a:prstGeom>
          <a:ln w="0">
            <a:noFill/>
          </a:ln>
        </p:spPr>
      </p:pic>
      <p:sp>
        <p:nvSpPr>
          <p:cNvPr id="12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9A31F0C-EB70-4AFE-AC1A-AFCB38A9922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ocit bezpečí ve vztahu k velikosti obce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4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7067520" cy="4232160"/>
          </a:xfrm>
          <a:prstGeom prst="rect">
            <a:avLst/>
          </a:prstGeom>
          <a:ln w="0">
            <a:noFill/>
          </a:ln>
        </p:spPr>
      </p:pic>
      <p:sp>
        <p:nvSpPr>
          <p:cNvPr id="12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BECCD361-F3FA-4C71-B7F2-C967193CF12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4360" y="1483920"/>
            <a:ext cx="7632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ocit bezpečí seniorů s ohledem na to, s kým senior žije, popř. zda žije sám/a</a:t>
            </a:r>
            <a:br>
              <a:rPr sz="2800"/>
            </a:b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27" name="Zástupný symbol pro obsah 4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6985080" cy="3887640"/>
          </a:xfrm>
          <a:prstGeom prst="rect">
            <a:avLst/>
          </a:prstGeom>
          <a:ln w="0">
            <a:noFill/>
          </a:ln>
        </p:spPr>
      </p:pic>
      <p:sp>
        <p:nvSpPr>
          <p:cNvPr id="12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AE3F5AFA-19A1-4825-B657-68EE58E2E97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Důvody, proč se senioři necítí bezpečně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0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996240" cy="3960720"/>
          </a:xfrm>
          <a:prstGeom prst="rect">
            <a:avLst/>
          </a:prstGeom>
          <a:ln w="0">
            <a:noFill/>
          </a:ln>
        </p:spPr>
      </p:pic>
      <p:sp>
        <p:nvSpPr>
          <p:cNvPr id="13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2902D188-F5CE-4A9A-B519-90D65529440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bezpeč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2292480"/>
            <a:ext cx="6840720" cy="4160880"/>
          </a:xfrm>
          <a:prstGeom prst="rect">
            <a:avLst/>
          </a:prstGeom>
          <a:ln w="0">
            <a:noFill/>
          </a:ln>
        </p:spPr>
      </p:pic>
      <p:sp>
        <p:nvSpPr>
          <p:cNvPr id="13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E9A2BA0-1998-41EE-A57D-1A6BBC7F30D9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nioři nad 75 let - dobrovolnictv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6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6553440" cy="3960720"/>
          </a:xfrm>
          <a:prstGeom prst="rect">
            <a:avLst/>
          </a:prstGeom>
          <a:ln w="0">
            <a:noFill/>
          </a:ln>
        </p:spPr>
      </p:pic>
      <p:sp>
        <p:nvSpPr>
          <p:cNvPr id="13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AE708508-5942-4D39-811F-1FA6A173B10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2800"/>
            </a:br>
            <a:r>
              <a:rPr b="1" lang="cs-CZ" sz="2800" spc="-1" strike="noStrike">
                <a:solidFill>
                  <a:srgbClr val="78be14"/>
                </a:solidFill>
                <a:latin typeface="Arial"/>
              </a:rPr>
              <a:t>Předčasný odchod do důchodu - motivy</a:t>
            </a:r>
            <a:endParaRPr b="1" lang="en-US" sz="28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39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492280"/>
            <a:ext cx="6996240" cy="3961080"/>
          </a:xfrm>
          <a:prstGeom prst="rect">
            <a:avLst/>
          </a:prstGeom>
          <a:ln w="0">
            <a:noFill/>
          </a:ln>
        </p:spPr>
      </p:pic>
      <p:sp>
        <p:nvSpPr>
          <p:cNvPr id="14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31E5D265-FFFB-41EA-AACB-14237D2ADE5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356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 - motiv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ADEC97C-DE9E-4EC2-9787-EBC8AECE7DE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Zástupný symbol pro obsah 6" descr=""/>
          <p:cNvPicPr/>
          <p:nvPr/>
        </p:nvPicPr>
        <p:blipFill>
          <a:blip r:embed="rId1"/>
          <a:stretch/>
        </p:blipFill>
        <p:spPr>
          <a:xfrm>
            <a:off x="971640" y="2739960"/>
            <a:ext cx="72118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ástupný symbol pro číslo snímku 5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9CA37E6E-4F20-42F3-86AC-A58F5470F605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Hlavní cíl projekt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ovést </a:t>
            </a:r>
            <a:r>
              <a:rPr b="1" lang="cs-CZ" sz="3200" spc="-1" strike="noStrike">
                <a:solidFill>
                  <a:srgbClr val="505050"/>
                </a:solidFill>
                <a:latin typeface="Arial"/>
              </a:rPr>
              <a:t>detailní a komplexní analýzu kvality života českých seniorů</a:t>
            </a: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, na jejímž základě bude možno formulovat návrhy, jež by vedly ke zkvalitnění jejich života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Kvalitativní průzkum </a:t>
            </a:r>
            <a:br>
              <a:rPr sz="3200"/>
            </a:b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etrvání na trhu práce – další důvody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45" name="Zástupný symbol pro obsah 4" descr=""/>
          <p:cNvPicPr/>
          <p:nvPr/>
        </p:nvPicPr>
        <p:blipFill>
          <a:blip r:embed="rId1"/>
          <a:stretch/>
        </p:blipFill>
        <p:spPr>
          <a:xfrm>
            <a:off x="1403280" y="2654280"/>
            <a:ext cx="6481800" cy="3727440"/>
          </a:xfrm>
          <a:prstGeom prst="rect">
            <a:avLst/>
          </a:prstGeom>
          <a:ln w="0">
            <a:noFill/>
          </a:ln>
        </p:spPr>
      </p:pic>
      <p:sp>
        <p:nvSpPr>
          <p:cNvPr id="146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70E1C80E-3066-487F-81B4-8E5BA3BC0657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CF4C280-67E4-4915-869F-B86E69FA28A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ěkuji Vám za pozornost.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416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Struktura projektu a metody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Analýza dat z výsledků EU SILC,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505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rimární výzkum: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ntitativní část – dotazníkové šetření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 celkem 3071 zpracovaných dotazníků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50505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05050"/>
                </a:solidFill>
                <a:latin typeface="Arial"/>
              </a:rPr>
              <a:t>kvalitativní část – hloubkové rozhovory             </a:t>
            </a:r>
            <a:r>
              <a:rPr b="0" lang="cs-CZ" sz="2400" spc="-1" strike="noStrike">
                <a:solidFill>
                  <a:srgbClr val="505050"/>
                </a:solidFill>
                <a:latin typeface="Arial"/>
              </a:rPr>
              <a:t>3 cílové skupiny (senioři nad 75 let, kteří odešli v řádném čase do důchodu; senioři, kteří odešli do předčasného důchodu; senioři, kteří setrvávají na trhu práce),</a:t>
            </a:r>
            <a:endParaRPr b="0" lang="en-US" sz="24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5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6591418-E1B0-4D9C-AAB5-8E42F9C8CB13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ýsledky kvantitativního šetření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7280" y="2133720"/>
            <a:ext cx="7499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Životní situace seniorů a oblast bydlení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Důvody setrvání v zaměstnání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Zdravotní stav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Spojenost s finanční situací u seniorů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0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505050"/>
                </a:solidFill>
                <a:latin typeface="Arial"/>
              </a:rPr>
              <a:t>Pocit bezpečí seniorů</a:t>
            </a:r>
            <a:r>
              <a:rPr b="1" i="1" lang="cs-CZ" sz="32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05050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02852AE8-BF51-4899-8E73-DE9F7EB93CE8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Životní situace seniorů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0" name="Zástupný symbol pro obsah 6" descr=""/>
          <p:cNvPicPr/>
          <p:nvPr/>
        </p:nvPicPr>
        <p:blipFill>
          <a:blip r:embed="rId1"/>
          <a:stretch/>
        </p:blipFill>
        <p:spPr>
          <a:xfrm>
            <a:off x="1187280" y="2133720"/>
            <a:ext cx="6983640" cy="4435200"/>
          </a:xfrm>
          <a:prstGeom prst="rect">
            <a:avLst/>
          </a:prstGeom>
          <a:ln w="0">
            <a:noFill/>
          </a:ln>
        </p:spPr>
      </p:pic>
      <p:sp>
        <p:nvSpPr>
          <p:cNvPr id="101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C4E74AD-BB24-4DDE-9639-90861D341CE2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Oblast bydlení seniorů</a:t>
            </a:r>
            <a:br>
              <a:rPr sz="3200"/>
            </a:b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3" name="Zástupný symbol pro obsah 4" descr=""/>
          <p:cNvPicPr/>
          <p:nvPr/>
        </p:nvPicPr>
        <p:blipFill>
          <a:blip r:embed="rId1"/>
          <a:stretch/>
        </p:blipFill>
        <p:spPr>
          <a:xfrm>
            <a:off x="1116000" y="1903320"/>
            <a:ext cx="7201080" cy="44053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4152BB03-E8BA-4420-87D9-5E53A8346CA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Percepce odchodu  do důchodu – vazba na vzdělání 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06" name="Zástupný symbol pro obsah 4" descr=""/>
          <p:cNvPicPr/>
          <p:nvPr/>
        </p:nvPicPr>
        <p:blipFill>
          <a:blip r:embed="rId1"/>
          <a:stretch/>
        </p:blipFill>
        <p:spPr>
          <a:xfrm>
            <a:off x="1258920" y="2349360"/>
            <a:ext cx="698508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63240130-7715-4F37-A843-88021E3E64E0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69962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78be14"/>
                </a:solidFill>
                <a:latin typeface="Arial"/>
              </a:rPr>
              <a:t>Typický respondent pro jednotlivé důvody setrvání/nesetrvání v zaměstnání</a:t>
            </a:r>
            <a:endParaRPr b="1" lang="en-US" sz="2400" spc="-1" strike="noStrike">
              <a:solidFill>
                <a:srgbClr val="78be14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17600" y="2122560"/>
          <a:ext cx="8331120" cy="4403520"/>
        </p:xfrm>
        <a:graphic>
          <a:graphicData uri="http://schemas.openxmlformats.org/drawingml/2006/table">
            <a:tbl>
              <a:tblPr/>
              <a:tblGrid>
                <a:gridCol w="3867120"/>
                <a:gridCol w="4464000"/>
              </a:tblGrid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no, protože mi důchod nepostačuje na pokrytí životní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mít vyšší životní úrove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žije sa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76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chci být mezi lid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práce mě bav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</a:t>
                      </a: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vysokoškolské vzdělání</a:t>
                      </a:r>
                      <a:r>
                        <a:rPr b="0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SimSun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no, z jiných důvo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Žena ve věku méně než 65 let, má střední vzdělání s maturitou a žije s 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Calibri"/>
                          <a:ea typeface="Times New Roman"/>
                        </a:rPr>
                        <a:t>Žena ve věku 66-70 let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, má střední vzdělání s maturitou a žije s manžel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10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88CF9745-B93A-4FF9-B4CD-2C2874CECF9A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69962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78be14"/>
                </a:solidFill>
                <a:latin typeface="Arial"/>
              </a:rPr>
              <a:t>Vnímání zdravotního stavu</a:t>
            </a:r>
            <a:endParaRPr b="1" lang="en-US" sz="3200" spc="-1" strike="noStrike">
              <a:solidFill>
                <a:srgbClr val="78be14"/>
              </a:solidFill>
              <a:latin typeface="Arial"/>
            </a:endParaRPr>
          </a:p>
        </p:txBody>
      </p:sp>
      <p:pic>
        <p:nvPicPr>
          <p:cNvPr id="112" name="Zástupný symbol pro obsah 4" descr=""/>
          <p:cNvPicPr/>
          <p:nvPr/>
        </p:nvPicPr>
        <p:blipFill>
          <a:blip r:embed="rId1"/>
          <a:stretch/>
        </p:blipFill>
        <p:spPr>
          <a:xfrm>
            <a:off x="1187280" y="2292480"/>
            <a:ext cx="6996240" cy="4016160"/>
          </a:xfrm>
          <a:prstGeom prst="rect">
            <a:avLst/>
          </a:prstGeom>
          <a:ln w="0">
            <a:noFill/>
          </a:ln>
        </p:spPr>
      </p:pic>
      <p:sp>
        <p:nvSpPr>
          <p:cNvPr id="113" name="Zástupný symbol pro číslo snímku 3"/>
          <p:cNvSpPr/>
          <p:nvPr/>
        </p:nvSpPr>
        <p:spPr>
          <a:xfrm>
            <a:off x="6804000" y="260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ffffff"/>
                </a:solidFill>
                <a:latin typeface="Arial"/>
              </a:rPr>
              <a:t>strana </a:t>
            </a:r>
            <a:fld id="{1AB73687-2962-4CE3-8D58-D67AFFD0B90B}" type="slidenum">
              <a:rPr b="1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7:14Z</dcterms:created>
  <dc:creator>František Dařena</dc:creator>
  <dc:description/>
  <dc:language>en-US</dc:language>
  <cp:lastModifiedBy>Lea</cp:lastModifiedBy>
  <dcterms:modified xsi:type="dcterms:W3CDTF">2017-04-10T05:54:11Z</dcterms:modified>
  <cp:revision>23</cp:revision>
  <dc:subject/>
  <dc:title>Snímek 1</dc:title>
</cp:coreProperties>
</file>