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5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5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90EB-F324-4269-9974-A1A96229133A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B768-CDA1-4666-9ABA-5BBC29D76CC0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Zástupný symbol čísla snímky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FA02-A360-42AC-9053-C8FF01991A4F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AB82-5EFF-4909-9BF0-F3103D38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A742-C983-468B-A83B-072ABF0E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F7F7-BC2A-4460-8201-DE83419A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C3F4-501F-48C7-BF06-7954735D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3FC2-117C-4778-B831-F5178263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E77F-8FE3-4574-B6CB-1B52DAB8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81C4-2BC3-49F9-89A5-F8382A21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5E07-482F-4E2F-A852-7C2B8DA5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814D-1C54-42D1-9867-86E46147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047C-49F2-43E9-9D44-8AD5109A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E7AC-C89E-4F69-B4F2-01E78C4E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B5BD-1800-4859-88ED-D753A247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3A30-7DD6-4644-8517-B67B19FFCD6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7628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Systém starostlivosti o ohrozené deti a rodiny na Slovensku</a:t>
            </a:r>
            <a:br>
              <a:rPr sz="3200"/>
            </a:br>
            <a:br>
              <a:rPr sz="32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hDr. Slávka Bertová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Ústredie práce, sociálnych vecí a rodiny Bratislava,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dbor sociálnoprávnej ochrany detí a sociálnej kurately,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aha 6.12.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6606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28400" y="1599840"/>
            <a:ext cx="825804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Organizácia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sociálnoprávnej ochrany detí a sociálnej kurately (SPODaSK) na Sloven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atrenia SPODaSK vykonávaj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rgány štátnej správy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1. Ministerstvo práce, sociálnych vecí a rodin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 Ústredie PSV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3. Úrady PSVR (46)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4. Centrum pre medzinárodnoprávnu ochranu detí a mládež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b) obec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138 mestských obcí, 2 752 vidieckych obcí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) vyšší územný celok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8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) akreditovaný subjek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) právnická osoba alebo fyzická osoba, ktorá vykonáva opatrenia sociálnoprávnej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chrany detí a sociálnej kur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2"/>
          <p:cNvSpPr/>
          <p:nvPr/>
        </p:nvSpPr>
        <p:spPr>
          <a:xfrm>
            <a:off x="0" y="-523800"/>
            <a:ext cx="22096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42960" y="1571400"/>
            <a:ext cx="822960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http://upload.wikimedia.org/wikipedia/commons/8/84/Slovensko_kraje.png"/>
          <p:cNvPicPr/>
          <p:nvPr/>
        </p:nvPicPr>
        <p:blipFill>
          <a:blip r:embed="rId2"/>
          <a:stretch/>
        </p:blipFill>
        <p:spPr>
          <a:xfrm>
            <a:off x="324000" y="1428840"/>
            <a:ext cx="8820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00040" y="1714320"/>
            <a:ext cx="8229600" cy="40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očet rodín a detí v evidencii úradov PSVR, SPODaSK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v roku 201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čet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odí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pre, ktoré boli vykonávané opatren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21 55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čet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etí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pre, ktoré boli vykonávané opatren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84 0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čet všetkých rodín:  224 432 (z toho v priebehu roka nových 22 789 rodí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čet všetkých detí: 338 085 (z toho v priebehu roka nových 31 802 det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Výkon opatrení SPODaSK pre ohrozené deti a rodiny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sudzovani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miery ohrozenia dieťaťa (ohrozenie života, zdravia a priaznivého fyzického, psychického a sociálneho vývinu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časná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ociálna intervencia s cieľom zabezpečenia ochrany dieťať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ak je dieťa vážne ohrozené, je urýchlene vyňaté z rodinného prostred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interdisciplinárna spoluprác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úrad PSVR, obec, škola, akreditovaný subjekt, zariadenie, lekár, polícia.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alizácia opatrení SPODaSK sa plánuje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lá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ociálnej prác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avidelné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yhodnocovanie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fektívnosti vykonaných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sažiteľnosť: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24 hodinová dostupnosť zamestnancov úradov PSVR na mobilnom telefóne (ak je život, zdravie, priaznivý vývin dieťaťa ohrozený alebo narušený umiestnenie do detského domova alebo krízového stredis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uloženie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ýchovného opatrenia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ieľ: navrátenie riadneho výchovného prostredia dieťaťa, zdravý vývin dieťať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apojenie detí a rodičov do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ít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napr. skupinové programy, sanácia rodinných pomerov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konávanie opatrení SPODaSK v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ariadeni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prostredkovanie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áhradnej rodinnej starostliv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28400" y="1600200"/>
            <a:ext cx="825804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59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Výchovné opatrenia uložené 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úradom PSVR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odľa zákona č.305/2005 Z.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5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§ 12 ods.1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orgán SPODaSK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rozhoduje o výchovných opatreniac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9560" indent="-25956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upozornenie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dieťaťa, rodičov alebo osoby, ktorá sa osobne stará o dieť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9560" indent="-25956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uloženie povinnosti dieťaťu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podrobiť sa odbornej diagnostike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v špecializovanej ambulantnej starostliv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9560" indent="-25956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uloženie povinnosti dieťaťu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zúčastniť sa na liečbe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v špecializovanej ambulantnej starostliv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9560" indent="-25956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uloženie povinnosti dieťaťu zúčastniť sa na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výchovnom programe alebo sociálnom progr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95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2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Výchovné  opatrenia uložené 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úradom PSVR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odľa zákona č.36/2005 Z.z. o r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odľa § 37 ods.2 orgán SPODaSK rozhoduje o výchovných opatreniac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napomenutie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dohľad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obmedzenie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uložiť povinnosť dieťaťu  a jeho rodičom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podrobiť sa sociálnemu poradenstvu alebo odbornému poradenstvu v špecializovaných zariadeni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99680" y="1600200"/>
            <a:ext cx="81867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2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Výchovné  opatrenia uložené 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súdom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 podľa zákona č.36/2005 Z.z. o r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Súd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rozhoduje o VO ako úrad, ale navyše aj o VO, ktorými sa dieťa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vyníma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z rodinného prostr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odľa § 37 ods.3 súd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odníme maloleté dieťa zo starostlivosti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rodičov alebo osôb, ktoré majú dieťa v starostlivosti a nariadi dieťaťu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obyt v zariadení, ktoré plní úlohy odbornej diagnostiky, najdlhšie na 6 mesiac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obyt v špecializovaných zariadeniach najdlhšie na 6 mesiac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obyt v resocializačnom stredisku pre drogovo závislý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28400" y="1599840"/>
            <a:ext cx="82580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Skupinové progra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účasťou sociálnej práce s dieťaťom a jeho rodinou je aj zapájanie dieťaťa 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ýchovných skupinových progra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ociálnych skupinových progra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ýchovno-rekreačných skupinových progra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ieto programy organizuje alebo sprostredkúva úrad PSVaR nasledovnými formam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mbulant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Celoden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byto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k je to vhodné alebo účelné, možno ponúknuť účasť na programe rodičom alebo osobe, ktorá sa osobne stará o dieť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8400" y="1600200"/>
            <a:ext cx="825804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bsa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ákladné údaje o Sloven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ákladné pojmy a legislatí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iele v oblasti sociálnoprávnej ochrany det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rganizáci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ociálnoprávnej ochrany detí a sociálnej kurately (SPODaSK) na Sloven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čet rodín a detí v evidencii SPOD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ýkon opatrení SPOD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árodné projekty financované z 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42960" y="1571400"/>
            <a:ext cx="8229600" cy="40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dborné pôsobenie na  odstránenie alebo zmiernenie problémov v správaní dieťaťa, alebo jeho porúch správ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voj sociálnych zručnost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ískanie spoločenských návykov, hygienických návy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abezpečenie vhodného využitia voľného času dieťať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500040" y="1500120"/>
          <a:ext cx="8229600" cy="4094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89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detí zapojených do skupinových programo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zapojených rodičov, resp.osôb, ktoré sa osobne starajú o dieť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chovný 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álny 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chovno-rekreačný 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kupinové programy –za rok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Sanácia rodinného prostr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ája sa s ozdravením, nápravou, zmenou výchovných, rodinných podmienok dieťaťa, zmenou spôsobu života, ako aj s uschopnením rodičov dieťaťa vykonávať rodičovskú rolu v súlade s akceptovateľnými spoločenskými normam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ide o výkon opatrení SPODaSK v prirodzenom rodinnom prostredí s cieľom úpravy rodinných pomerov dieťať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konáva úrad PSVR, v spolupráci s obcou a akreditovaným subjek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roku 2011 bolo ukončené poskytovanie starostlivosti v DeD z dôvodu sanácie v prípade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340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de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Mediá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borná metóda na uľahčenie riešenia konfliktných situácií v rod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rámci úradov PSVR je najčastejšie využívaná v oblasti sociálnoprávnej ochrany detí a sociálnej kurately (zabezpečenie dohody pri problémovom realizovaní stretnutí rodičov s dieťaťom, v prípade spornej osobnej starostlivosti o dieťaťa, v prípade určenia vyživovacej povinnosti, v prípadoch konfliktov medzi rodičmi, rodičmi a deťmi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roku 2011 bola mediácia zrealizovaná v 253 prípad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stredníctvom mediátorov zapísaných v zozname mediátorov Ministerstva spravodlivosti, zamestnanci úradu PSVR,ktorí skončili odbornú akreditovanú prípravu mediátora a môžu  vykonávať mediáciu na riešenie sporov vo veciach sociálnoprávnej ochrany detí a sociálnej kurate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Referáty poradensko-psychologických služi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ú organizačnou súčasťou  úradov PSVR, vykonávajú činnos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 oblasti psychologického a iného odborného poradenstv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dividuálne a párové poradenstvo v oblasti osobných, partnerských, manželských, výchovných a rodinných problémo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dividuálne a párové poradenstvo manželom/rodičom v procese rozvod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dividuálne (a skupinové) poradenstvo pre deti v rozvode rodičo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radenská a psychologická pomoc dieťaťu pri úprave styku s rodičmi po rozvod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sychologické poradenstvo rodine s problémom domáceho násili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sychologické poradenstvo rodine s problémom drogovej a inej závislost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ákladná poradensko-psychologická pomoc dieťaťu, rodičom a plnoletej fyzickej osobe v krízových situáciách, nešťastiach a závažných životných zmenách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sychologické poradenstvo rodičom, ktorý majú dieťa v N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 oblasti psychologickej prípravy: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prava fyzických osôb na osvojenie a pestúnsku starostlivosť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prava fyzických osôb pre výkon zabezpečovania ústavnej starostlivosti, predbežného opatrenia a výchovného opatrenia v profesionálnej rodin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prava dieťaťa na osvojenie, na pestúnsku starostlivosť (v prípade, že detský domov nemá psychológa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sychologická asistencia pri nadviazaní vzťahu medzi dieťaťom a budúcim osvojiteľom, (vrátane medzištátneho osvojenia) a pestúnom (v prípade ak detský domov nemá psychológa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28400" y="1599840"/>
            <a:ext cx="825804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činnosti v oblasti psychodiagnostiky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sychologické posúdenia fyzickej osoby, ktorá má záujem stať sa pestúnom alebo osvojiteľom, za účelom: vyjadrenia k charakteristike osobnosti fyzickej osoby, vyjadrenia k jej predpokladom vychovávať dieťa, vyjadrenia k motivácii jej záujmu stať sa pestúnom alebo osvojiteľom, vyjadrenia k stabilite manželského vzťahu a rodinného prostredi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sychologické posúdenia a poskytovania informácií o psychickom vývine dieťaťa na účely vykonávania opatrení sociálnoprávnej ochran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kon orientačného psychologického zhodnotenia nadväzovania osobného vzťahu medzi dieťaťom a žiadateľom o NRS vrátane uvedenia názoru na vývoj tohto vzťah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sychologické posúdenia kvality vzťahu manželov v rozvode, kvality  a dynamiky vzťahov v rodine, s ohľadom na najlepší záujem dieťať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sychologické posúdenia napĺňania potrieb dieťaťa v záujme jeho harmonického vývinu, vrátane zisťovania názoru dieťaťa vo veciach, ktoré sa ho týkajú (napr. v prípade rozvodu rodičov, pri príprave na NRS, a i.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sychologické posúdenia osobnostných predpokladov neplnoletej matky s ohľadom na jej rodičovskú spôsobilosť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Vykonávanie opatrení SPODaSK v zariadeni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etský do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etský domov pre maloletých bez sprievodu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pre dieťa, ktoré nie je občanom SR a nachádza sa na území SR bez sprievodu rodiča, alebo osoby ktorej bolo zveren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rízové stredisko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pre dieťa a rodinu, ak sa nachádzajú v krízovej životnej situác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esocializačné stredisko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pre deti a dospelých na prekonanie dôsledkov drogovej závislosti a na zapojenie sa do života v prirodzenom prostred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www.slovakregion.sk/files/images/vysoke_tatry.jpg"/>
          <p:cNvPicPr/>
          <p:nvPr/>
        </p:nvPicPr>
        <p:blipFill>
          <a:blip r:embed="rId2"/>
          <a:stretch/>
        </p:blipFill>
        <p:spPr>
          <a:xfrm>
            <a:off x="500040" y="214200"/>
            <a:ext cx="811368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Detský domov (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dočasne nahrádza dieťaťu jeho prirodzené rodinné prostredie alebo náhradné rodinné prostredi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67 štátnych DeD, 20 neštátnych D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dieťa je do DeD umiestnené na základe rozhodnutia súdu o nariadení ústavnej starostlivosti, predbežného opatrenia, alebo výchovného opatrenia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pri umiestnení sa rešpektujú súrodenecké väzby a rodičovské väzb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v DeD sú umiestnené deti a mladí dospelí, mladý dospelý je plnoletá fyzická osoba do 25 rokov, pobyt je možné predĺžiť do 27 roko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  <p:sp>
        <p:nvSpPr>
          <p:cNvPr id="115" name="Ovál 3"/>
          <p:cNvSpPr/>
          <p:nvPr/>
        </p:nvSpPr>
        <p:spPr>
          <a:xfrm>
            <a:off x="1500120" y="1785960"/>
            <a:ext cx="1428840" cy="1143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Arial"/>
              </a:rPr>
              <a:t>Spolu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4 631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detí a M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ál 4"/>
          <p:cNvSpPr/>
          <p:nvPr/>
        </p:nvSpPr>
        <p:spPr>
          <a:xfrm>
            <a:off x="4000680" y="1785960"/>
            <a:ext cx="1285560" cy="11286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Arial"/>
              </a:rPr>
              <a:t>z toho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654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ál 5"/>
          <p:cNvSpPr/>
          <p:nvPr/>
        </p:nvSpPr>
        <p:spPr>
          <a:xfrm>
            <a:off x="6429240" y="1714680"/>
            <a:ext cx="1285920" cy="1071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Arial"/>
              </a:rPr>
              <a:t>z to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282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etí v 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dĺžnik 9"/>
          <p:cNvSpPr/>
          <p:nvPr/>
        </p:nvSpPr>
        <p:spPr>
          <a:xfrm>
            <a:off x="3714840" y="3571920"/>
            <a:ext cx="1500120" cy="128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etský dom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Rovná spojovacia šípka 22"/>
          <p:cNvCxnSpPr/>
          <p:nvPr/>
        </p:nvCxnSpPr>
        <p:spPr>
          <a:xfrm>
            <a:off x="2214360" y="3000240"/>
            <a:ext cx="1572120" cy="929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0" name="Rovná spojovacia šípka 24"/>
          <p:cNvCxnSpPr/>
          <p:nvPr/>
        </p:nvCxnSpPr>
        <p:spPr>
          <a:xfrm flipH="1">
            <a:off x="4571640" y="3071520"/>
            <a:ext cx="72000" cy="5720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1" name="Rovná spojovacia šípka 26"/>
          <p:cNvCxnSpPr>
            <a:stCxn id="117" idx="4"/>
          </p:cNvCxnSpPr>
          <p:nvPr/>
        </p:nvCxnSpPr>
        <p:spPr>
          <a:xfrm flipH="1">
            <a:off x="5000760" y="2785680"/>
            <a:ext cx="2071800" cy="1500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35280" y="274680"/>
            <a:ext cx="338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Umiestňovanie podľa veku</a:t>
            </a:r>
            <a:br>
              <a:rPr sz="2200"/>
            </a:b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január – </a:t>
            </a:r>
            <a:r>
              <a:rPr b="1" lang="sk-SK" sz="2200" spc="-1" strike="noStrike">
                <a:solidFill>
                  <a:srgbClr val="ff0000"/>
                </a:solidFill>
                <a:latin typeface="Arial"/>
              </a:rPr>
              <a:t>septe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58920" y="1357200"/>
          <a:ext cx="8785080" cy="5861160"/>
        </p:xfrm>
        <a:graphic>
          <a:graphicData uri="http://schemas.openxmlformats.org/drawingml/2006/table">
            <a:tbl>
              <a:tblPr/>
              <a:tblGrid>
                <a:gridCol w="1512720"/>
                <a:gridCol w="1511280"/>
                <a:gridCol w="1440000"/>
                <a:gridCol w="1439640"/>
                <a:gridCol w="1368720"/>
                <a:gridCol w="151272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– 1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– 4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– 10 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– 15 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a vi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á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ruá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e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í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j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ú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ú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26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Object 2"/>
          <p:cNvGraphicFramePr/>
          <p:nvPr/>
        </p:nvGraphicFramePr>
        <p:xfrm>
          <a:off x="428760" y="214200"/>
          <a:ext cx="8020080" cy="566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760" y="214200"/>
                    <a:ext cx="8020080" cy="56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ameranie úlo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ávrat dieťaťa do rodiny (napr. budovanie vzťahov dieťaťa s biologickou rodinou, podpora rodiny pri úprave rodinných, bytových pomerov...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verenie dieťaťa do NRS (napr. príprava dieťaťa na náhradnú rodinnú starostlivosť, podpora vzťahov s budúcimi náhradnými rodičmi, pomoc pri prekonávaní obáv z nových situácií, príprava dieťaťa na odchod z profesionálnej rodiny...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otrvanie v zariadení a príprava na osamostatnenie sa (v osobitných prípadoch, ak dieťa napr. odmieta NRS, napriek tomu, že sa s názorom dieťaťa pracovalo a sanácia rodiny nie je možná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u detí so zdravotným postihnut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dpora maximálne možnej samostatnost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ozvoj a uplatňovanie svojich schopností a zručností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ačlenenie do spoločnost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udržiavanie kontaktu s rodinou, príbuzným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užívanie dobrovoľníckej činnost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prava na osamostatnenie s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abezpečenie bývani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oluprácu s agentúrami podporovaného zamestnania a 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patrenia SPOD a Sk finančného charakte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spevok rodičom n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pravu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do detského domova (poskytuje ob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spevok  na úpravu a obnovu rodinných pomerov dieťaťa, „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náciu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“ (obec vyčl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spevok na tvorbu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spo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pre dieťa (poskytuje ob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spevok dieťaťu n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travu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ak je dieťa mimo DeD na návšteve rodičov (poskytuje 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ieľ: úprava a zachovanie vzťahov medzi dieťaťom a rodičom, podpora úpravy rodinných, bytových a sociálnych pom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36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Object 2"/>
          <p:cNvGraphicFramePr/>
          <p:nvPr/>
        </p:nvGraphicFramePr>
        <p:xfrm>
          <a:off x="214200" y="285840"/>
          <a:ext cx="8683560" cy="613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200" y="285840"/>
                    <a:ext cx="8683560" cy="61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emerná dĺžka pobytu  dieťaťa a MD v DeD bola k 30.6.2012 v štátnych DeD 4,1 rokov, v neštátnych DeD 4,7 rok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ýška priemerných bežných výdavkov na miesto v DeD v roku 2011 bola 10 996,- 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00040" y="1571400"/>
            <a:ext cx="8229600" cy="40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Náhradná rodinná starostliv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prava dieťaťa na N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prava záujemcov o N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prostredk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uľahčenie plnenia účelu N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Základné údaje o Sloven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očet obyvateľov: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 5 405 338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(k 30.6.201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detí do 15 rokov: 15,3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sobášnosť a rozvodovosť v r. 2011: 25 623 sobášov, 11 102 rozvodov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rodinný stav: 42,3 % slobodní, 41,3 % ženatí/vyda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hrozenie rizikom chudoby: 13 % obyvateľov (najviac ohrozené sú deti vo veku 0-17 rok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iemerná mesačná mzda zamestnanca: 786 Eu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00040" y="1571400"/>
            <a:ext cx="8229600" cy="40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ríprava dieťaťa na N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konáva: najčastejšie zariadenie (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oznámenie dieťaťa s možnosťou sprostredkovania N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dieťaťu je potrebné poskytnúť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ociálne poradenstv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šeobecné a objektívne informácie o účinkoch N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sychologickú starostlivosť spôsobom primeraným veku a rozumovej vyspelosti dieťať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mietanie NRS dieťaťom – pracovať s názorom dieťať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prava sa nevyžaduje, ak to nie je účelné vzhľadom na nízky vek dieťať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00040" y="1571400"/>
            <a:ext cx="8229600" cy="40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ríprava fyzickej osoby, ktorá má záujem o sprostredkovanie N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konáva úrad PSVR, alebo akreditovaný subj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ozsah najmenej 26 hod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dividuálnou, skupinovou, alebo kombinovanou form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ameranie: NRS, vývin dieťaťa v NRS, práva dieťaťa na udržiavanie a rozvíjanie súrodeneckých väzieb, práva a povinnosti rodičov dieťať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ktualizácia prípravy: ak nastala zmena pomerov u žiadateľa, ak uplynuli 2 roky, ak už je pestúnom alebo osvojiteľ, alebo už má zverené dieťa do predsovojiteľskej starostlivosti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28760" y="1642680"/>
            <a:ext cx="830088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Sprostredkovanie N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dieťa je zapísané v prehľade detí, ktorým treba sprostredkovať N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dospelá fyzická osoba je zapísaná v zozname žiadateľov (zapísaná je po splnení všetkých zákonných podmien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RS sprostredkúva 8 určených úradov PSVR,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k určený úrad PSVR zistí, že nevedie v zozname vhodného žiadateľa pre konkrétne dieťa, osloví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 2 týždňov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od zapísania dieťaťa do prehľadu) akreditované subjekty, ktoré pôsobia v územnom obvode úradu PSVR, ak tieto nesprostredkujú NRS, požiadajú o sprostredkovanie ďalšie určené úrady PSVR (7), tieto taktiež oslovia akreditované subjekty vo svojom územnom obvode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 u detí, ktoré sú osvojiteľné, ak sa nepodarí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 6 mesiacov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d zapísania dieťaťa do prehľadu sprostredkovať NRS na Slovensku sprostredkúva sa medzištátne osvojenie prostredníctvom Centra pre MPO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Object 2"/>
          <p:cNvGraphicFramePr/>
          <p:nvPr/>
        </p:nvGraphicFramePr>
        <p:xfrm>
          <a:off x="285840" y="285840"/>
          <a:ext cx="8702640" cy="591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285840"/>
                    <a:ext cx="8702640" cy="59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roku 2011 bo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ávoplatným rozhodnutím súdu  osvojených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356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etí, do cudziny 30 d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o NOS zverených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 126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detí, celkovo k 31.12.2011 bolo 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5 833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etí v 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o pestúnskej starostlivosti zverených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234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etí, celkovo k 31.12.2011 bolo 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2 249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etí v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árodný projekt XXIV-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vyšovanie zamestnateľnosti profesionálnych rodič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Časový harmonogram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 :  36 mesiacov (XII/2008 do XI/201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Partneri projektu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: 89 detských domov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Rozpočet projektu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:    SR 2.008.042,65 €   BSK : 278.998,42 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Realizácia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podpory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, ktorá vychádza zo zákona č. 305/2005 Z. z. o sociálnoprávnej ochrane detí a o sociálnej kuratele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Cieľom projektu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je rozvoj profesionálnych rodín, vrátane prípravy na profesionálne vykonávanie náhradnej starostlivos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ktivity 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pagácia profesionálneho rodičov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abezpečenie prípravy na profesionálne vykonávanie náhradnej starostliv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zdelávanie zamestnancov detských domov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dborné vzdelávanie a starostlivosť o profesionálnych rodič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edzinárodná spoluprá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52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"/>
          <p:cNvGraphicFramePr/>
          <p:nvPr/>
        </p:nvGraphicFramePr>
        <p:xfrm>
          <a:off x="285840" y="2000160"/>
          <a:ext cx="8572320" cy="3786120"/>
        </p:xfrm>
        <a:graphic>
          <a:graphicData uri="http://schemas.openxmlformats.org/drawingml/2006/table">
            <a:tbl>
              <a:tblPr/>
              <a:tblGrid>
                <a:gridCol w="8572320"/>
              </a:tblGrid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tivita 1 Propagácia profesionálneho rodičovst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</a:tr>
              <a:tr h="3454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ačno-propagačný materiál  /rok 2009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letáky 20000 k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plagáty 4000 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brožúry 6000 k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klamné spoty v TV (2)  (rok 200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klamné spoty – rozhlas (2) (r. 200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ačné stretnutia vo všetkých krajoch SR (40). (r. 2009 / 20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52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428760" y="1785960"/>
          <a:ext cx="8215200" cy="4726080"/>
        </p:xfrm>
        <a:graphic>
          <a:graphicData uri="http://schemas.openxmlformats.org/drawingml/2006/table">
            <a:tbl>
              <a:tblPr/>
              <a:tblGrid>
                <a:gridCol w="8215200"/>
              </a:tblGrid>
              <a:tr h="5652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TIVITA 2: Zabezpečenie prípravy na profesionálne vykonávanie náhradnej starostliv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</a:tr>
              <a:tr h="4160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ovatívne a efektívne metódy prípravy vykonávanej úradmi PSV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ostavenie lektorského tí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elávanie členov tí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vorba inovatívnych a efektívnych metód lektorským tí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bezpečenie prípravy na úradoch PSVR (199  účastníkov) – pracovné stretnut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dňové  (II.-III./2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dňové (V.-VI./2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dňové (II. Polrok 201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ebooky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 úrady PSVR – na účely prípravy (46 notebooko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 „nových“ profesionálnych rodičov (     440 notebooko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www.ttstudio.sk/photos/nabrezie-dunaja-bratislava-1578.jpg"/>
          <p:cNvPicPr/>
          <p:nvPr/>
        </p:nvPicPr>
        <p:blipFill>
          <a:blip r:embed="rId2"/>
          <a:stretch/>
        </p:blipFill>
        <p:spPr>
          <a:xfrm>
            <a:off x="285840" y="571680"/>
            <a:ext cx="86709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52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500040" y="2000160"/>
          <a:ext cx="8072640" cy="4000680"/>
        </p:xfrm>
        <a:graphic>
          <a:graphicData uri="http://schemas.openxmlformats.org/drawingml/2006/table">
            <a:tbl>
              <a:tblPr/>
              <a:tblGrid>
                <a:gridCol w="807264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TIVITA 3 : Vzdelávanie zamestnancov detských domov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964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ažérske zručnosti pre riaditeľo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.-XI.2009 – 84 riaditeľo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ber zamestnancov pre riaditeľov a psychológ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.-III.2010 – 164 účastníko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denie a motivácia zamestnancov pre riaditeľov, psychológov a sociálnych pracovní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II.-VI.2010 – 238 účastníko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térie psychologických testov pre detské domo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mery pre detské domo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52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357120" y="1928880"/>
          <a:ext cx="8429760" cy="3538440"/>
        </p:xfrm>
        <a:graphic>
          <a:graphicData uri="http://schemas.openxmlformats.org/drawingml/2006/table">
            <a:tbl>
              <a:tblPr/>
              <a:tblGrid>
                <a:gridCol w="842976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TIVITA 4 : Odborné vzdelávanie a starostlivosť o profesionálnych rodičo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2806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é a odborné semináre pre profesionálnych rodičo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. 2009 – VI. 2010 – 64 seminárov, 954 zúčastnených profesionálnych rodičov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vízia pre profesionálnych rodičo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52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357120" y="2071800"/>
          <a:ext cx="8572680" cy="4071960"/>
        </p:xfrm>
        <a:graphic>
          <a:graphicData uri="http://schemas.openxmlformats.org/drawingml/2006/table">
            <a:tbl>
              <a:tblPr/>
              <a:tblGrid>
                <a:gridCol w="8572680"/>
              </a:tblGrid>
              <a:tr h="7286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TIVITA 5 : Medzinárodná spoluprá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34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hraničné pracovné cesty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ember 2009 – Poľsk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ruár 2010 – Rakúsk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úl 2011 – Newcastle, Veľká Britá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gust 2011 – Stockholm, Švédsk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zinárodná konfer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fekt realizácie NP XX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Zvýšila sa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ovanosť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verejnosti o profesionálnom rodičovstve a zvýšil sa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záujem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o profesionálne rodičovst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2. Zvýšil sa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čet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fesionálnych rodín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 profesionálnych rodičov zamestnaných v detských domovo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3. Zvýšil sa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čet detí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miestnených v profesionálnych rodiná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4. Zvýšil sa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čet záujemcov o profesionálne rodičovstvo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ktorí absolvovali prípravu na PR na úradoch PSVR (v  roku 2009 – 332, v roku 2010 – 52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52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571680" y="2143080"/>
          <a:ext cx="7143480" cy="4397400"/>
        </p:xfrm>
        <a:graphic>
          <a:graphicData uri="http://schemas.openxmlformats.org/drawingml/2006/table">
            <a:tbl>
              <a:tblPr/>
              <a:tblGrid>
                <a:gridCol w="2071440"/>
                <a:gridCol w="1857600"/>
                <a:gridCol w="1714320"/>
                <a:gridCol w="1500120"/>
              </a:tblGrid>
              <a:tr h="171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ské domovy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esionálnych  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ič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esionálnych 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ín (P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detí a mladých dospelých v P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67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31.12.20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8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í a 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</a:tr>
              <a:tr h="67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31.12.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5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í a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1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67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31.12.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2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í a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35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67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31.12.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3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í a 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52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428760" y="2143080"/>
          <a:ext cx="8358120" cy="3467160"/>
        </p:xfrm>
        <a:graphic>
          <a:graphicData uri="http://schemas.openxmlformats.org/drawingml/2006/table">
            <a:tbl>
              <a:tblPr/>
              <a:tblGrid>
                <a:gridCol w="1419120"/>
                <a:gridCol w="6939000"/>
              </a:tblGrid>
              <a:tr h="142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k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mer počtu detí v profesionálnych rodinách k celkovému počtu detí umiestnených v detských domovoc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</a:tr>
              <a:tr h="679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pravovaný Národný projekt deinštitucionalizácie náhradnej starostliv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Harmonogram realizácie projektu: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012- 201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Hlavný cieľ: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einštitucionalizácia  náhradnej starostlivosti vytváraním a rozvíjaním opatrení podporujúcich život deti v prirodzenom a náhradnom rodinnom prostredí a pokračovanie  v nahrádzaní inštitucionálnej náhradnej starostlivosti komunitnými form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Špecifické ciele 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kvalitnenie vykonávania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patrení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ociálnoprávnej ochrany detí a sociálnej kurately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 prirodzenom rodinnom prostredí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predchádzanie umiestňovania detí do inštitúc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dpora a uľahčenie plnenia účelu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áhradnej rodinnej starostlivosti a náhradnej osobnej starostliv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mplementácia princípov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deinštitucionalizáci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poskytovania starostlivosti v detských domov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mplexná podpora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ofesionálnych rod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vyšovanie odbornosti a prehlbovanie zručností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amestnancov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rgánov sociálnoprávnej ochrany detí a sociálnej kurately a detských domov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kruhy pripravovaných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del manažmentu sanácie rodiny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vytvorenie 92 pracovných miest rodinných asistentov na úradoch PSVR a vzdelávanie zamestnancov  úrad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ora náhradných rodín a overenie podpory pestúnskej starostlivosti pre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ťažko umiestniteľné det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ora tvorby a implementácie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ransformačných a deinštitucionalizačných plánov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etských domov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výšenie udržateľnosti a podpora špecializácie profesionálnych rodín vytvorením 23 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entier podpory profesionálnych rodič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Humanizácia a skvalitnenie poskytovania starostlivosti o deti a mladých dospelých  vrátane vzdelávanie pre odborný tím detských domov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etódy a formy práce s deťmi a mladými dospelým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Legislatí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lovenská republika dôsledne dbá na dodržiavanie práv dieťaťa a zabezpečenie ochrany dieťaťa nevyhnutnej pre jeho blaho a rešpektujúcej jeho najlepší záujem podľa medzinárodného dohovoru -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hovor o právach dieťať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blematika sociálnoprávnej ochrany detí je upravená v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ákone č.305/2005 Z.z. o sociálnoprávnej ochrane detí a o sociálnej kuratele, v zákone č. 36/2005 Z.z. o r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525680"/>
          </a:xfrm>
          <a:prstGeom prst="rect">
            <a:avLst/>
          </a:prstGeom>
          <a:ln w="0">
            <a:noFill/>
          </a:ln>
        </p:spPr>
      </p:pic>
      <p:pic>
        <p:nvPicPr>
          <p:cNvPr id="186" name="Diagram 5" descr=""/>
          <p:cNvPicPr/>
          <p:nvPr/>
        </p:nvPicPr>
        <p:blipFill>
          <a:blip r:embed="rId2"/>
          <a:stretch/>
        </p:blipFill>
        <p:spPr>
          <a:xfrm>
            <a:off x="407880" y="1700280"/>
            <a:ext cx="846792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525680"/>
          </a:xfrm>
          <a:prstGeom prst="rect">
            <a:avLst/>
          </a:prstGeom>
          <a:ln w="0">
            <a:noFill/>
          </a:ln>
        </p:spPr>
      </p:pic>
      <p:pic>
        <p:nvPicPr>
          <p:cNvPr id="188" name="Diagram 3" descr=""/>
          <p:cNvPicPr/>
          <p:nvPr/>
        </p:nvPicPr>
        <p:blipFill>
          <a:blip r:embed="rId2"/>
          <a:stretch/>
        </p:blipFill>
        <p:spPr>
          <a:xfrm>
            <a:off x="176040" y="1841400"/>
            <a:ext cx="869976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525680"/>
          </a:xfrm>
          <a:prstGeom prst="rect">
            <a:avLst/>
          </a:prstGeom>
          <a:ln w="0">
            <a:noFill/>
          </a:ln>
        </p:spPr>
      </p:pic>
      <p:pic>
        <p:nvPicPr>
          <p:cNvPr id="190" name="Diagram 3" descr=""/>
          <p:cNvPicPr/>
          <p:nvPr/>
        </p:nvPicPr>
        <p:blipFill>
          <a:blip r:embed="rId2"/>
          <a:stretch/>
        </p:blipFill>
        <p:spPr>
          <a:xfrm>
            <a:off x="165240" y="1841400"/>
            <a:ext cx="871056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http://www.enjoyslovakiatours.com/wp-content/uploads/219-plte-orava.jpg"/>
          <p:cNvPicPr/>
          <p:nvPr/>
        </p:nvPicPr>
        <p:blipFill>
          <a:blip r:embed="rId2"/>
          <a:stretch/>
        </p:blipFill>
        <p:spPr>
          <a:xfrm>
            <a:off x="357120" y="214200"/>
            <a:ext cx="792000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Ďakujem za pozorn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Základné poj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ociálnoprávna ochr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úbor opatrení na zabezpeč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) ochrany dieťať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b) výchovy a všestranného vývinu dieťaťa v jeho prirodzenom rodinnom prostred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) náhradného prostredia dieťaťu, ktoré nemôže by vychovávané vo vlastnej r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●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ociálna kurate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 súbor opatrení na odstránenie, zmiernenie a zamedzenie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hlbovania alebo opakovania porúch psychického vývinu, fyzického vývi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 sociálneho vývinu dieťaťa a plnoletej fyzickej osoby a poskytovanie pomoci v závislosti od závažnosti poruchy a situácie, v ktorej sa nachádza dieťa alebo plnolet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yzická oso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iele  v oblasti sociálnoprávnej ochrany detí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víjať a skvalitňovať výkon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patrení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orujúcich život detí v r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oritne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 prirodzenom rodinnom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prostr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k to nie je možné v 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áhradnom rodinnom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prostr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91920" indent="-234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k je potrebné dočasné umiestnenie dieťaťa  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 detskom domov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uprednostňovať rodinné formy starostlivosti pred inštitucionálnou starostlivosť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0:04:21Z</dcterms:created>
  <dc:creator>UPSVAR</dc:creator>
  <dc:description/>
  <dc:language>en-US</dc:language>
  <cp:lastModifiedBy>sbertova</cp:lastModifiedBy>
  <dcterms:modified xsi:type="dcterms:W3CDTF">2012-12-12T14:43:29Z</dcterms:modified>
  <cp:revision>203</cp:revision>
  <dc:subject/>
  <dc:title>Národný projekt č. XIV  Cielené odborné vzdelávanie zamestnancov úradov práce, sociálnych vecí a rodiny na úsekoch sociálnych vecí a rodiny</dc:title>
</cp:coreProperties>
</file>