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35.wmf" ContentType="image/x-wmf"/>
  <Override PartName="/ppt/media/image15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38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4.wmf" ContentType="image/x-wmf"/>
  <Override PartName="/ppt/media/image36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47E-D549-4D1E-9CF0-0C074C6D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B784-2BBB-40BD-86FE-6549AADD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6840-CB12-49A4-AB71-1A507271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316F-435E-4D5A-A893-01F3F8A6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2514-125A-4E71-903F-25F76292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4514-BF42-4AFB-AABF-544BCB17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AB9F-04AE-4DE8-A40D-806A7AD4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56BF-1EC1-4DEF-A27A-D771D53C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4176-D21D-4D96-AAF8-5F46217F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8ECF-4660-4429-9494-389B1AC4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1D77-4E21-426B-BADC-14FF9B19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905C-3A6D-44A1-9CB4-F979FEB7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A74E-8A5E-4735-B324-CAC0DA07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96D7-5CA8-454F-8021-0A45837D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AE46-6A3F-4D17-9E9D-981A733C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6945-67DB-43D9-98DC-FA9B6632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8FFC-F6E5-47D8-A3DF-04683FC8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1B7CE-6F99-47AA-B6AF-D90B2343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A314F-F3E8-47B1-894B-DA07BF50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62D28-11C4-4331-B734-89500FB1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3CBF1-A62D-4B40-BCE2-57E241F8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E0E0B-40FC-4022-BD9A-C15A9504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9D61-89B0-463F-9B2C-6DE3EF0C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E4A79-A283-4151-A24B-F191DBE0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7478B-B878-457F-94F3-84ABADB1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1EA9D-F721-4178-AA32-E8F50C3E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7315C-CC81-4268-896A-3A3FFF0B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776A8-CD0F-4DE6-8D5E-5A7292E0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9023F-AA1B-4BCC-A88E-F97F539C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9B8A7-5BA8-4747-B726-976BB9DE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8BDE0-AB4E-4CB1-8FAF-793F2C9E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336B0-B221-4F41-B73D-0667D294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75B38-3D19-4C19-AB5D-ACC51623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0474-4B08-4F24-A973-E38D65AC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907F6-4BB6-4AEC-AA39-9BAE0BBA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88C8C-82D0-476C-BC7C-43C2D9A2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88FD4-D1D7-48DA-B008-AD62CD0B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BAF5E-5183-4314-8AA3-955E53C5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04AE6-904E-4BE4-946F-B47B5A17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19130-2D29-46BF-A821-C50CC83A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184A5-4213-4F99-83DB-5603D421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E5BFA-3C19-462A-9F31-3D5C417E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BAD37-BF88-42E5-8597-AFBBDEC2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87E8B-13EE-422D-BD18-3DE96985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B830-90EE-4F16-8EC6-F61F4DE7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7EAFC-7DFE-4A86-8758-99A7D127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B59F0-3567-4518-90DD-6B31D911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EC857-5C6C-4DBA-8680-D453579D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37E03-F23C-420F-BB14-DF0AB310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C0DCA-26D7-4A41-B5A0-73FF5996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30C29-1F35-481D-8FF5-85755E1C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FDD4E-F27F-4E8C-8EE6-94A97AD5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C7CF2-2DA2-4CF7-8183-08F8C9A1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1B63A-4A32-4E11-AE0E-47A8A7C5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6DD06-18C7-426E-9C75-6355AB90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90D5-21C6-4A02-9F26-AAB46BF8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3A57D-8F29-47A3-A7B3-551D86876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37BF-435F-455D-8E54-6AF1BCB0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8939-9C9C-4C30-8F41-40A43099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435B-5AF4-40A4-992A-E039181B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9A4F-AB28-448B-BB49-3945F9D4B894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5C7B-339C-48F9-94E0-552505D72D90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7599-5AF7-435B-91D0-0226EF65E75A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438F-FF05-4B88-9511-D159D0BA0E15}" type="slidenum">
              <a:rPr b="0" lang="nl-NL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0815-4E0F-46BF-8BD2-E934318E851C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6"/>
          </p:nvPr>
        </p:nvSpPr>
        <p:spPr>
          <a:xfrm>
            <a:off x="928800" y="6215040"/>
            <a:ext cx="425592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dt" idx="17"/>
          </p:nvPr>
        </p:nvSpPr>
        <p:spPr>
          <a:xfrm>
            <a:off x="89964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3FA9-E5F6-42BD-ADFF-C724177A22CE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916360" y="3789360"/>
            <a:ext cx="5922720" cy="201600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Franklin Gothic Medium"/>
              </a:rPr>
              <a:t>FOSTER CARE IN THE NETHERLAND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Franklin Gothic Book"/>
                <a:ea typeface="Tunga"/>
              </a:rPr>
              <a:t>RENE DE BOT</a:t>
            </a:r>
            <a:endParaRPr b="1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Franklin Gothic Book"/>
                <a:ea typeface="Tunga"/>
              </a:rPr>
              <a:t>DECEMBER 2012</a:t>
            </a:r>
            <a:endParaRPr b="1" lang="en-US" sz="13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9" name="Tijdelijke aanduiding voor afbeelding 5" descr="C:\Users\Rene de Bot\Documents\Scan0005 - kopie.jpg"/>
          <p:cNvPicPr/>
          <p:nvPr/>
        </p:nvPicPr>
        <p:blipFill>
          <a:blip r:embed="rId1"/>
          <a:srcRect l="0" t="23612" r="0" b="23612"/>
          <a:stretch/>
        </p:blipFill>
        <p:spPr>
          <a:xfrm>
            <a:off x="-684360" y="0"/>
            <a:ext cx="5256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57160" y="260280"/>
            <a:ext cx="7958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BABY HATCH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28800" y="2142720"/>
            <a:ext cx="767232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8" name="Picture 3" descr="C:\Users\Rene de Bot\Pictures\italie\DSC00045.JPG"/>
          <p:cNvPicPr/>
          <p:nvPr/>
        </p:nvPicPr>
        <p:blipFill>
          <a:blip r:embed="rId1"/>
          <a:stretch/>
        </p:blipFill>
        <p:spPr>
          <a:xfrm>
            <a:off x="1547640" y="1557360"/>
            <a:ext cx="3587760" cy="4784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C:\Users\Rene de Bot\Pictures\powerpoint materiaal\babywiege.jpg"/>
          <p:cNvPicPr/>
          <p:nvPr/>
        </p:nvPicPr>
        <p:blipFill>
          <a:blip r:embed="rId2"/>
          <a:stretch/>
        </p:blipFill>
        <p:spPr>
          <a:xfrm>
            <a:off x="6443640" y="5229360"/>
            <a:ext cx="24717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7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7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83898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28800" y="2142720"/>
            <a:ext cx="767232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Tijdelijke aanduiding voor voettekst 3"/>
          <p:cNvSpPr/>
          <p:nvPr/>
        </p:nvSpPr>
        <p:spPr>
          <a:xfrm>
            <a:off x="928800" y="6215040"/>
            <a:ext cx="4255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C:\Documents and Settings\Rene de Bot\Mijn documenten\0.1. Mijn afbeeldingen\weeshuis brielle.jpg"/>
          <p:cNvPicPr/>
          <p:nvPr/>
        </p:nvPicPr>
        <p:blipFill>
          <a:blip r:embed="rId1"/>
          <a:stretch/>
        </p:blipFill>
        <p:spPr>
          <a:xfrm>
            <a:off x="4572000" y="3429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C:\Documents and Settings\Rene de Bot\Mijn documenten\0.1. Mijn afbeeldingen\catharijnekerk.png"/>
          <p:cNvPicPr/>
          <p:nvPr/>
        </p:nvPicPr>
        <p:blipFill>
          <a:blip r:embed="rId2"/>
          <a:stretch/>
        </p:blipFill>
        <p:spPr>
          <a:xfrm>
            <a:off x="179280" y="476280"/>
            <a:ext cx="3811680" cy="50814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" descr="C:\Users\Rene de Bot\Pictures\powerpoint materiaal\oliver twist.jpg"/>
          <p:cNvPicPr/>
          <p:nvPr/>
        </p:nvPicPr>
        <p:blipFill>
          <a:blip r:embed="rId3"/>
          <a:stretch/>
        </p:blipFill>
        <p:spPr>
          <a:xfrm>
            <a:off x="6591240" y="1125360"/>
            <a:ext cx="25513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795816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1850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28800" y="2142720"/>
            <a:ext cx="767232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8" name="Picture 4" descr="weeshuis"/>
          <p:cNvPicPr/>
          <p:nvPr/>
        </p:nvPicPr>
        <p:blipFill>
          <a:blip r:embed="rId1"/>
          <a:stretch/>
        </p:blipFill>
        <p:spPr>
          <a:xfrm>
            <a:off x="-324000" y="1628640"/>
            <a:ext cx="9828360" cy="57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1960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00" name="Picture 4" descr="ifco2013"/>
          <p:cNvPicPr/>
          <p:nvPr/>
        </p:nvPicPr>
        <p:blipFill>
          <a:blip r:embed="rId1"/>
          <a:stretch/>
        </p:blipFill>
        <p:spPr>
          <a:xfrm>
            <a:off x="2197080" y="1100160"/>
            <a:ext cx="477216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02" name="Picture 9" descr="vsl"/>
          <p:cNvPicPr/>
          <p:nvPr/>
        </p:nvPicPr>
        <p:blipFill>
          <a:blip r:embed="rId1"/>
          <a:stretch/>
        </p:blipFill>
        <p:spPr>
          <a:xfrm>
            <a:off x="3414600" y="981000"/>
            <a:ext cx="2381400" cy="17812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juul"/>
          <p:cNvPicPr/>
          <p:nvPr/>
        </p:nvPicPr>
        <p:blipFill>
          <a:blip r:embed="rId2"/>
          <a:stretch/>
        </p:blipFill>
        <p:spPr>
          <a:xfrm>
            <a:off x="6443640" y="1844640"/>
            <a:ext cx="2592360" cy="19494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hdijk"/>
          <p:cNvPicPr/>
          <p:nvPr/>
        </p:nvPicPr>
        <p:blipFill>
          <a:blip r:embed="rId3"/>
          <a:stretch/>
        </p:blipFill>
        <p:spPr>
          <a:xfrm>
            <a:off x="900000" y="2428920"/>
            <a:ext cx="2362320" cy="2012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8" descr="sita"/>
          <p:cNvPicPr/>
          <p:nvPr/>
        </p:nvPicPr>
        <p:blipFill>
          <a:blip r:embed="rId4"/>
          <a:stretch/>
        </p:blipFill>
        <p:spPr>
          <a:xfrm>
            <a:off x="4788000" y="4005360"/>
            <a:ext cx="2857320" cy="21366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malmo"/>
          <p:cNvPicPr/>
          <p:nvPr/>
        </p:nvPicPr>
        <p:blipFill>
          <a:blip r:embed="rId5"/>
          <a:stretch/>
        </p:blipFill>
        <p:spPr>
          <a:xfrm>
            <a:off x="1547640" y="4708440"/>
            <a:ext cx="285768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Franklin Gothic Medium"/>
              </a:rPr>
              <a:t>FLEXUSJEUGDPLEI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700 employee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One organisation for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Family coachi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chool social work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Day car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Foster car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Residential care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09" name="Picture 6" descr="FlexusJeugdplein_logo_PMS klein"/>
          <p:cNvPicPr/>
          <p:nvPr/>
        </p:nvPicPr>
        <p:blipFill>
          <a:blip r:embed="rId1"/>
          <a:stretch/>
        </p:blipFill>
        <p:spPr>
          <a:xfrm>
            <a:off x="7740720" y="115920"/>
            <a:ext cx="13190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ifco2006"/>
          <p:cNvPicPr/>
          <p:nvPr/>
        </p:nvPicPr>
        <p:blipFill>
          <a:blip r:embed="rId1"/>
          <a:stretch/>
        </p:blipFill>
        <p:spPr>
          <a:xfrm>
            <a:off x="900000" y="1741320"/>
            <a:ext cx="7704360" cy="51166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ifco2010"/>
          <p:cNvPicPr/>
          <p:nvPr/>
        </p:nvPicPr>
        <p:blipFill>
          <a:blip r:embed="rId2"/>
          <a:stretch/>
        </p:blipFill>
        <p:spPr>
          <a:xfrm>
            <a:off x="7093080" y="-41400"/>
            <a:ext cx="23763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FAMILY AND YOUTH CENTR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13" name="Picture 2" descr="C:\Users\Rene de Bot\Pictures\powerpoint materiaal\cjg 1.jpg"/>
          <p:cNvPicPr/>
          <p:nvPr/>
        </p:nvPicPr>
        <p:blipFill>
          <a:blip r:embed="rId1"/>
          <a:stretch/>
        </p:blipFill>
        <p:spPr>
          <a:xfrm>
            <a:off x="4067280" y="2193840"/>
            <a:ext cx="3028680" cy="17398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Rene de Bot\Pictures\powerpoint materiaal\cjg 2.jpg"/>
          <p:cNvPicPr/>
          <p:nvPr/>
        </p:nvPicPr>
        <p:blipFill>
          <a:blip r:embed="rId2"/>
          <a:stretch/>
        </p:blipFill>
        <p:spPr>
          <a:xfrm>
            <a:off x="1332000" y="217188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C:\Users\Rene de Bot\Pictures\powerpoint materiaal\cjg 4.jpg"/>
          <p:cNvPicPr/>
          <p:nvPr/>
        </p:nvPicPr>
        <p:blipFill>
          <a:blip r:embed="rId3"/>
          <a:stretch/>
        </p:blipFill>
        <p:spPr>
          <a:xfrm>
            <a:off x="5724360" y="5160960"/>
            <a:ext cx="2733840" cy="167652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6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7" descr=""/>
          <p:cNvPicPr/>
          <p:nvPr/>
        </p:nvPicPr>
        <p:blipFill>
          <a:blip r:embed="rId4"/>
          <a:stretch/>
        </p:blipFill>
        <p:spPr>
          <a:xfrm>
            <a:off x="6804000" y="168120"/>
            <a:ext cx="190980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5328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OUTPLACEMENT BECAUSE OF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Parental problems  ( psychiatry, drugs/alcohol addiction, domestic violence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Child problems (problematic behavior, low intelligence, psychiatry, handicap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Combination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(poverty)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OUR MISSION STATEMEN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21" name="Picture 6" descr=""/>
          <p:cNvPicPr/>
          <p:nvPr/>
        </p:nvPicPr>
        <p:blipFill>
          <a:blip r:embed="rId1"/>
          <a:stretch/>
        </p:blipFill>
        <p:spPr>
          <a:xfrm>
            <a:off x="1922400" y="1100160"/>
            <a:ext cx="532152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1" name="Picture 2" descr="C:\Users\Rene de Bot\Pictures\powerpoint materiaal\sint 1.png"/>
          <p:cNvPicPr/>
          <p:nvPr/>
        </p:nvPicPr>
        <p:blipFill>
          <a:blip r:embed="rId1"/>
          <a:stretch/>
        </p:blipFill>
        <p:spPr>
          <a:xfrm>
            <a:off x="1116000" y="1184400"/>
            <a:ext cx="3384720" cy="2244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Rene de Bot\Pictures\powerpoint materiaal\sint 2.jpg"/>
          <p:cNvPicPr/>
          <p:nvPr/>
        </p:nvPicPr>
        <p:blipFill>
          <a:blip r:embed="rId2"/>
          <a:stretch/>
        </p:blipFill>
        <p:spPr>
          <a:xfrm>
            <a:off x="5508720" y="14130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C:\Users\Rene de Bot\Pictures\powerpoint materiaal\sint 3.jpg"/>
          <p:cNvPicPr/>
          <p:nvPr/>
        </p:nvPicPr>
        <p:blipFill>
          <a:blip r:embed="rId3"/>
          <a:stretch/>
        </p:blipFill>
        <p:spPr>
          <a:xfrm>
            <a:off x="3352680" y="3903840"/>
            <a:ext cx="33894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rcRect l="0" t="6998" r="0" b="0"/>
          <a:stretch/>
        </p:blipFill>
        <p:spPr>
          <a:xfrm>
            <a:off x="2228760" y="2548080"/>
            <a:ext cx="46864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1"/>
          <a:srcRect l="0" t="15455" r="0" b="18170"/>
          <a:stretch/>
        </p:blipFill>
        <p:spPr>
          <a:xfrm>
            <a:off x="1547640" y="1557360"/>
            <a:ext cx="8218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TYPES OF FOSTER CARE</a:t>
            </a:r>
            <a:r>
              <a:rPr b="0" lang="nl-NL" sz="28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96a1b"/>
                </a:solidFill>
                <a:latin typeface="Franklin Gothic Book"/>
              </a:rPr>
              <a:t>crisis intervention: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4weeks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96a1b"/>
                </a:solidFill>
                <a:latin typeface="Franklin Gothic Book"/>
              </a:rPr>
              <a:t>temporary care: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treatment and return home or other permanent solution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96a1b"/>
                </a:solidFill>
                <a:latin typeface="Franklin Gothic Book"/>
              </a:rPr>
              <a:t>permanent care: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child stays with foster family until 18 +: permanent family member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96a1b"/>
                </a:solidFill>
                <a:latin typeface="Franklin Gothic Book"/>
              </a:rPr>
              <a:t>short break foster care: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weekend/ holiday 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57160" y="-459000"/>
            <a:ext cx="7958160" cy="21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000000"/>
                </a:solidFill>
                <a:latin typeface="Franklin Gothic Medium"/>
              </a:rPr>
              <a:t>         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AGE OF THE DUTCH FOSTER 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CHILDRE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28800" y="2142720"/>
            <a:ext cx="767232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51% are girls , 49% boy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Tijdelijke aanduiding voor voettekst 3"/>
          <p:cNvSpPr/>
          <p:nvPr/>
        </p:nvSpPr>
        <p:spPr>
          <a:xfrm>
            <a:off x="928800" y="6215040"/>
            <a:ext cx="4255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Grafiek 5" descr=""/>
          <p:cNvPicPr/>
          <p:nvPr/>
        </p:nvPicPr>
        <p:blipFill>
          <a:blip r:embed="rId1"/>
          <a:stretch/>
        </p:blipFill>
        <p:spPr>
          <a:xfrm>
            <a:off x="1523880" y="1857240"/>
            <a:ext cx="72630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57160" y="189000"/>
            <a:ext cx="7958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DURATION OF THE PLACEMEN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880" y="2071800"/>
            <a:ext cx="76723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0 -   3  months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34%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3 –   6 months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13%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6 – 12 months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17%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1 – 2   years 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15%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Longer than 2 years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21%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100%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Tijdelijke aanduiding voor voettekst 3"/>
          <p:cNvSpPr/>
          <p:nvPr/>
        </p:nvSpPr>
        <p:spPr>
          <a:xfrm>
            <a:off x="928800" y="6215040"/>
            <a:ext cx="4255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CHILD PROTEC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Voluntary placements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40%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Parental authority to be limited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50%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Parental authority to be withdrawn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10%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WHO MAKES THE DECISION FOR OUTPLACEMENT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For social workers residential care is easier  than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foster car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Residential educators: their opinion about foster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care   ( their experiences with  break dow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Lack and quality of foster parents</a:t>
            </a: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40" name="Picture 2" descr="C:\Users\Rene de Bot\Pictures\montenegro\P1020373.JPG"/>
          <p:cNvPicPr/>
          <p:nvPr/>
        </p:nvPicPr>
        <p:blipFill>
          <a:blip r:embed="rId1"/>
          <a:stretch/>
        </p:blipFill>
        <p:spPr>
          <a:xfrm>
            <a:off x="2197080" y="1100160"/>
            <a:ext cx="65610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GATE KEEPING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777240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More knowledge for social workers about 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residentieal care:  negative long term effect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When institutions are available, they will be used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So recruiting new foster families is only part of the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deal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EVERY CHILD: STELA GRIGORAS AND HER COLLEAGUES ARE HONOURED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16360" y="3789360"/>
            <a:ext cx="5922720" cy="201600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6000" spc="-1" strike="noStrike">
                <a:solidFill>
                  <a:srgbClr val="000000"/>
                </a:solidFill>
                <a:latin typeface="Franklin Gothic Medium"/>
              </a:rPr>
              <a:t>YES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FOSTER CARE IS POSSIBLE,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CHEAP,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AND IN THE INTEREST OF 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CHILDR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nl-NL" sz="1100" spc="-1" strike="noStrike">
                <a:solidFill>
                  <a:srgbClr val="000000"/>
                </a:solidFill>
                <a:latin typeface="Franklin Gothic Medium"/>
              </a:rPr>
              <a:t>(ROTTERDAM: 1.000.000 INHABITANTS, 1200 FOSTER FAMILIES).</a:t>
            </a:r>
            <a:endParaRPr b="0" lang="en-US" sz="1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1284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400" spc="-1" strike="noStrike">
              <a:solidFill>
                <a:srgbClr val="000000"/>
              </a:solidFill>
              <a:latin typeface="Franklin Gothic Book"/>
              <a:ea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CLOSING INSTITUTIONS: MOLDOVA EXAMP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New perspective for the childre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New perspective for the buildi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New perspective for the employees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HANDOUT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Give me your businesscard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or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E mail adress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THE NETHERLAND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9" name="Picture 2" descr="C:\Users\Rene de Bot\Pictures\powerpoint materiaal\bollenvelden.jpg"/>
          <p:cNvPicPr/>
          <p:nvPr/>
        </p:nvPicPr>
        <p:blipFill>
          <a:blip r:embed="rId1"/>
          <a:stretch/>
        </p:blipFill>
        <p:spPr>
          <a:xfrm>
            <a:off x="4289400" y="1878120"/>
            <a:ext cx="4491000" cy="3351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C:\Users\Rene de Bot\Pictures\powerpoint materiaal\molens.jpg"/>
          <p:cNvPicPr/>
          <p:nvPr/>
        </p:nvPicPr>
        <p:blipFill>
          <a:blip r:embed="rId2"/>
          <a:stretch/>
        </p:blipFill>
        <p:spPr>
          <a:xfrm>
            <a:off x="0" y="2182680"/>
            <a:ext cx="349236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7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95816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000000"/>
                </a:solidFill>
                <a:latin typeface="Franklin Gothic Medium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ROTTERDAM: 170 NATIONALITI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72" name="Picture 5" descr="C:\Documents and Settings\Rene de Bot\Mijn documenten\0.1. Mijn afbeeldingen\aboutaleb 2.jpg"/>
          <p:cNvPicPr/>
          <p:nvPr/>
        </p:nvPicPr>
        <p:blipFill>
          <a:blip r:embed="rId1"/>
          <a:stretch/>
        </p:blipFill>
        <p:spPr>
          <a:xfrm>
            <a:off x="3855960" y="1860480"/>
            <a:ext cx="2657520" cy="1724040"/>
          </a:xfrm>
          <a:prstGeom prst="rect">
            <a:avLst/>
          </a:prstGeom>
          <a:ln w="0">
            <a:noFill/>
          </a:ln>
        </p:spPr>
      </p:pic>
      <p:sp>
        <p:nvSpPr>
          <p:cNvPr id="273" name="Tijdelijke aanduiding voor voettekst 3"/>
          <p:cNvSpPr/>
          <p:nvPr/>
        </p:nvSpPr>
        <p:spPr>
          <a:xfrm>
            <a:off x="928800" y="6215040"/>
            <a:ext cx="4255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C:\Documents and Settings\Rene de Bot\Mijn documenten\0.1. Mijn afbeeldingen\rotterdam achterbuurt 1.jpg"/>
          <p:cNvPicPr/>
          <p:nvPr/>
        </p:nvPicPr>
        <p:blipFill>
          <a:blip r:embed="rId2"/>
          <a:stretch/>
        </p:blipFill>
        <p:spPr>
          <a:xfrm>
            <a:off x="4716360" y="4259160"/>
            <a:ext cx="3665520" cy="20923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C:\Documents and Settings\Rene de Bot\Mijn documenten\0.1. Mijn afbeeldingen\moderne flat.jpg"/>
          <p:cNvPicPr/>
          <p:nvPr/>
        </p:nvPicPr>
        <p:blipFill>
          <a:blip r:embed="rId3"/>
          <a:stretch/>
        </p:blipFill>
        <p:spPr>
          <a:xfrm>
            <a:off x="284040" y="1125360"/>
            <a:ext cx="3387960" cy="31672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C:\Documents and Settings\Rene de Bot\Mijn documenten\0.1. Mijn afbeeldingen\hooligans.jpg"/>
          <p:cNvPicPr/>
          <p:nvPr/>
        </p:nvPicPr>
        <p:blipFill>
          <a:blip r:embed="rId4"/>
          <a:stretch/>
        </p:blipFill>
        <p:spPr>
          <a:xfrm>
            <a:off x="826920" y="4581360"/>
            <a:ext cx="2441880" cy="1584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C:\Users\Rene de Bot\Pictures\powerpoint materiaal\orthodoxe kerk.jpg"/>
          <p:cNvPicPr/>
          <p:nvPr/>
        </p:nvPicPr>
        <p:blipFill>
          <a:blip r:embed="rId5"/>
          <a:stretch/>
        </p:blipFill>
        <p:spPr>
          <a:xfrm>
            <a:off x="7020000" y="111744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1280" y="187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OME DEMOGRAPHIC INFORM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12720" y="2060280"/>
            <a:ext cx="81532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16.000.000 inhabitant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3.600.000 childre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150.000 childcare clients ( 4,5%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Franklin Gothic Book"/>
              </a:rPr>
              <a:t>( 7 %).</a:t>
            </a:r>
            <a:r>
              <a:rPr b="1" lang="en-US" sz="2400" spc="-1" strike="noStrike">
                <a:solidFill>
                  <a:srgbClr val="ff0000"/>
                </a:solidFill>
                <a:latin typeface="Franklin Gothic Book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41320" y="-15840"/>
            <a:ext cx="79581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MOZES IN THE WOODEN BASKE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28800" y="2142720"/>
            <a:ext cx="767232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2" name="Picture 2" descr="C:\Users\Rene de Bot\Pictures\powerpoint materiaal\rembrandt_mozes_mandje.jpg"/>
          <p:cNvPicPr/>
          <p:nvPr/>
        </p:nvPicPr>
        <p:blipFill>
          <a:blip r:embed="rId1"/>
          <a:stretch/>
        </p:blipFill>
        <p:spPr>
          <a:xfrm>
            <a:off x="1692360" y="1844640"/>
            <a:ext cx="625788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57160" y="333000"/>
            <a:ext cx="7958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Franklin Gothic Medium"/>
              </a:rPr>
              <a:t>FLORENCE 1550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28800" y="2142720"/>
            <a:ext cx="767232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5" name="Picture 2" descr="C:\Users\Rene de Bot\Pictures\powerpoint materiaal\Spedale_degli_Innocenti 1.jpg"/>
          <p:cNvPicPr/>
          <p:nvPr/>
        </p:nvPicPr>
        <p:blipFill>
          <a:blip r:embed="rId1"/>
          <a:stretch/>
        </p:blipFill>
        <p:spPr>
          <a:xfrm>
            <a:off x="1476360" y="1708200"/>
            <a:ext cx="686592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09:13:07Z</dcterms:created>
  <dc:creator>Bep van Sloten</dc:creator>
  <dc:description/>
  <dc:language>en-US</dc:language>
  <cp:lastModifiedBy>Rene de Bot</cp:lastModifiedBy>
  <dcterms:modified xsi:type="dcterms:W3CDTF">2013-01-10T15:57:42Z</dcterms:modified>
  <cp:revision>304</cp:revision>
  <dc:subject/>
  <dc:title>Dia 1</dc:title>
</cp:coreProperties>
</file>