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9D95-5C26-4457-A0B0-25C5B75FCAA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5C69-F1D9-48B9-8A91-3A8A1D387BE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ymbol zastępczy stopki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BM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ymbol zastępczy numeru slajdu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ECDAF5D-523F-4741-B3D5-D3DA8DDAC4A2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0DC6-EDB7-4313-A928-5A1C8BDF159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5D0A-A0D1-4341-B11E-4E0A903C40D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ymbol zastępczy stopki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BM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ymbol zastępczy numeru slajdu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ADD203-BEE4-4D91-9330-44B3B8C2B711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254775A-9653-48F6-B0B7-BABD88760A18}" type="slidenum">
              <a:rPr b="0" lang="pl-PL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4A5B-B4DB-4996-979D-6AB5D503380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32F7-8A8A-46A1-887B-CA28E1085AA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EB14-6C62-4AB1-AD3C-768149B66FF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9A48-4F04-472A-B092-233446708D4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10BA-BF58-45CF-93F9-D22761A1F2F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7949-0216-4161-AC96-FE05707AA2D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AFCC-E9E8-4B29-94F8-24F21113218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D751-C76B-40B0-B78B-614E07DDBC6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2CB7-E038-412C-9B42-48780EEEC16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F792-3C0F-4985-B6DD-415FE0452E5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03BA-D1E3-4567-BB22-38CF511F2B7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1352-0AB8-4BA2-B6DC-F0D28C12AA2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3EAE-D659-466E-9BA9-CB169FDDF52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ymbol zastępczy stopki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BM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ymbol zastępczy numeru slajdu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7ACA5B6-6458-4819-92E2-4CD5B5F7826D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DD8B-87F1-4C5C-B521-353ADCBED72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98E2-F434-4808-93BB-F11D7955761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510F-0525-4569-8001-93EEEA4D13E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CB7-89B1-441D-9521-A61962E5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172-A288-46A7-A269-12FC704E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5752-696A-42A2-AA8F-988207C5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7327-9227-49FD-AC71-5D5B37CE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CAE2-1F15-493C-A38A-EEA7D0D7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32C3-CFF0-43D3-9506-605C41D8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0AA9-3405-44C1-BBF7-E7524D4C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4A24-ADFC-496F-B094-DA2EFE44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0AF9-C484-4D44-8EA5-2A8A2826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A92D-70A5-4D90-B237-23DDBB44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7889-5D5E-4A0A-8D15-D5E9C817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82A-9C77-4778-8737-321B4353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6870-A46F-4973-AB4A-2FCC45B7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04B9-0479-453B-8300-E15E8811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12EB-F73C-4333-AB91-E2D338E1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88D2-F95D-4995-B24E-5BF278F8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24C5-3D94-4C92-A961-8158CD2E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60DFC-510B-4742-92D1-6DCA47AB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EF3E6-654A-4A5E-A1DF-57F29C79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81826-D65E-476B-ADC8-37FBD128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18540-3E95-4131-B719-6ADAB3AB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3D726-CBF0-49A5-816F-6157536B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9B2-DF7F-4C1F-9D9F-901DB195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3A11F-24C0-4238-89BB-4BAB7FBB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48DD0-B529-40E3-998D-94BC4E8E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1623D-CEF6-4FA7-B09C-51B15C2B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A2DB0-7E1C-48A8-925F-142E144B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AE56B-DE71-4100-9245-EDC72654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46E9C-39F1-4D47-B350-03F0DE33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F7174-9BBC-4DFA-858B-274D70AE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EE586-53C3-4B44-9525-E653FCF1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38DFA-C424-47F2-836B-8E30E9AF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C7108-4119-45F1-A58C-8DB78E7E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BB74-9908-4EA3-B505-04784806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740DA-0968-4E20-A77C-631E0B30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2AA8A-A458-4306-A278-DDB7CA1B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78AD6-9CA3-4570-8085-9C2EFBAA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0D8EB-06D8-4D14-A98C-107C65DC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B8A2C-8F2F-4089-9173-E8812FF8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A9CDE-8B29-4AC2-8BCE-C138C081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7DC86-0983-454D-BED8-ACE29057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23CA1-627E-4A75-A8FA-522441BA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6AC2E-2817-4DE0-BB53-01B438DC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FCE6B-8177-4EEE-B731-F55284A6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1D2-840F-43C2-8716-B9FADA47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71557-7089-486D-9559-1C7DD64A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84104-A418-4674-BA93-4009CC1B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D2B70-0F1B-489B-AFAD-5913DA2D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7FB4E-6B2E-4065-95D7-61A7912A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496F9-D588-4ED4-A521-FA6E2EF9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09720-D2F6-4D59-8853-E416D6AF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78348-E7CC-4B6C-956A-FAAC1664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9EDD2-A935-485C-8A55-F340A005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85E4D-F344-4757-AF73-FD451923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FDEE1-920F-4A8A-B074-88D93971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182-8FC5-4B34-841F-C402F636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EC0A4-1658-4732-B423-6FB1D16C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1314-CE0B-4F75-93EC-60709318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EE0-07DF-4D0F-9330-64BA5D11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02C-D584-4FE4-BE7C-0E6BCCB2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F6C0-BE55-4B6C-840A-ED99F6D5E832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3A7D-2C18-456C-981B-75E2EBD17035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412E-54D7-4291-8508-8510DE274F3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A6F0-3FD8-4005-A508-799661A79E34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0ABE-9739-461E-BF6C-65DF4157856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obryrodzic.fdn.pl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hyperlink" Target="http://www.fdn.pl/" TargetMode="Externa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renata.szredzinska@fdn.p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  <a:ea typeface="Calibri"/>
              </a:rPr>
              <a:t>Good Parent - Good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685800" y="4397400"/>
            <a:ext cx="2389320" cy="1011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2"/>
          <a:stretch/>
        </p:blipFill>
        <p:spPr>
          <a:xfrm>
            <a:off x="3405240" y="4276800"/>
            <a:ext cx="2333520" cy="1133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"/>
          <p:cNvPicPr/>
          <p:nvPr/>
        </p:nvPicPr>
        <p:blipFill>
          <a:blip r:embed="rId3"/>
          <a:stretch/>
        </p:blipFill>
        <p:spPr>
          <a:xfrm>
            <a:off x="5867280" y="4156200"/>
            <a:ext cx="2590920" cy="1493640"/>
          </a:xfrm>
          <a:prstGeom prst="rect">
            <a:avLst/>
          </a:prstGeom>
          <a:ln w="0">
            <a:noFill/>
          </a:ln>
        </p:spPr>
      </p:pic>
      <p:sp>
        <p:nvSpPr>
          <p:cNvPr id="330" name="pole tekstowe 1"/>
          <p:cNvSpPr/>
          <p:nvPr/>
        </p:nvSpPr>
        <p:spPr>
          <a:xfrm>
            <a:off x="900000" y="6165720"/>
            <a:ext cx="73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ague, 6-7 Decem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479840" y="2443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853920" y="157320"/>
            <a:ext cx="3070440" cy="5349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b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  <a:ea typeface="Calibri"/>
              </a:rPr>
              <a:t>A woman with a small child/in pregnancy reports to an examination/vaccin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469800" y="1197000"/>
            <a:ext cx="3441960" cy="115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b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Midwife/nurse/docto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- informs parents about the programme and provides them with the „Good Parent” 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collects a written consent from a parent to participate in the program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fills in a questionnaire on the basis of an interview/obser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 Linotype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458640" y="2736720"/>
            <a:ext cx="3505320" cy="49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b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Calibri"/>
              </a:rPr>
              <a:t>The original copy of the questionnaire is kept in internal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492120" y="4449600"/>
            <a:ext cx="189864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b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The questionnaire is kept in internal docu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436680" y="5715000"/>
            <a:ext cx="3436920" cy="97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72b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Conversation wit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- doctor/midwife/nu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- coordinator from a Social Welfare Centre: 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Psychologist from the Nobody’s Children Fou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The Praga Child and Family Centre, tel. 0 22 616 16 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6516720" y="1069920"/>
            <a:ext cx="22096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b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Starting the Blue Card 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Informing the Family Team of the Social Welfare Centre on the Blue Card 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9"/>
          <p:cNvSpPr/>
          <p:nvPr/>
        </p:nvSpPr>
        <p:spPr>
          <a:xfrm>
            <a:off x="6629400" y="4264200"/>
            <a:ext cx="2104920" cy="1225440"/>
          </a:xfrm>
          <a:prstGeom prst="rect">
            <a:avLst/>
          </a:prstGeom>
          <a:solidFill>
            <a:srgbClr val="ffffff"/>
          </a:solidFill>
          <a:ln w="19080">
            <a:solidFill>
              <a:srgbClr val="72b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Delivering a copy to the programme’s coordinator in a Social Welfare Cent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………………………………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0"/>
          <p:cNvSpPr/>
          <p:nvPr/>
        </p:nvSpPr>
        <p:spPr>
          <a:xfrm>
            <a:off x="3898800" y="1900080"/>
            <a:ext cx="254952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4581360" y="1536840"/>
            <a:ext cx="1359000" cy="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Calibri"/>
              </a:rPr>
              <a:t>Diagnosing child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2"/>
          <p:cNvSpPr/>
          <p:nvPr/>
        </p:nvSpPr>
        <p:spPr>
          <a:xfrm flipH="1">
            <a:off x="1895040" y="747720"/>
            <a:ext cx="11160" cy="444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1258920" y="2348640"/>
            <a:ext cx="0" cy="373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4"/>
          <p:cNvSpPr/>
          <p:nvPr/>
        </p:nvSpPr>
        <p:spPr>
          <a:xfrm>
            <a:off x="3924360" y="2349360"/>
            <a:ext cx="2577960" cy="205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5"/>
          <p:cNvSpPr/>
          <p:nvPr/>
        </p:nvSpPr>
        <p:spPr>
          <a:xfrm>
            <a:off x="4662360" y="3154320"/>
            <a:ext cx="136692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Calibri"/>
              </a:rPr>
              <a:t>Diagnosing risk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 flipH="1">
            <a:off x="1251000" y="3282840"/>
            <a:ext cx="9360" cy="110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398520" y="3832200"/>
            <a:ext cx="25178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Calibri"/>
              </a:rPr>
              <a:t>No risk factors/abus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8"/>
          <p:cNvSpPr/>
          <p:nvPr/>
        </p:nvSpPr>
        <p:spPr>
          <a:xfrm>
            <a:off x="3024360" y="3381480"/>
            <a:ext cx="12600" cy="199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9"/>
          <p:cNvSpPr/>
          <p:nvPr/>
        </p:nvSpPr>
        <p:spPr>
          <a:xfrm>
            <a:off x="2664000" y="4624560"/>
            <a:ext cx="1123920" cy="26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Calibri"/>
              </a:rPr>
              <a:t>Doub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0"/>
          <p:cNvSpPr/>
          <p:nvPr/>
        </p:nvSpPr>
        <p:spPr>
          <a:xfrm flipV="1">
            <a:off x="1285920" y="4929120"/>
            <a:ext cx="0" cy="67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1"/>
          <p:cNvSpPr/>
          <p:nvPr/>
        </p:nvSpPr>
        <p:spPr>
          <a:xfrm>
            <a:off x="419040" y="5086440"/>
            <a:ext cx="249732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Calibri"/>
              </a:rPr>
              <a:t>No risk factors/abus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2"/>
          <p:cNvSpPr/>
          <p:nvPr/>
        </p:nvSpPr>
        <p:spPr>
          <a:xfrm flipV="1">
            <a:off x="3817800" y="5173200"/>
            <a:ext cx="2551320" cy="113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3"/>
          <p:cNvSpPr/>
          <p:nvPr/>
        </p:nvSpPr>
        <p:spPr>
          <a:xfrm>
            <a:off x="4549680" y="5554800"/>
            <a:ext cx="15876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Calibri"/>
              </a:rPr>
              <a:t>Diagnosing risk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4"/>
          <p:cNvSpPr/>
          <p:nvPr/>
        </p:nvSpPr>
        <p:spPr>
          <a:xfrm>
            <a:off x="4176720" y="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DIAGRAM FOR HEALTHCARE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0"/>
          <p:cNvSpPr/>
          <p:nvPr/>
        </p:nvSpPr>
        <p:spPr>
          <a:xfrm>
            <a:off x="1187280" y="333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HAT KIND OF PARENTS DO WE WORK WI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rostokąt 2"/>
          <p:cNvSpPr/>
          <p:nvPr/>
        </p:nvSpPr>
        <p:spPr>
          <a:xfrm>
            <a:off x="684360" y="1341360"/>
            <a:ext cx="634824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Single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Teen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Foster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Add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With history of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Socially iso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With mental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Having problems with ag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Helpless in upbringing ma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SUPPORT FOR FAMILIES -UNIVER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rostokąt 2"/>
          <p:cNvSpPr/>
          <p:nvPr/>
        </p:nvSpPr>
        <p:spPr>
          <a:xfrm>
            <a:off x="324000" y="2060640"/>
            <a:ext cx="813564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Thematic educational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Educational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Internet consultancy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Play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Awareness raising campa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SUPPORT FOR FAMILIES –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TARGE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rostokąt 2"/>
          <p:cNvSpPr/>
          <p:nvPr/>
        </p:nvSpPr>
        <p:spPr>
          <a:xfrm>
            <a:off x="324000" y="2060640"/>
            <a:ext cx="835164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Consultations with psychologists, psychiatrist, lawyer, dietetitian, midw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Video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Parental skill 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Educational and therapeutic holiday 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nteer in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8640" y="14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Introduct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ory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 Train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Seminars, conferenc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Monthly monitoring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Consultation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s, constant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Information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Website 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www.dobryrodzic.fdn.pl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1332000" y="189000"/>
            <a:ext cx="742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  <a:ea typeface="Calibri"/>
              </a:rPr>
              <a:t>SUPPORT TO PROFESSIONALS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Good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6" descr=""/>
          <p:cNvPicPr/>
          <p:nvPr/>
        </p:nvPicPr>
        <p:blipFill>
          <a:blip r:embed="rId2"/>
          <a:stretch/>
        </p:blipFill>
        <p:spPr>
          <a:xfrm>
            <a:off x="4788000" y="4097160"/>
            <a:ext cx="2421000" cy="196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"/>
          <p:cNvPicPr/>
          <p:nvPr/>
        </p:nvPicPr>
        <p:blipFill>
          <a:blip r:embed="rId3"/>
          <a:stretch/>
        </p:blipFill>
        <p:spPr>
          <a:xfrm>
            <a:off x="6300720" y="2421000"/>
            <a:ext cx="233676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22268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STANDARDS FOR PREVENTION OF YOUNG CHILD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ABUSE AND NEGLECT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57120" y="1428480"/>
            <a:ext cx="84297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andard 1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upport offer for parents of young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andard 2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ystem cooperation between profess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andard 3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Various levels of preven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andard 4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Organization of work of professionals supporting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andard 5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fessional-family relationship based on re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andard 6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kills and competences of profess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andard 7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nformation and 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(Source: A.Izdebska, K.Lew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ndowska „Jak budować lokalny system profilaktki krzywdzenia małych dzieci, Dzieko Krzywdzone. Teoria Badania Praktyka, no. 2(27) 200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4"/>
          <p:cNvSpPr/>
          <p:nvPr/>
        </p:nvSpPr>
        <p:spPr>
          <a:xfrm>
            <a:off x="4140360" y="6507000"/>
            <a:ext cx="4981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Nobody's Children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05636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345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700200" y="5661000"/>
            <a:ext cx="7742160" cy="324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955800" y="1316160"/>
            <a:ext cx="72295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ole tekstowe 2"/>
          <p:cNvSpPr/>
          <p:nvPr/>
        </p:nvSpPr>
        <p:spPr>
          <a:xfrm>
            <a:off x="1997280" y="5013360"/>
            <a:ext cx="566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Do professionals distribute educational materials among famili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413240" cy="26398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42498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179280" y="2004840"/>
            <a:ext cx="4253040" cy="25765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"/>
          <p:cNvPicPr/>
          <p:nvPr/>
        </p:nvPicPr>
        <p:blipFill>
          <a:blip r:embed="rId2"/>
          <a:stretch/>
        </p:blipFill>
        <p:spPr>
          <a:xfrm>
            <a:off x="4643280" y="1998720"/>
            <a:ext cx="4297680" cy="2582640"/>
          </a:xfrm>
          <a:prstGeom prst="rect">
            <a:avLst/>
          </a:prstGeom>
          <a:ln w="0">
            <a:noFill/>
          </a:ln>
        </p:spPr>
      </p:pic>
      <p:sp>
        <p:nvSpPr>
          <p:cNvPr id="414" name="pole tekstowe 2"/>
          <p:cNvSpPr/>
          <p:nvPr/>
        </p:nvSpPr>
        <p:spPr>
          <a:xfrm>
            <a:off x="250920" y="5268960"/>
            <a:ext cx="87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How do professionals assess the effectiveness of the screening tool used in the Local System? (no.=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6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611280" y="1157400"/>
            <a:ext cx="78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iekt 1"/>
          <p:cNvGraphicFramePr/>
          <p:nvPr/>
        </p:nvGraphicFramePr>
        <p:xfrm>
          <a:off x="196920" y="2562120"/>
          <a:ext cx="2759040" cy="22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iek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562120"/>
                    <a:ext cx="275904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rostokąt 2"/>
          <p:cNvSpPr/>
          <p:nvPr/>
        </p:nvSpPr>
        <p:spPr>
          <a:xfrm>
            <a:off x="3564000" y="1157400"/>
            <a:ext cx="4572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blished in 1991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fdn.pl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i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king out the system to help abused children and protect children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from abuse and neg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ovid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direct services (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ildren, families, profession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ole tekstowe 2"/>
          <p:cNvSpPr/>
          <p:nvPr/>
        </p:nvSpPr>
        <p:spPr>
          <a:xfrm>
            <a:off x="2411280" y="5291280"/>
            <a:ext cx="48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Do the professionals use the screening tool? (no.=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4643280" y="2004840"/>
            <a:ext cx="4176720" cy="2576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324000" y="2004840"/>
            <a:ext cx="41767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ole tekstowe 2"/>
          <p:cNvSpPr/>
          <p:nvPr/>
        </p:nvSpPr>
        <p:spPr>
          <a:xfrm>
            <a:off x="508320" y="5934240"/>
            <a:ext cx="85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How do professionals assess the cooperation within the programme with various agencies? (no.=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1025640" y="1557360"/>
            <a:ext cx="70754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ole tekstowe 1"/>
          <p:cNvSpPr/>
          <p:nvPr/>
        </p:nvSpPr>
        <p:spPr>
          <a:xfrm>
            <a:off x="316800" y="1628640"/>
            <a:ext cx="83019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most positive aspects of the programme mentioned by the professio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Common super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Common trai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Opportunity to know each other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Better cooperation between some Welfare Centers and Health C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Educational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ole tekstowe 1"/>
          <p:cNvSpPr/>
          <p:nvPr/>
        </p:nvSpPr>
        <p:spPr>
          <a:xfrm>
            <a:off x="299880" y="1162080"/>
            <a:ext cx="852012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Reccomended modifications/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Expanding the age of children covered with the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Broader offer for families, where violence already occ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Slimmer” educational materials for some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Better outreach to fa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Broader information to parents (picninc, local free newspapers, other me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Revising the screening tool, making it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Including the non-public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ole tekstowe 1"/>
          <p:cNvSpPr/>
          <p:nvPr/>
        </p:nvSpPr>
        <p:spPr>
          <a:xfrm>
            <a:off x="299880" y="2637000"/>
            <a:ext cx="85201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  <a:ea typeface="Calibri"/>
              </a:rPr>
              <a:t>THANK YOU FOR YOUR ATTEN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nata.szredzinska@fdn.p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GOALS of Good Parent – Good Start Program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611280" y="1157400"/>
            <a:ext cx="781344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Early prevention of young child abuse and neg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Target gro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Voulnerable famili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 with young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fessionals working with parents with young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Why preventive approac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611280" y="1157400"/>
            <a:ext cx="78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rostokąt 1"/>
          <p:cNvSpPr/>
          <p:nvPr/>
        </p:nvSpPr>
        <p:spPr>
          <a:xfrm>
            <a:off x="611280" y="2208240"/>
            <a:ext cx="78134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mprovement of the well being of babies and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educing inclination of antisocial behavi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inancial reason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Why families with young childr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611280" y="1157400"/>
            <a:ext cx="78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rostokąt 1"/>
          <p:cNvSpPr/>
          <p:nvPr/>
        </p:nvSpPr>
        <p:spPr>
          <a:xfrm>
            <a:off x="611280" y="2208240"/>
            <a:ext cx="78134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pheaval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in the famil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ack of knowledge of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ost vulnerable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ritical moments in bra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66560" y="1528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0"/>
          <p:cNvGrpSpPr/>
          <p:nvPr/>
        </p:nvGrpSpPr>
        <p:grpSpPr>
          <a:xfrm>
            <a:off x="870120" y="6469200"/>
            <a:ext cx="8273880" cy="388800"/>
            <a:chOff x="870120" y="6469200"/>
            <a:chExt cx="8273880" cy="388800"/>
          </a:xfrm>
        </p:grpSpPr>
        <p:pic>
          <p:nvPicPr>
            <p:cNvPr id="346" name="Picture 11" descr=""/>
            <p:cNvPicPr/>
            <p:nvPr/>
          </p:nvPicPr>
          <p:blipFill>
            <a:blip r:embed="rId1"/>
            <a:stretch/>
          </p:blipFill>
          <p:spPr>
            <a:xfrm>
              <a:off x="870120" y="6469200"/>
              <a:ext cx="827388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Rectangle 12"/>
            <p:cNvSpPr/>
            <p:nvPr/>
          </p:nvSpPr>
          <p:spPr>
            <a:xfrm>
              <a:off x="6230520" y="6480000"/>
              <a:ext cx="28911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Fundacja Dzieci Niczy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42"/>
          <p:cNvGrpSpPr/>
          <p:nvPr/>
        </p:nvGrpSpPr>
        <p:grpSpPr>
          <a:xfrm>
            <a:off x="870120" y="6496200"/>
            <a:ext cx="8273880" cy="388800"/>
            <a:chOff x="870120" y="6496200"/>
            <a:chExt cx="8273880" cy="388800"/>
          </a:xfrm>
        </p:grpSpPr>
        <p:pic>
          <p:nvPicPr>
            <p:cNvPr id="349" name="Picture 43" descr=""/>
            <p:cNvPicPr/>
            <p:nvPr/>
          </p:nvPicPr>
          <p:blipFill>
            <a:blip r:embed="rId2"/>
            <a:stretch/>
          </p:blipFill>
          <p:spPr>
            <a:xfrm>
              <a:off x="870120" y="6496200"/>
              <a:ext cx="827388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44"/>
            <p:cNvSpPr/>
            <p:nvPr/>
          </p:nvSpPr>
          <p:spPr>
            <a:xfrm>
              <a:off x="4140360" y="6507000"/>
              <a:ext cx="4981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Arial"/>
                </a:rPr>
                <a:t>Nobody's Children Found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1" name="Picture 12" descr=""/>
          <p:cNvPicPr/>
          <p:nvPr/>
        </p:nvPicPr>
        <p:blipFill>
          <a:blip r:embed="rId3"/>
          <a:stretch/>
        </p:blipFill>
        <p:spPr>
          <a:xfrm>
            <a:off x="-31680" y="0"/>
            <a:ext cx="915336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LOCAL SYSTEM FOR PREVENTION OF YOUNG CHILD AB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324000" y="1157400"/>
            <a:ext cx="835164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 build a system of cooperation between local health care and social care services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 the area of identifying and supporting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voulnera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families with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you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rtn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ity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Local Health Cent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Local Welfare Cen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ay nur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bation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oth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LOCAL SYSTEM FOR PREVENTION OF YOUNG CHILD AB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116000" y="1362240"/>
            <a:ext cx="70200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LOCAL SYSTEM FOR PREVENTION OF YOUNG CHILD AB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rostokąt 2"/>
          <p:cNvSpPr/>
          <p:nvPr/>
        </p:nvSpPr>
        <p:spPr>
          <a:xfrm>
            <a:off x="324000" y="2060640"/>
            <a:ext cx="813564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3 lev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nformation o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 the project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 (Good Parent Pack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Identification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of voulnerable fmailies and interdisciplinary cooperation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Need-tailored 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upport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to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 famil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4:36:35Z</dcterms:created>
  <dc:creator>Renata</dc:creator>
  <dc:description/>
  <dc:language>en-US</dc:language>
  <cp:lastModifiedBy>Renata</cp:lastModifiedBy>
  <dcterms:modified xsi:type="dcterms:W3CDTF">2012-12-05T12:53:04Z</dcterms:modified>
  <cp:revision>31</cp:revision>
  <dc:subject/>
  <dc:title>Prezentacja programu PowerPoint</dc:title>
</cp:coreProperties>
</file>