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jpeg" ContentType="image/jpeg"/>
  <Override PartName="/ppt/media/image15.wmf" ContentType="image/x-wmf"/>
  <Override PartName="/ppt/media/image14.wmf" ContentType="image/x-wmf"/>
  <Override PartName="/ppt/media/image5.jpeg" ContentType="image/jpeg"/>
  <Override PartName="/ppt/media/image9.wmf" ContentType="image/x-wmf"/>
  <Override PartName="/ppt/media/image1.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jpeg" ContentType="image/jpeg"/>
  <Override PartName="/ppt/media/image10.wmf" ContentType="image/x-wmf"/>
  <Override PartName="/ppt/media/image4.jpeg" ContentType="image/jpeg"/>
  <Override PartName="/ppt/media/image8.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 id="283" r:id="rId77"/>
    <p:sldId id="284" r:id="rId78"/>
    <p:sldId id="285" r:id="rId79"/>
    <p:sldId id="286" r:id="rId80"/>
    <p:sldId id="287" r:id="rId8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slide" Target="slides/slide28.xml"/><Relationship Id="rId78" Type="http://schemas.openxmlformats.org/officeDocument/2006/relationships/slide" Target="slides/slide29.xml"/><Relationship Id="rId79" Type="http://schemas.openxmlformats.org/officeDocument/2006/relationships/slide" Target="slides/slide30.xml"/><Relationship Id="rId80" Type="http://schemas.openxmlformats.org/officeDocument/2006/relationships/slide" Target="slides/slide31.xml"/><Relationship Id="rId81" Type="http://schemas.openxmlformats.org/officeDocument/2006/relationships/slide" Target="slides/slide3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3" name="PlaceHolder 2"/>
          <p:cNvSpPr>
            <a:spLocks noGrp="1"/>
          </p:cNvSpPr>
          <p:nvPr>
            <p:ph type="dt" idx="140"/>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93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6" name="PlaceHolder 5"/>
          <p:cNvSpPr>
            <a:spLocks noGrp="1"/>
          </p:cNvSpPr>
          <p:nvPr>
            <p:ph type="ftr" idx="14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37" name="PlaceHolder 6"/>
          <p:cNvSpPr>
            <a:spLocks noGrp="1"/>
          </p:cNvSpPr>
          <p:nvPr>
            <p:ph type="sldNum" idx="14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5E64-5F0E-4FB8-8EAE-200845533FC8}"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C050-46F6-4EA9-863F-008FDCB28D7D}"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094" name="PlaceHolder 1"/>
          <p:cNvSpPr>
            <a:spLocks noGrp="1"/>
          </p:cNvSpPr>
          <p:nvPr>
            <p:ph type="sldImg"/>
          </p:nvPr>
        </p:nvSpPr>
        <p:spPr>
          <a:xfrm>
            <a:off x="917640" y="744480"/>
            <a:ext cx="4962600" cy="3722760"/>
          </a:xfrm>
          <a:prstGeom prst="rect">
            <a:avLst/>
          </a:prstGeom>
          <a:ln w="0">
            <a:noFill/>
          </a:ln>
        </p:spPr>
      </p:sp>
      <p:sp>
        <p:nvSpPr>
          <p:cNvPr id="20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DF83-8F30-4CA3-BADC-B0271F0D71DB}"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097" name="PlaceHolder 1"/>
          <p:cNvSpPr>
            <a:spLocks noGrp="1"/>
          </p:cNvSpPr>
          <p:nvPr>
            <p:ph type="sldImg"/>
          </p:nvPr>
        </p:nvSpPr>
        <p:spPr>
          <a:xfrm>
            <a:off x="917640" y="744480"/>
            <a:ext cx="4962600" cy="3722760"/>
          </a:xfrm>
          <a:prstGeom prst="rect">
            <a:avLst/>
          </a:prstGeom>
          <a:ln w="0">
            <a:noFill/>
          </a:ln>
        </p:spPr>
      </p:sp>
      <p:sp>
        <p:nvSpPr>
          <p:cNvPr id="20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6401-335F-4A57-9D27-39566F7A256B}"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0" name="PlaceHolder 1"/>
          <p:cNvSpPr>
            <a:spLocks noGrp="1"/>
          </p:cNvSpPr>
          <p:nvPr>
            <p:ph type="sldImg"/>
          </p:nvPr>
        </p:nvSpPr>
        <p:spPr>
          <a:xfrm>
            <a:off x="917640" y="744480"/>
            <a:ext cx="4962600" cy="3722760"/>
          </a:xfrm>
          <a:prstGeom prst="rect">
            <a:avLst/>
          </a:prstGeom>
          <a:ln w="0">
            <a:noFill/>
          </a:ln>
        </p:spPr>
      </p:sp>
      <p:sp>
        <p:nvSpPr>
          <p:cNvPr id="21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3E05-A3F8-4E2C-9AA2-87C86095EC7A}"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3" name="PlaceHolder 1"/>
          <p:cNvSpPr>
            <a:spLocks noGrp="1"/>
          </p:cNvSpPr>
          <p:nvPr>
            <p:ph type="sldImg"/>
          </p:nvPr>
        </p:nvSpPr>
        <p:spPr>
          <a:xfrm>
            <a:off x="917640" y="744480"/>
            <a:ext cx="4962600" cy="3722760"/>
          </a:xfrm>
          <a:prstGeom prst="rect">
            <a:avLst/>
          </a:prstGeom>
          <a:ln w="0">
            <a:noFill/>
          </a:ln>
        </p:spPr>
      </p:sp>
      <p:sp>
        <p:nvSpPr>
          <p:cNvPr id="21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AA7E-C91D-4B8F-9B9D-54E29F221B56}"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6" name="PlaceHolder 1"/>
          <p:cNvSpPr>
            <a:spLocks noGrp="1"/>
          </p:cNvSpPr>
          <p:nvPr>
            <p:ph type="sldImg"/>
          </p:nvPr>
        </p:nvSpPr>
        <p:spPr>
          <a:xfrm>
            <a:off x="917640" y="744480"/>
            <a:ext cx="4962600" cy="3722760"/>
          </a:xfrm>
          <a:prstGeom prst="rect">
            <a:avLst/>
          </a:prstGeom>
          <a:ln w="0">
            <a:noFill/>
          </a:ln>
        </p:spPr>
      </p:sp>
      <p:sp>
        <p:nvSpPr>
          <p:cNvPr id="210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215BC1C-701D-49ED-B2D6-B9856A1D88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605F6C2-5C07-4490-87B1-E5F8FDD112B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5C6B6F1-6B78-464F-8DFC-B7B95F4F6DE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BAB58F5-6264-4A1C-98FB-29A63923F96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72C44F5-17E3-433D-A186-95887733F77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9EB3A59-F8F1-49AA-A39D-F2D27680F3F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49724AD-6431-475F-9195-F8B8DE6C4EF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3B4739F-2311-498C-B89C-B766FC74362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29814BA-9DDB-4A26-85E6-E0A8AD21F0B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2F89AC8-D439-4660-B5F4-8D7E0C64F90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50D51A0-075C-400D-85BA-285B125858F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D16E0A7-84BB-41B0-95B3-F41596CCE46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7C5C70F-D9C9-4E41-8189-93898E9261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EDB24A5-8520-41C9-8DAA-CEAA9D1C70F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C81E29A-0F47-4159-944C-FB27DE8E1BC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F2BEE41-F1AE-40C9-9E46-2ABF097179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04A5B6F-A465-465F-9955-7205C58B15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670418C-EC5F-47F2-ADF0-7A7BC51E933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E384C1A-0A2C-4B54-82F5-B529870348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49AC749-68F8-482C-BBD9-C10528B9D6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547D44B-DCBA-47D6-BF14-B3535B4543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B521BED-A21D-49A9-94F7-1FE5BF65E8F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7DFD932-1F06-4632-A48B-4EE436C3921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15369CE-474A-4A23-B49E-E4195E5A165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9C098CF-6170-449A-9E74-846A0A6C9A1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71CC102-63D1-4B65-BCBE-818159362C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649D315-6623-4033-859C-1B74D57480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F032334-CA43-4C5D-821B-A4556FDC74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C5BB02B-BF24-42A5-83F9-B15EC041BF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75C7CD9-5AEA-4008-8175-50BFD9A2CC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5E91934-3C3D-4CF5-942F-4B87129121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E95F148-4EE4-4473-9BDB-26C2A2009D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8D650B6-76E5-4909-AF32-842CEFF71C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1664453-914C-4BEC-AAB2-BF4616319A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08FB20-2CB4-498A-9039-DE19318FC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E0F0082-25F3-4989-8C92-E70D9F870B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1FC7B0C-B414-47CD-BE1E-5F777ED730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495608D-9D44-4696-BD59-C9DFCF42DC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156817C-086F-44C0-9EBB-AB87911DCD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A769390-17A5-4B97-A286-309C7AB4E2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730AC0E-0030-4A97-B93D-7360AD1098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BD81A10-14A1-4789-949F-4A55BF9847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F3E1CEE-56D4-4D0B-94C2-84303F8ADC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F55844F-1D7F-488D-9CC3-DD5287F40D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3DA20A1-749F-4F82-9D79-2C298209DA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B8F8A9-6C16-414B-BE14-D2AF6518A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DDD9C45-6A1F-44AE-B92A-75954883B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3CD6804-7514-416D-AA40-73D8D9291E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B4CBC33-03D3-40C6-8275-C2309E1AFF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82CA93C-86BC-4444-9A29-13063AF3C2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7D25247-54F0-421F-89C2-439EB7498D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4502461-1884-4E5F-8385-1B2F3C510B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E7A44E4-A002-48ED-8D4D-F3D95BEEB5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574C424-4362-4801-80C6-9478E32C98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3AF336D-AD1E-4D58-A84F-988396E14D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8AB5085-0003-4155-92E6-687971FFB1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8CA200-4EB0-4A06-8D10-B409DEF9C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8BA3BAF-FCC9-4A66-891B-C3AB68F101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C1B0A57-406A-40E9-9AA3-4B4DAF67F9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8430D1A-30C2-4CD1-8D6D-80A3A0D9DD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3B2D527-820E-4BE7-AD47-4D2792C654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BE2A877-F501-41D0-A8BA-7C53F87641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A84E5BD-7726-424B-9677-9FFDD05352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15E9A78-44AC-41EE-A850-351CC76DD6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D2DA34D-A1E8-4E59-9BC0-230603A532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D7C34AB-EDC6-47F7-9C5C-5217FC37F8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747BD98-9A2C-45BF-B380-43E1AB9E45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357D96-5749-4D1E-B8B9-270F5DE7F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925DD82-AF62-4A6A-9531-EE7B52F028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D3A5657-5D61-4210-A2A4-BEC8384B84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6B84486-31C2-437D-893A-BE0E2601AF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480B215-9602-4F9D-AB35-13BCC7485A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009A93D-698E-4E53-BFDD-1254E625B9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49972B2-0EC4-475E-B280-8AA97C2225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3123C1B-75DE-4886-B577-DE8607F747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524B810-1A55-4A16-BD96-721CA4BE5B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CC0E301-B5A1-4E6E-A8EE-6F0D93394D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B5EA196B-9D99-472A-A797-6499DACDB2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008925-A03A-4344-A19C-C0D219767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C7AB9E1-E583-4FFF-981B-B4BD303C88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1F9C27E-EBBE-4797-8114-35E516D0D0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10877F5-4511-409C-AC66-B4268412F4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F32E94C-6423-484B-AF30-2377B36D5D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A2045E0-BA2C-4504-8A75-BBB33D6046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6E124D1-0B8E-4567-AB75-17B0E3F0CE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18E3BAD-8567-4359-AF42-460BF7355B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660643F-7B26-4E58-A401-F47F3229F1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913F959-67E0-45F1-AA37-D33B94B154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0E747FC-4338-49D7-AC17-27BCB8A698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1B7999-BC49-4023-86C2-15D640CAA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5AC9D1A-0C90-44B9-ABE6-8080DEF8B8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5D6D48E9-055C-47C9-8BEC-DC140BF369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3E0D60E-8FCC-446A-84CD-78F752C48A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BA6BCD4-AE8C-46D6-AB02-03CDF91F60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B5F7501-0572-43F6-9234-7EBD901C0D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13CE58B-7DC5-473E-AED8-7C647BEC3C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A7F6035-0118-4205-AF76-C5C91246B0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DA45100-0906-419D-BE1B-D9A8DA1C5E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6309D0E-BC94-4C28-8B74-C45B2FC5AC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73779AB-6209-4343-B642-3125650454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39BC0-C1A3-4C53-B42E-6D91FB2DF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6695F08-33F1-44D7-A83F-8B53D6B46F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300A377-02ED-4A3B-BF3A-DEBF0CEE56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B864466-07BB-4977-B321-5818E9B403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45F4892-5309-4EB1-AB5E-4C0C8BA304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0C78E20-3104-4755-B61E-4C00900D7E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755E6D8-243C-4849-BB79-21BEEBF5E0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DBC035F-607C-4D55-9F23-BDED4C368F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821AF48-641B-426E-961D-81068190BC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0F5F6EE-0B00-4C8F-905D-6EA56F010B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675D18B-4001-418D-B2B5-F6CDE5976A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83438CC-CEA1-4E4E-8E4D-BEF2EAD705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FE824-F220-45F7-9E80-7B990702F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533FFB0-0CED-4523-AF3B-1F96DD1549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4A7F91B-0EE3-4E24-A7C4-B7E9488E97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636729D-4B38-4C1E-9FD7-C3D179FB0D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7D9DDCA-7D7E-4F97-8580-A2CFB77A4A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37949C9-A729-4B30-B43A-961424B0EA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7E538EA6-FCAA-4638-BDA1-8486B6C757F7}"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1149940-749C-4B33-9EBE-266DBD7A662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C1D9AC3-DF36-4FC4-A5B5-29D0AC1F6D7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103B8F4-0608-49F0-8A0D-C1470D41B4B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CA068A6-D857-435A-AF98-3054EB647DC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0C705-04B0-41BB-87B5-37B065CD8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9412AA8-E7AC-4420-8A6E-E3F28146740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6DCDEF7-4A02-4B80-9794-666FADE23A8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167A155-A533-4768-A667-634F558DEA1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3BBEB39-AD4D-415F-8E0A-703530CD537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A9EF370-906F-457B-8CE7-CB602202B96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75C2892A-1B6F-4729-BF17-DBBF1954733B}"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EDFD91AC-94E4-46F6-B288-3C09BDC7469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0E494D02-C035-4E84-907F-A0C953E58378}"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C3AE978-E8FB-4AD1-905D-DBB7E22695A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0875F8D-BE59-406E-A43E-14302CF0A3C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BB20E0-5A2C-488C-8DE7-6CD43346F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0F6B9BB-9FFB-458A-82F7-5800E6A78DF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85BEA90-9334-4103-8340-E2990028BEC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143D4EA-6F14-4192-BA19-7093B0C096C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EC9167D-D09E-4397-8364-00A90C4EF0C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FA6137B-BF1F-480A-B180-A2EC0BC7FD4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9039F17-53F0-4EF1-86A5-E588E6F2828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E60CFFA-FFE3-4405-8C99-98C4B3EA720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D8E819A-E338-496F-AB81-26A441E167C6}"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AA95D5D-DE05-4B33-BD68-C49399FCE91C}"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F85B6B2-8D5C-4531-86F1-52B4D6273F5E}"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E17A21-B31F-4100-8E06-55890106B5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5DDAD57-4CF6-4419-B282-87E6816B747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E52FFB7-7CBF-4AFF-A784-4124B29F80C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60A4CEC-5509-4775-B62F-BBE6752E274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BC25F46-C343-410A-98BF-BC4760C9857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0E07D97-357A-44E1-96FC-A46CE6FEA40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2371CB2-F89B-4C26-B2CE-49E581D6BC2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46EC785-0B8B-433A-B9D0-13121965494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1BB19BB-1645-4AF8-9A51-1C982B3390C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7D41F6E-89E3-40B2-B182-40E98140A7C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2243F21B-5FE7-4825-BCEB-D663D2FCB669}"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5608CA-909C-44FE-AF83-1AEED9FCA6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1741D9AF-F0D3-4182-83B2-C8D4EE32950D}"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446C1B48-C2BE-4ACA-B258-919A312DFFC3}"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6B71F42-EE40-4B42-97E3-E3B741A358C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57753D67-D26E-4270-91A0-57740FEBC00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D3A409A-47FE-409A-B36C-1E193C117A0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E52F8DD-7799-437A-8110-99E79295044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263CCA68-B973-4E72-9348-51B5392381A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FF8E943-13EB-4613-9098-32E28906465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633719D-70AB-4FDA-B615-FF8AC742FC7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541B4E0-9803-4C71-AC2A-3265E8BF4CD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1056B5D-5BCB-4C35-9708-EDEBD8732B8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D5813687-3826-4161-B925-AA3285A99E0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94FF4D1B-7A72-49A9-9F4D-DBE2149418F6}"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097BCC95-DB4E-4CE5-A9F4-05D21728FE20}"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3DF9C1BB-3A7C-4D9A-B70E-0562BE11FAC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D0CBCE9-F734-4C86-B638-7F06AE14B62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DB998FF-0DC9-46D1-B4BF-0F2212039A2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5E5D3B5A-0BE1-41A3-9EBC-4FA6C64A644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2408C8C-711D-4B3D-A64E-1D6F2ECE797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FC76A12-59BF-4D77-B792-9F70F3C62D12}"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07A2D7B-F406-4CFF-A446-752F6755692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761F19-97F1-448C-9E12-631DEC3229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ED7E59F-83C6-4930-BB8A-63F87284480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64790D0-081B-4DBE-BAFA-CBBBAA1D914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55EAB95-A065-4044-8362-47C565E41BC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E34B762B-EC1F-470B-BA72-D76DEEE9E184}"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1235AAB8-8BEF-4C47-A5BA-FA4F2BB8FF12}"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D51CB5A8-B9BD-4EFC-84D8-6FE34F7531F0}"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DB5A97C-EC09-42CA-B8DA-02ABE28399A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E3C93B0-583D-4273-BD91-0B1D371F4E6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1FEED546-FD49-45E3-BBD4-78571DCABEB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695DC8A-A245-4AB5-AF29-C9E8D5D9925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31C318-A0AD-4920-9244-31589BA1E1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6F8EB63D-ACE5-4044-A65C-BA8E42ED6BC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720DA32-8F65-44E5-88C0-578255F552D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1E78A7C-FA5B-470F-A061-5FE148137C6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756B87E-729A-4DDC-95D4-D0825A443D2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E196CB4-6BE8-4BB9-99BA-A0C6197E204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8465A48D-81AB-4811-8E5C-B220F877F3AF}"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2CF3988E-85F4-4BF0-B507-37173E449E24}"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34D278CA-6489-4E2F-A9B7-C8B0EF741D13}"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1BB42EC-D67E-4958-A33B-6CB1D4A09EB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80C9C94-F0C1-4937-9F6F-AEF00DB9F4D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6A198E-A62F-4467-BEC1-D87A9A6A1D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54880EF-CFA8-4496-995B-F45146BD5C3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295B8C75-AC35-432C-BFF4-845D2B6B1C5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F19E833-98E8-4862-BB0B-DE04D020476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51F816E-05F6-4CF6-B363-75AC26D3467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D9DD32F-30E9-4010-A2D8-37EBA3DC3C7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CA545EA-37A3-422D-AC1B-C57A070CE8D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0D92EAD-02C6-4AC6-90C0-62C7967F837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ED75D68-DF52-4D1D-8864-30F8919C51A9}"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7D676C40-42B6-4CDC-B533-25766080BB4B}"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B7C37C31-40E9-4B9A-9136-1290CF2C1B3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64FA53-06CE-4CAE-9FBE-CC6017930C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6D07AFD6-F931-47AD-B5FD-CE003EED0D8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B3DEFD3-442D-4E87-9607-05789BB999A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5481ECE7-E15E-49F5-9E65-72283068056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4AE39A2A-2690-4944-B04F-36EE542514E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B6BBA918-A1FF-4B8D-8DE4-AD32C3E7A03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4A17EC0-C4B4-4A98-BC7E-C07DA731859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BFAA9FA-3482-4C55-9BA4-80D56EB6B00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CF50962-473F-493F-8275-99602EAF489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701C16B-2ED9-407F-A088-A9F0CC25217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063563EE-D4BD-4C26-8C33-308DE1071174}"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CBF4152-B6AB-4F4A-AA04-E398F06020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338174-7FA8-482E-A72D-BC9992EF76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8031AFBB-0DBC-46EA-B905-9DDD62AA3511}"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763B9B48-95F2-4FFA-A2B4-8924BB200584}"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90F27877-614D-446F-917E-F84A41007C2D}"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1F450FE0-DA71-44C4-B5FE-040B63616834}"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7BEDFC56-2F11-42EA-B406-8575452F9D32}"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65BF58C6-3BE1-4D5B-A9EA-50D2E5650B95}"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BC018B20-7DF1-47F6-8EBD-F60E5D5C6D5C}"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63B3733C-9B0D-4FB6-BAB2-43FDB009C764}"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399BBD68-C5CA-4C5D-BC71-E098C1FA6FDF}"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DC62F77-73E4-4D24-9229-FEA5C1F1CFD9}"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A982DA-BCDA-439F-9E0E-7901A8191F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DFA8041B-EE74-4087-97B0-3D90E5D8219E}"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72200597-448F-41E3-B013-DADA66E8D2E1}"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533170E7-2928-4C86-B32D-2FCCE414550E}"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3F455B9C-D461-4242-970A-164F65549A11}"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9AC4A90F-5823-4820-8206-751AE6579AE7}"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94238A36-67A8-4CF1-A044-FA2516F02A12}"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4E7D5124-3392-4BBB-AB10-35F159707BCB}"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C606B1C1-6A00-495A-B540-2321184C286E}"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ED4FE8DE-B632-498C-A6B5-2D6407E9015D}"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CCB201D6-5339-4C0D-8C15-33CB2EE2234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052520-AD52-4B67-9826-3970D8072F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F7E154F3-2B3B-4013-8515-43AAB96F3F4F}"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E76AB297-3DCF-43D1-B493-06EE6D67C88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6293E4D4-C7A5-4F4A-946B-A48A5EC5AA6C}"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29BB7B72-452B-4E13-BA05-24EF1324EB73}"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48EDFAEA-C77C-4217-9B87-5E80B980DB6D}"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DFA06965-0EFE-48EC-8575-F17EF6C54BBF}"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026A29E3-DD65-4ABE-951B-831E103B35D8}"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A473C762-F878-4C9E-B056-3D73924F9541}"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77758285-302F-4B60-B06B-BE583AAEB7F8}"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13F170C3-1F4A-4910-9190-BBC456347A00}"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C93491-D77C-4AC3-97F9-4A4B64A11D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899A57F0-60CE-4065-A98B-88D11C686353}"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4281BB08-D312-4749-8182-2AF17698212E}"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B13834B0-A3D0-4E0C-A411-7A705C81525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6AF48995-59DB-4C85-9CCC-305B28B4153E}"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D299DE81-2AAB-441A-872F-E203454196A7}"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BBA77C7C-2888-4346-9263-EF1882993AEF}"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23F855D5-73D3-45D0-B393-49C72194CEDF}"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D147E8FD-6770-4569-A75E-3B0402BF259C}"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3E3940BE-B6C0-48A7-898C-BD5EF7684D05}"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082AD815-0B84-408A-8DCC-C12B54E98B58}"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177F2C-3E56-4858-A312-7B439D4A5D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37CCF890-6AC0-471E-B0DE-D9651BB62401}"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DE9EE267-D7F5-4C49-A053-539BD5F48CBE}"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D3E870A5-2719-4165-8EE1-030D941176E0}"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547656B3-1E47-482A-8662-88066B2838B5}"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E6949D04-6310-44E0-B9F6-5540F053130A}"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EFEF4134-8489-478A-B869-CB030FCBA2E2}"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AF81C643-6B93-4209-983E-8392C95DD7DC}"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CBF83690-7BEE-4B68-90CB-8F8097ADF307}"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FF0E7B5D-B15C-4A5D-9C45-9DA0E8415351}"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CA4E7FA6-56BC-4258-A041-EACF167245AC}"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0667BE-7B57-4CFC-B494-A9DFCD7FC89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7B7CCE16-F75E-4470-ACA7-7C1AC112D118}"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F6B510E4-2E82-4596-BCB5-46CC4FB247C3}"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30B60605-3CC0-470F-89D8-06072214F7DD}"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F730372E-C611-40CF-B9A4-A0CE77E6132F}"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0C561EFA-1A5D-41CD-8D04-630D8473B816}"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0CFD4EC0-B4D8-4B92-98A5-402EDCD4454D}"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230DAD8A-05C4-4792-922B-B2DA9690BC1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FCC0F302-EC5E-4F34-986E-060AA89917B6}"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4552988E-7CAE-46AF-B1E3-B5DE4E0F1AEB}"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6D5DD673-01B4-4273-BC4D-404BDE72D0CF}"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3159FD-72D5-4D3A-84B0-83527F345BF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34867FDD-5EF7-4F44-B869-150A7AC26762}"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5950B032-D40F-4BF1-9009-3C399325725A}"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65B3A979-C312-468D-AC57-C340E3B89526}"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26A896E2-120F-45EB-93D0-527D2B2E503D}"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439A4780-D545-4B03-950C-13EF8AB1666F}"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3DA201DE-FF73-4EA0-BC6F-CC819BC6B459}"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AFCAB9A1-FDB1-42F2-8857-6230E8CEC730}"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84B0582-CF6E-4FCF-B30D-7CE68EB4DED3}"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DB7F15BE-FACB-4EE8-8307-DE7DAC286257}"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52A00CB5-7383-416F-B5E6-1A85319A1CB0}"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35F1DFF-150F-46EB-8432-407A2E3412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274329A1-FA6D-4914-80B8-3C262849CCC6}"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10B78446-66CA-481B-AEA6-93B27C512C52}"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5D9FDE88-B34F-4598-B1AB-E8B4C5B01FED}"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4848B3CA-6559-4D69-9C00-9BE351ED9F6B}"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C94D7BFF-AE21-4BCE-BC38-BF413CAFDFCD}"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7D772E7D-1B55-4E53-9712-919754864A24}"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206C1C87-CEBC-4030-8C0C-8A26E5066D58}"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9F8F1925-EC2C-4416-8107-8C6FBD756BB1}"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11602E62-7224-4A8C-AB56-2886C298A7D6}"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EF7FFACA-9D3C-46BA-A7E3-FEC2F5CECAFF}"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6C0DD1-3C25-4FFF-B1AC-A1F6709AAF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2F38FC63-55A3-4176-A01F-76D10579C659}"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56DD1B67-3E36-429F-A0C6-7FB934C44CBA}"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92F88EB7-D9B2-49B0-9799-90E997965E2E}"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BE70D793-799B-4F93-8B62-23D586DF8ADA}"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30FC3380-2636-4C74-AE2D-0CDA736B45E5}"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5B531860-C755-4550-892B-1CC49E15BA63}"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C402DE99-86A3-45BF-A56D-16AF696BB68D}"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B493877E-B758-4C21-AAC9-7E231D979C10}"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5097B785-88F5-49CD-B8E8-AF24A1AEC66D}"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090F0E81-3002-4311-8F7B-A4A967C5D8CD}"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135191-F19E-413F-AA1C-9432190BAE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F5FE3216-48D4-485A-9640-FDE31DD1571C}"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1CFC8BA3-AA0D-4AE4-820F-C4A6F9A8552B}"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2BEFF90E-6405-4040-ADF6-ADF541CDA275}"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012A99FB-ADD6-4BA7-88BF-7F7DE4C2A591}"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795921CF-2AEA-4F64-9988-BF25DB87C8B4}"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1F321FD1-32AE-4C40-B849-99E2AC5635AA}"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EAA37463-2D7E-4FD5-8133-9410300E362E}"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3B36FA24-FBD2-47DA-A3B8-637F5C0079A6}"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DD24D0BC-1BCE-423C-9402-C2CCEBE81D87}"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091F7195-C7ED-4CA0-B152-9E41AAEDFE03}"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9BCF1F-CAF6-4F24-9CA2-CF532E52D81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0F72D5-0890-41AA-9E41-ED180203DC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3B789DE7-A1AB-43A1-8242-0A0E41D5C246}"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ED7CF41F-3B5C-44ED-A6F1-CAE3EBDCF981}"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FC8D57BC-2A64-4EAC-B8F2-3E18B821685F}"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42BF26DC-A8D7-4C95-924A-DB2AA8E565EC}"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F85EC14B-79F8-4AFF-B278-B103DE6617E2}"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4D0BE710-3F41-44C5-85DC-974F42772B45}"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1C66BB3F-0044-445C-BE85-97BDAF65A5B5}"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66851B11-89E4-4B25-A6F8-A910F465ECB2}"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77A1064E-8F31-450F-A693-756914170E0A}"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0C38F7CF-E31B-43FD-9648-C3F325D7C802}"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8F4038-A16E-4374-867E-BDD1420FED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D53FD17C-68CE-4932-A2BB-D30A47D2F7D9}"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8ECCD21B-8FFD-4023-9282-A45C27D50115}"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B7F22141-22D0-4740-A81D-CCB00F0E1829}"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1C3448B7-8670-4D1D-8888-FA90E9960161}"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1989005E-FF61-4ED0-8335-298FF7FD1944}"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8A43AF92-C696-4DAA-B4D2-949E4A445EFC}"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35728648-63AC-4DE0-BF65-6603978983AE}"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0442E6F8-5AF5-4E20-9A9F-C42FCFE30910}"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C14E4524-0784-4A42-8548-8AAF674549DB}"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875AD7B6-5B8A-4ECB-B3B4-73637B0A2450}"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5F9390-530A-4FD2-A1FF-0C9F15FA7F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90C62BFF-D7A2-4827-8521-08DCC65A5453}"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0344FC38-0088-4B20-9168-662829E45FB3}"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98EE6718-37B1-48A5-8761-7EB9CCCA24E7}"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1A572824-67B9-4E9A-9664-AE103ABA36AB}"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CC539F2E-0DD7-43A4-8031-8677B345DE47}"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08D308A3-5E31-4117-8E68-70B283F269B1}"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E8F3B1CA-5A70-4792-BE57-37074867D1F8}"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2935E009-35BA-413A-B77E-5BCEEC4BE496}"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66E4DFF6-0929-4368-B8D8-D917DFEB8A16}"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C815BC2F-3309-4526-9690-716F595747C4}"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49A19C-BB0F-4A48-85D3-50202FA193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00157898-1D1A-4B7E-8289-E33D05FF3C01}"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52EBD504-6BAE-4A3F-9A1D-1C96C8C0A6F7}"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4263D16B-614D-4C27-8D45-2C50667DF9BA}"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B7299A4F-18F1-4FC8-B61F-9BA743540395}"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4D6B9388-52C2-40A5-B864-A22E61584B3F}"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4DC6EF92-D003-4E4F-8B0C-EE1C4642B5EF}"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D7F398EA-75DD-4E8C-AE57-EE00625619E4}"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3F20FD4C-0547-43B9-A93E-74C9B9C787C0}"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52AB224B-FBE9-46D1-9D77-38F8095E4705}"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6466D8FD-A5CD-4EF5-A3E3-8E9F5DA92926}"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8AE03E-33A7-4160-92C6-26859C06FB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022B3278-FF3D-4DCF-A3BD-8ED75C51E477}"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26849842-C043-4F68-8C9B-2E58551C1CC4}"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E2152126-DC03-4932-97C3-6AD899933E13}"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2A429E8C-C37B-4BEB-8E88-5CAA2ACE4B6C}"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D11B569C-BA88-49B7-9122-64EF1028CD72}"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7A66E9D2-6325-485A-AF57-85C3F1489E50}"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64C407E2-6485-45D4-BCE1-294DB37C1593}"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054A2270-7671-4036-81A5-461E72A26FC3}"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462B88D1-CE80-4792-9EFB-30C303396FAB}"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25FEC96E-C124-477D-B634-770F2AB86BC8}"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07B79F-51B5-41BD-A220-04D2AAE7EE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6B75BAF6-9151-4990-847D-F02BA4DF6074}"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24B0C047-E3FA-4627-A5F7-2D41C04686DC}"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C771B3F2-94BC-46F0-96BC-2D0940A015FE}"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34FB5510-CFB1-4FE1-81F9-18782CEC63B5}"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1A4430B8-92EC-4333-8866-B70C49410BB2}"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1496DA73-7730-48B0-8D51-D4D28093C7AC}"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A5D4C1DF-F54D-47F2-9DD3-0A285F569615}"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310244F1-9887-4FB9-9289-83DE0889332A}"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59C5D05F-DD09-4B01-88F8-60A6BB922F40}"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0E3A29F9-59B0-4146-A46F-6D62F7AA6063}"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7F24E5-620A-48FD-A784-B0D1A54641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85A9EEB3-54C2-4F45-95D8-D3376410AD9C}"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9DEC33BA-75C1-411E-8011-04A35C0889EE}"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E16347B4-9124-4BB8-9AA3-F5801CDC2A68}"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F3A05C52-DF6A-4E14-9936-B3636F17662D}"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02DAFEED-7616-4A4F-88AD-BD5125283FC6}"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9B17D6C8-C0AF-488F-BEC6-54682A458A58}"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4DCF871D-DC15-48CD-A32D-B64F2FE6E2C0}"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1D83C692-7DA1-479C-A092-5368C21EA266}"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923A32B5-CCB0-4344-9B95-A00954B956FD}"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DB01DB09-B7AF-420F-83DF-CE714023BCCC}"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C90E470-4EE9-4549-AD24-992DB13012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A3A553DA-989B-4027-A4DF-47EC823ED6A5}"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94916A03-9144-4F79-9E49-83F065A69215}"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E3B1A841-B9E6-4EE9-BFF5-2F8120DD862B}"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461918E7-C0B8-44C8-A0B5-F97358A7210E}"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9DF5F865-92DF-46A8-8BBF-07CF00133957}"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548ACC36-C7AF-4207-A579-FFD61233AAE5}"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7B204AB9-4BB4-407C-AEBE-5ED8177EFDD8}"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7DD13A75-100F-414F-B2ED-A91A48415F16}"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0E5D26A6-E3A3-42CF-8AE5-0F5840A11EDE}"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85F7B1FA-D98B-49ED-ABB2-F493B0C94631}"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5ACA6D-74B4-4C98-8171-FF8CAE6607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46208A1B-AC6D-4E4C-BD03-E07CE0450DBD}"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21"/>
          </p:nvPr>
        </p:nvSpPr>
        <p:spPr/>
        <p:txBody>
          <a:bodyPr/>
          <a:p>
            <a:fld id="{4539B4BC-D22A-4F28-B8D7-689DDD9EC593}" type="slidenum">
              <a:t>&lt;#&gt;</a:t>
            </a:fld>
          </a:p>
        </p:txBody>
      </p:sp>
      <p:sp>
        <p:nvSpPr>
          <p:cNvPr id="4" name="PlaceHolder 3"/>
          <p:cNvSpPr>
            <a:spLocks noGrp="1"/>
          </p:cNvSpPr>
          <p:nvPr>
            <p:ph type="dt" idx="11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1A34E61B-D60D-4EB7-A768-1D843C21A3EC}"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C0402481-EB17-4823-832F-63BCD11AD36F}"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2EAC0838-22E7-4865-A984-92DF8A7E43A7}"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CD1228AC-9928-4596-97A2-E1FD1410ACE9}"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2ADBA284-CA85-45B6-ACC0-D73A45E4FBE9}"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9CDEFA64-564A-4B77-91EF-4F73E4F30D7C}"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EFE91E8B-AC5C-4CE8-8B84-113460EB3508}"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C3CC0779-5776-4283-9FDA-E2DF4FB6B833}"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D853D5D6-5C1B-474C-BAEB-CAC019E4849E}"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A1C81F97-2998-4649-95D2-61231A9748AF}"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21"/>
          </p:nvPr>
        </p:nvSpPr>
        <p:spPr/>
        <p:txBody>
          <a:bodyPr/>
          <a:p>
            <a:fld id="{E48E7B99-590A-42C4-8519-7D0F43AD16E3}" type="slidenum">
              <a:t>&lt;#&gt;</a:t>
            </a:fld>
          </a:p>
        </p:txBody>
      </p:sp>
      <p:sp>
        <p:nvSpPr>
          <p:cNvPr id="9" name="PlaceHolder 8"/>
          <p:cNvSpPr>
            <a:spLocks noGrp="1"/>
          </p:cNvSpPr>
          <p:nvPr>
            <p:ph type="dt" idx="11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21"/>
          </p:nvPr>
        </p:nvSpPr>
        <p:spPr/>
        <p:txBody>
          <a:bodyPr/>
          <a:p>
            <a:fld id="{369DBE5C-DE73-47C3-99BF-015E5E4F2B90}" type="slidenum">
              <a:t>&lt;#&gt;</a:t>
            </a:fld>
          </a:p>
        </p:txBody>
      </p:sp>
      <p:sp>
        <p:nvSpPr>
          <p:cNvPr id="11" name="PlaceHolder 10"/>
          <p:cNvSpPr>
            <a:spLocks noGrp="1"/>
          </p:cNvSpPr>
          <p:nvPr>
            <p:ph type="dt" idx="11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84F63EC6-D80C-4D59-8AD1-13F701B2BE12}" type="slidenum">
              <a:t>&lt;#&gt;</a:t>
            </a:fld>
          </a:p>
        </p:txBody>
      </p:sp>
      <p:sp>
        <p:nvSpPr>
          <p:cNvPr id="4" name="PlaceHolder 3"/>
          <p:cNvSpPr>
            <a:spLocks noGrp="1"/>
          </p:cNvSpPr>
          <p:nvPr>
            <p:ph type="dt" idx="12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2B8ABA9D-9CBF-46A6-81B3-053F3AF6FA69}"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A4ED7F08-A7A9-4A3F-B4B1-854BDF28D076}"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25EE1F0D-D74D-4741-AA0C-911F9377D1A1}"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68516F94-467A-459D-9919-974B6677BD93}"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067FE3AF-6F3F-478F-8866-73D608B8A6AD}"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A564C0AC-FFF8-4C34-A434-1BDCB0658A36}"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706FDB-C106-48AA-B0B3-ED3E7BEB53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A07A9A84-042B-4FEE-B649-CE6408AC8E9F}"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71E89C55-A29F-477B-9867-981AC0D162D7}"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2AC2E92A-A2E2-4A10-9D6A-F751E5225328}"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C55EE19A-A658-477D-BFF3-02E3B4DB47DF}"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80209B11-A98C-498B-8106-D718F2992A4B}" type="slidenum">
              <a:t>&lt;#&gt;</a:t>
            </a:fld>
          </a:p>
        </p:txBody>
      </p:sp>
      <p:sp>
        <p:nvSpPr>
          <p:cNvPr id="9" name="PlaceHolder 8"/>
          <p:cNvSpPr>
            <a:spLocks noGrp="1"/>
          </p:cNvSpPr>
          <p:nvPr>
            <p:ph type="dt" idx="12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96673C03-85DC-4656-8AEB-BA2E4A8DD599}" type="slidenum">
              <a:t>&lt;#&gt;</a:t>
            </a:fld>
          </a:p>
        </p:txBody>
      </p:sp>
      <p:sp>
        <p:nvSpPr>
          <p:cNvPr id="11" name="PlaceHolder 10"/>
          <p:cNvSpPr>
            <a:spLocks noGrp="1"/>
          </p:cNvSpPr>
          <p:nvPr>
            <p:ph type="dt" idx="12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7"/>
          </p:nvPr>
        </p:nvSpPr>
        <p:spPr/>
        <p:txBody>
          <a:bodyPr/>
          <a:p>
            <a:fld id="{68E61A5C-EB68-4396-839D-3A6DD38C42FB}" type="slidenum">
              <a:t>&lt;#&gt;</a:t>
            </a:fld>
          </a:p>
        </p:txBody>
      </p:sp>
      <p:sp>
        <p:nvSpPr>
          <p:cNvPr id="4" name="PlaceHolder 3"/>
          <p:cNvSpPr>
            <a:spLocks noGrp="1"/>
          </p:cNvSpPr>
          <p:nvPr>
            <p:ph type="dt" idx="125"/>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09D85E72-EDFB-4864-AC3B-7C0DB54A8377}"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D1E48010-1019-458C-AC30-0672BD3879EA}"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500BD243-6C0E-4CBF-AC8F-E943A36E5B66}"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0DACC90C-E22D-47DE-BDD9-A2921626203C}"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36E9DAE4-0A57-4C14-99ED-9833F2B597F6}"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9CB5CDD4-3256-4CC4-BD9F-87E04039C43B}"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3ED6FF58-3350-4E6A-8AF8-F98A3AF90119}"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5CFD450A-4B4E-4B24-AD02-12DA237A115D}"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15DC0792-0ACF-4977-B2CD-786001CB686F}"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C099BB31-E94E-4F51-A8F4-B60D9B331EDA}"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7"/>
          </p:nvPr>
        </p:nvSpPr>
        <p:spPr/>
        <p:txBody>
          <a:bodyPr/>
          <a:p>
            <a:fld id="{1EA47AF2-B5F0-4AB8-ACBE-04A8380EC921}" type="slidenum">
              <a:t>&lt;#&gt;</a:t>
            </a:fld>
          </a:p>
        </p:txBody>
      </p:sp>
      <p:sp>
        <p:nvSpPr>
          <p:cNvPr id="9" name="PlaceHolder 8"/>
          <p:cNvSpPr>
            <a:spLocks noGrp="1"/>
          </p:cNvSpPr>
          <p:nvPr>
            <p:ph type="dt" idx="125"/>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7"/>
          </p:nvPr>
        </p:nvSpPr>
        <p:spPr/>
        <p:txBody>
          <a:bodyPr/>
          <a:p>
            <a:fld id="{53BF16F7-36A8-4F3F-A3EA-A5A7BC17AB66}" type="slidenum">
              <a:t>&lt;#&gt;</a:t>
            </a:fld>
          </a:p>
        </p:txBody>
      </p:sp>
      <p:sp>
        <p:nvSpPr>
          <p:cNvPr id="11" name="PlaceHolder 10"/>
          <p:cNvSpPr>
            <a:spLocks noGrp="1"/>
          </p:cNvSpPr>
          <p:nvPr>
            <p:ph type="dt" idx="125"/>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30"/>
          </p:nvPr>
        </p:nvSpPr>
        <p:spPr/>
        <p:txBody>
          <a:bodyPr/>
          <a:p>
            <a:fld id="{AD0CACA5-790D-4BBF-983C-2F4466A249FB}" type="slidenum">
              <a:t>&lt;#&gt;</a:t>
            </a:fld>
          </a:p>
        </p:txBody>
      </p:sp>
      <p:sp>
        <p:nvSpPr>
          <p:cNvPr id="4" name="PlaceHolder 3"/>
          <p:cNvSpPr>
            <a:spLocks noGrp="1"/>
          </p:cNvSpPr>
          <p:nvPr>
            <p:ph type="dt" idx="128"/>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86594FD1-4517-4504-9A11-0E780EF7721B}"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EE11A6EC-5E2B-4218-B10B-F6CB54C7EF32}"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A5C55831-867D-4DCD-B167-331D914B1436}"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11C2630B-F1A4-486F-8F68-35881F482EF8}"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7EACB295-88A6-4BCC-8C9E-368517A9CBF5}"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33F50834-148C-4812-912C-D626E9713431}"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DF46F180-123E-4832-A319-1F6371E39235}"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751AE7DF-EECE-4FD8-8595-2DE137913DD8}"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0DB73CFA-B875-4DC2-90CE-7297D726F911}"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7CE092AF-0D2E-4741-B2B7-38F942C1F39B}"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30"/>
          </p:nvPr>
        </p:nvSpPr>
        <p:spPr/>
        <p:txBody>
          <a:bodyPr/>
          <a:p>
            <a:fld id="{0C091A0A-AF91-48BB-A0E1-A09474DAE0C0}" type="slidenum">
              <a:t>&lt;#&gt;</a:t>
            </a:fld>
          </a:p>
        </p:txBody>
      </p:sp>
      <p:sp>
        <p:nvSpPr>
          <p:cNvPr id="9" name="PlaceHolder 8"/>
          <p:cNvSpPr>
            <a:spLocks noGrp="1"/>
          </p:cNvSpPr>
          <p:nvPr>
            <p:ph type="dt" idx="128"/>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30"/>
          </p:nvPr>
        </p:nvSpPr>
        <p:spPr/>
        <p:txBody>
          <a:bodyPr/>
          <a:p>
            <a:fld id="{2641D9AD-731E-4841-8336-D987DF3DF318}" type="slidenum">
              <a:t>&lt;#&gt;</a:t>
            </a:fld>
          </a:p>
        </p:txBody>
      </p:sp>
      <p:sp>
        <p:nvSpPr>
          <p:cNvPr id="11" name="PlaceHolder 10"/>
          <p:cNvSpPr>
            <a:spLocks noGrp="1"/>
          </p:cNvSpPr>
          <p:nvPr>
            <p:ph type="dt" idx="128"/>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3"/>
          </p:nvPr>
        </p:nvSpPr>
        <p:spPr/>
        <p:txBody>
          <a:bodyPr/>
          <a:p>
            <a:fld id="{894BE15C-C4DB-46C8-939D-BCCB27848133}" type="slidenum">
              <a:t>&lt;#&gt;</a:t>
            </a:fld>
          </a:p>
        </p:txBody>
      </p:sp>
      <p:sp>
        <p:nvSpPr>
          <p:cNvPr id="4" name="PlaceHolder 3"/>
          <p:cNvSpPr>
            <a:spLocks noGrp="1"/>
          </p:cNvSpPr>
          <p:nvPr>
            <p:ph type="dt" idx="13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BD224DEB-84C3-439A-815C-BBE7299420FB}"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83F47487-8A4A-47C5-B9C7-1C47C2223CC2}"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0F9C77DF-1A40-43E4-98AC-668D69B354E6}"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389196B4-0AE6-46AD-9C10-8944813F1739}"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0764EEDC-F501-4003-B52B-C73CB591D661}"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0E854248-C09D-4706-9A5E-CD22B7FC5393}"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705F68B4-3C27-4AC5-89AC-6ABF5C59C232}"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4F9AF3D4-43BF-4B8A-8EB8-EB9A30CA4C57}"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7B5E146B-63C8-4228-B970-D6CBA1E80CD7}"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D2EF5AA1-7F06-4BB2-9DE3-66AB8A9FA107}"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3"/>
          </p:nvPr>
        </p:nvSpPr>
        <p:spPr/>
        <p:txBody>
          <a:bodyPr/>
          <a:p>
            <a:fld id="{AC2D39FD-7DF2-4E04-A606-46B70E1C0305}" type="slidenum">
              <a:t>&lt;#&gt;</a:t>
            </a:fld>
          </a:p>
        </p:txBody>
      </p:sp>
      <p:sp>
        <p:nvSpPr>
          <p:cNvPr id="9" name="PlaceHolder 8"/>
          <p:cNvSpPr>
            <a:spLocks noGrp="1"/>
          </p:cNvSpPr>
          <p:nvPr>
            <p:ph type="dt" idx="13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4601CCBB-E0ED-4C0E-841C-314C676EA649}"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3"/>
          </p:nvPr>
        </p:nvSpPr>
        <p:spPr/>
        <p:txBody>
          <a:bodyPr/>
          <a:p>
            <a:fld id="{3DFEC3A2-8472-44A6-AF9C-45DA55AD26E7}" type="slidenum">
              <a:t>&lt;#&gt;</a:t>
            </a:fld>
          </a:p>
        </p:txBody>
      </p:sp>
      <p:sp>
        <p:nvSpPr>
          <p:cNvPr id="11" name="PlaceHolder 10"/>
          <p:cNvSpPr>
            <a:spLocks noGrp="1"/>
          </p:cNvSpPr>
          <p:nvPr>
            <p:ph type="dt" idx="13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6"/>
          </p:nvPr>
        </p:nvSpPr>
        <p:spPr/>
        <p:txBody>
          <a:bodyPr/>
          <a:p>
            <a:fld id="{155B7713-0F0E-44C8-8F22-2C9B20C3575F}" type="slidenum">
              <a:t>&lt;#&gt;</a:t>
            </a:fld>
          </a:p>
        </p:txBody>
      </p:sp>
      <p:sp>
        <p:nvSpPr>
          <p:cNvPr id="4" name="PlaceHolder 3"/>
          <p:cNvSpPr>
            <a:spLocks noGrp="1"/>
          </p:cNvSpPr>
          <p:nvPr>
            <p:ph type="dt" idx="134"/>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CC74CB39-5845-41B6-8812-8E3BB972FBD5}"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BA36ED50-A0FC-4620-854A-02BB40580899}"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707276CF-229F-4B77-8A2C-688B4E7EDD8E}"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07B6EFE0-D591-40B2-AEF7-642D6841F213}"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9EB38800-DC98-403C-BE2B-78F32B72C2E2}"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772CB708-E6CD-4B86-833D-EDC6C23F18F7}"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A8D46B77-203F-48A2-940F-F2A65AA9BF0D}"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B5938640-8229-45CC-9C89-366A0B3E1156}"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EEB9793B-8E35-4204-8902-E7159817130E}"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9ACEB4EE-EA89-4208-BB8C-F0A4DF5EE934}"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6"/>
          </p:nvPr>
        </p:nvSpPr>
        <p:spPr/>
        <p:txBody>
          <a:bodyPr/>
          <a:p>
            <a:fld id="{D3A39134-4446-4603-8564-3397AABFE439}" type="slidenum">
              <a:t>&lt;#&gt;</a:t>
            </a:fld>
          </a:p>
        </p:txBody>
      </p:sp>
      <p:sp>
        <p:nvSpPr>
          <p:cNvPr id="9" name="PlaceHolder 8"/>
          <p:cNvSpPr>
            <a:spLocks noGrp="1"/>
          </p:cNvSpPr>
          <p:nvPr>
            <p:ph type="dt" idx="134"/>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6"/>
          </p:nvPr>
        </p:nvSpPr>
        <p:spPr/>
        <p:txBody>
          <a:bodyPr/>
          <a:p>
            <a:fld id="{6E033684-45F8-4AE0-B5BE-C58320BE9EE9}" type="slidenum">
              <a:t>&lt;#&gt;</a:t>
            </a:fld>
          </a:p>
        </p:txBody>
      </p:sp>
      <p:sp>
        <p:nvSpPr>
          <p:cNvPr id="11" name="PlaceHolder 10"/>
          <p:cNvSpPr>
            <a:spLocks noGrp="1"/>
          </p:cNvSpPr>
          <p:nvPr>
            <p:ph type="dt" idx="134"/>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CC798214-5EA2-42B9-BCC7-35F5914DACFA}" type="slidenum">
              <a:t>&lt;#&gt;</a:t>
            </a:fld>
          </a:p>
        </p:txBody>
      </p:sp>
      <p:sp>
        <p:nvSpPr>
          <p:cNvPr id="4" name="PlaceHolder 3"/>
          <p:cNvSpPr>
            <a:spLocks noGrp="1"/>
          </p:cNvSpPr>
          <p:nvPr>
            <p:ph type="dt" idx="137"/>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089AE26A-DCA3-4D91-A739-05722615E22A}"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6C088679-D7F2-4AB5-96DB-04F5475DB2C5}"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26434829-AC99-41C8-983A-7115182DCC04}"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7FE3516F-215D-403C-B258-34A36696DE54}"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62D613B8-29B4-4DA4-87F9-5FA9D6AF177D}"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7C4E55A3-2FDA-442A-946B-93577EBA28DA}"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47E96175-D5F5-44D2-9410-6E4362BCB7D3}"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E5AC9995-D9D8-4367-AB41-3A28CD938A79}"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E29F930A-C186-419E-9AF2-A17D64A53C00}"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2CCD89C4-CAF0-4F1B-A585-9B7D2088008E}"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D24CC145-9DCD-46AC-A9E4-E909A0B772F9}" type="slidenum">
              <a:t>&lt;#&gt;</a:t>
            </a:fld>
          </a:p>
        </p:txBody>
      </p:sp>
      <p:sp>
        <p:nvSpPr>
          <p:cNvPr id="9" name="PlaceHolder 8"/>
          <p:cNvSpPr>
            <a:spLocks noGrp="1"/>
          </p:cNvSpPr>
          <p:nvPr>
            <p:ph type="dt" idx="137"/>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0FE32F24-8B9A-49E0-BCFA-1F207F50F215}" type="slidenum">
              <a:t>&lt;#&gt;</a:t>
            </a:fld>
          </a:p>
        </p:txBody>
      </p:sp>
      <p:sp>
        <p:nvSpPr>
          <p:cNvPr id="11" name="PlaceHolder 10"/>
          <p:cNvSpPr>
            <a:spLocks noGrp="1"/>
          </p:cNvSpPr>
          <p:nvPr>
            <p:ph type="dt" idx="13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F95B6EE1-70E1-4E9B-9D18-4A1A11EE829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7A8E8E85-F35B-40B6-8646-6AD0181E01B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3697CD9F-0162-4558-AB78-C8111304E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3012E1-9B68-4031-BAE4-1325D68EDEB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83D79D5F-3C27-420A-AFB7-56333CC2DD8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DD66ED8-9204-449A-A9DA-FF8505A1DDF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2074C7E-9D00-47A3-A6E5-5988ABFBCB5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382A88F-AFC8-4BC4-AC53-4F83CA12BC1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E7BFC46-E959-4319-8323-2A048DDC1DA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0CE3BF2-41DD-4649-BFFD-1A2268A8C49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01F5D2-39DF-4804-9E90-10676102FE9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92903D4-A3A6-45BF-90D3-FB0B53B42EE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63411A9-68C9-47D3-BFE3-C600508327F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C52D58C-0C17-4C31-AD03-B8069B6AD61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A1D728F-0CEE-4EF8-B836-AE6A2D9298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72F5C71-1B03-4156-94CA-086B9721809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D48E834-A562-4860-8704-0EF4A7E0E84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246C986-DA16-4C9D-B9A7-1039B538761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14B46F4-5093-43E3-8B64-86B8B4D456F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CE1F5B3-4D42-4789-8EB7-FE8539645BC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D4E6EAC-DBAE-4A3C-B338-69D585879B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B899011-1EAD-443D-89FF-B5F925126DE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094A275-7EC8-41BD-9F03-1C8E18B048A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76D4E52-495F-4175-8737-CE5EF0CE673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4904590-77F9-4204-8228-91BFBE00823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229B56-1918-48E7-B5E8-8040444F6ED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5B58C3-BC9B-4C82-BCED-54A9E3D1C6F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964CBCC-FDB5-4BD2-8CA2-650A37E3D3D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136876C-5491-40FE-8953-EA4CBCBE51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3C4CE30-1914-4169-833C-77EC9F44ADA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A34C797-0D88-4F55-A6F3-611B772E91F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AE8F8E4-2EE4-4773-8836-D1FF60989EA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27E7826-4E7F-4DE0-9D1F-4DFA449B3DF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4CB3B49-5CEC-4009-80A1-9DDA98F9DEC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5103896-21D7-4326-A704-8CA8D57EB5B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3BBC80D-39C1-42BF-A029-4CEF006213D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E1A6B0-0131-4DA9-9734-8FBE907CF1C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68FC0BE-D848-4705-ACB5-D567A280E72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A79A9A1-812C-4F25-A3DF-AAA9F9033E7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9BC879C-DDA0-42AA-8713-D23D3089E86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A2212D0-4200-4FFA-BD02-660CA26E48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6E6C0EE-9F55-40A2-945D-05860500942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BBC297C-8126-478D-A99E-804EA867BCB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7F76B59-AD32-4558-A2A7-21CE73755A7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D05D052-68A9-4D4D-AFAC-EE16C4923AB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04A5752-1B6C-454D-BAE1-E093C8685C3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F291511-CBAF-436C-A4C5-1427AF636EB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ufetat_RÅD_slidemaster_orig"/>
          <p:cNvPicPr/>
          <p:nvPr/>
        </p:nvPicPr>
        <p:blipFill>
          <a:blip r:embed="rId2"/>
          <a:stretch/>
        </p:blipFill>
        <p:spPr>
          <a:xfrm>
            <a:off x="-38160" y="-19080"/>
            <a:ext cx="9182160" cy="6877080"/>
          </a:xfrm>
          <a:prstGeom prst="rect">
            <a:avLst/>
          </a:prstGeom>
          <a:ln w="0">
            <a:noFill/>
          </a:ln>
        </p:spPr>
      </p:pic>
      <p:sp>
        <p:nvSpPr>
          <p:cNvPr id="1" name="Rectangle 3"/>
          <p:cNvSpPr/>
          <p:nvPr/>
        </p:nvSpPr>
        <p:spPr>
          <a:xfrm>
            <a:off x="0" y="654516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ny-logo-Bufetat"/>
          <p:cNvPicPr/>
          <p:nvPr/>
        </p:nvPicPr>
        <p:blipFill>
          <a:blip r:embed="rId3"/>
          <a:stretch/>
        </p:blipFill>
        <p:spPr>
          <a:xfrm>
            <a:off x="8211960" y="247680"/>
            <a:ext cx="625680" cy="585720"/>
          </a:xfrm>
          <a:prstGeom prst="rect">
            <a:avLst/>
          </a:prstGeom>
          <a:ln w="0">
            <a:noFill/>
          </a:ln>
        </p:spPr>
      </p:pic>
      <p:sp>
        <p:nvSpPr>
          <p:cNvPr id="3"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3"/>
          <p:cNvSpPr>
            <a:spLocks noGrp="1"/>
          </p:cNvSpPr>
          <p:nvPr>
            <p:ph type="sldNum" idx="1"/>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de  </a:t>
            </a:r>
            <a:fld id="{02BA6EAD-4AE4-4C36-A9D6-1D828AF8027A}"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hild care system i Norway - 07.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9D6B-3F84-4714-A5C1-BC71C501447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6"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A9FA-1E47-49E0-B4CC-E366F2CC4B7B}"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6FAF-B7AC-41A7-8C86-2BA301510D8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8"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5294-F821-4F19-8C2D-7EB9DD6B447B}"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9" name="PlaceHolder 3"/>
          <p:cNvSpPr>
            <a:spLocks noGrp="1"/>
          </p:cNvSpPr>
          <p:nvPr>
            <p:ph type="dt" idx="3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4"/>
          <p:cNvSpPr>
            <a:spLocks noGrp="1"/>
          </p:cNvSpPr>
          <p:nvPr>
            <p:ph type="ftr" idx="3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B1C3-B37A-4D29-9E5A-76F6AEB5A51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0"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4"/>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E0AD-2954-47AB-BAA2-D0A479340BE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1" name="PlaceHolder 3"/>
          <p:cNvSpPr>
            <a:spLocks noGrp="1"/>
          </p:cNvSpPr>
          <p:nvPr>
            <p:ph type="dt" idx="4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4"/>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4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4D0C-4668-4B21-A1AE-401B6653665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2" name="PlaceHolder 3"/>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4"/>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5"/>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9C31-3A5D-477B-83A3-685208282D8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178B-BE7B-4663-A315-4E935B1945D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4" name="PlaceHolder 3"/>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4"/>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5"/>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AFD0-E173-40B9-883E-D63B789A1AC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F070-A17B-4DDC-B023-8CAD60FA041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5"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5"/>
          <p:cNvSpPr>
            <a:spLocks noGrp="1"/>
          </p:cNvSpPr>
          <p:nvPr>
            <p:ph type="sldNum" idx="5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5A9F-9204-468F-A566-16B43956A47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6" name="PlaceHolder 3"/>
          <p:cNvSpPr>
            <a:spLocks noGrp="1"/>
          </p:cNvSpPr>
          <p:nvPr>
            <p:ph type="dt" idx="5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4"/>
          <p:cNvSpPr>
            <a:spLocks noGrp="1"/>
          </p:cNvSpPr>
          <p:nvPr>
            <p:ph type="ftr" idx="6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5"/>
          <p:cNvSpPr>
            <a:spLocks noGrp="1"/>
          </p:cNvSpPr>
          <p:nvPr>
            <p:ph type="sldNum" idx="6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508C-5ABA-4C24-A48D-F16E35A2D06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7" name="PlaceHolder 3"/>
          <p:cNvSpPr>
            <a:spLocks noGrp="1"/>
          </p:cNvSpPr>
          <p:nvPr>
            <p:ph type="dt" idx="6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PlaceHolder 4"/>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5"/>
          <p:cNvSpPr>
            <a:spLocks noGrp="1"/>
          </p:cNvSpPr>
          <p:nvPr>
            <p:ph type="sldNum" idx="6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09E1-1EA8-4CA7-8DE3-144DBB59C34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8" name="PlaceHolder 3"/>
          <p:cNvSpPr>
            <a:spLocks noGrp="1"/>
          </p:cNvSpPr>
          <p:nvPr>
            <p:ph type="dt" idx="6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4"/>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5"/>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9DDC-2DE2-414C-B9CF-4BB361AFA33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9" name="PlaceHolder 3"/>
          <p:cNvSpPr>
            <a:spLocks noGrp="1"/>
          </p:cNvSpPr>
          <p:nvPr>
            <p:ph type="dt" idx="6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7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2EB7-CAD6-4C2D-AC61-50A9923A625B}"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0" name="PlaceHolder 3"/>
          <p:cNvSpPr>
            <a:spLocks noGrp="1"/>
          </p:cNvSpPr>
          <p:nvPr>
            <p:ph type="dt" idx="7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7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7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A1C9-9373-42FA-8400-362E2C8A778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1" name="PlaceHolder 3"/>
          <p:cNvSpPr>
            <a:spLocks noGrp="1"/>
          </p:cNvSpPr>
          <p:nvPr>
            <p:ph type="dt" idx="7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7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6ECA-E7E3-4DBB-914E-49604C3A28D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dt" idx="7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4"/>
          <p:cNvSpPr>
            <a:spLocks noGrp="1"/>
          </p:cNvSpPr>
          <p:nvPr>
            <p:ph type="ftr" idx="7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5"/>
          <p:cNvSpPr>
            <a:spLocks noGrp="1"/>
          </p:cNvSpPr>
          <p:nvPr>
            <p:ph type="sldNum" idx="7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D4D9-CF73-4C44-8D02-BED6F45D544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8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PlaceHolder 4"/>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PlaceHolder 5"/>
          <p:cNvSpPr>
            <a:spLocks noGrp="1"/>
          </p:cNvSpPr>
          <p:nvPr>
            <p:ph type="sldNum" idx="8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D3F2-F050-496A-B03E-21BFAF2D40E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4" name="PlaceHolder 3"/>
          <p:cNvSpPr>
            <a:spLocks noGrp="1"/>
          </p:cNvSpPr>
          <p:nvPr>
            <p:ph type="dt" idx="8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PlaceHolder 4"/>
          <p:cNvSpPr>
            <a:spLocks noGrp="1"/>
          </p:cNvSpPr>
          <p:nvPr>
            <p:ph type="ftr" idx="8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PlaceHolder 5"/>
          <p:cNvSpPr>
            <a:spLocks noGrp="1"/>
          </p:cNvSpPr>
          <p:nvPr>
            <p:ph type="sldNum" idx="8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C804-754F-47AC-B5DD-3133F317823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DD48-168F-4963-BC47-1287502754D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5" name="PlaceHolder 3"/>
          <p:cNvSpPr>
            <a:spLocks noGrp="1"/>
          </p:cNvSpPr>
          <p:nvPr>
            <p:ph type="dt" idx="8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PlaceHolder 4"/>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PlaceHolder 5"/>
          <p:cNvSpPr>
            <a:spLocks noGrp="1"/>
          </p:cNvSpPr>
          <p:nvPr>
            <p:ph type="sldNum" idx="8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D70B-05CE-4FF0-8FFE-668C92F2C1C7}"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6" name="PlaceHolder 3"/>
          <p:cNvSpPr>
            <a:spLocks noGrp="1"/>
          </p:cNvSpPr>
          <p:nvPr>
            <p:ph type="dt" idx="8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9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9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8D55-FD91-4455-B0A2-C8A6AD0D880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7"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PlaceHolder 5"/>
          <p:cNvSpPr>
            <a:spLocks noGrp="1"/>
          </p:cNvSpPr>
          <p:nvPr>
            <p:ph type="sldNum" idx="9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FF4F-9524-4CA6-B76F-6059DECD7DE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8"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PlaceHolder 5"/>
          <p:cNvSpPr>
            <a:spLocks noGrp="1"/>
          </p:cNvSpPr>
          <p:nvPr>
            <p:ph type="sldNum" idx="9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8F65-39D7-4080-ACD0-6E6642F04BC7}"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9"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5"/>
          <p:cNvSpPr>
            <a:spLocks noGrp="1"/>
          </p:cNvSpPr>
          <p:nvPr>
            <p:ph type="sldNum" idx="10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F562-04C6-4DDF-8643-5012ADB354D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0"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PlaceHolder 4"/>
          <p:cNvSpPr>
            <a:spLocks noGrp="1"/>
          </p:cNvSpPr>
          <p:nvPr>
            <p:ph type="ftr" idx="10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PlaceHolder 5"/>
          <p:cNvSpPr>
            <a:spLocks noGrp="1"/>
          </p:cNvSpPr>
          <p:nvPr>
            <p:ph type="sldNum" idx="10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E396-933F-4D9F-8F60-6C3D028A261D}"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1"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PlaceHolder 5"/>
          <p:cNvSpPr>
            <a:spLocks noGrp="1"/>
          </p:cNvSpPr>
          <p:nvPr>
            <p:ph type="sldNum" idx="10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34E0-CDB4-40D7-A92E-1B8C9C1C5E4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2"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C618-B80F-42C6-ABE5-7A8B047E980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3"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5"/>
          <p:cNvSpPr>
            <a:spLocks noGrp="1"/>
          </p:cNvSpPr>
          <p:nvPr>
            <p:ph type="sldNum" idx="1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665E-0C67-482B-8B78-C224534C077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4" name="PlaceHolder 3"/>
          <p:cNvSpPr>
            <a:spLocks noGrp="1"/>
          </p:cNvSpPr>
          <p:nvPr>
            <p:ph type="dt" idx="1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4"/>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PlaceHolder 5"/>
          <p:cNvSpPr>
            <a:spLocks noGrp="1"/>
          </p:cNvSpPr>
          <p:nvPr>
            <p:ph type="sldNum" idx="1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A641-8E6D-45A2-B672-E3FA7F1A4D9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0CD2-BA13-46B9-8B38-9F34AFAC5D0B}"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5"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PlaceHolder 5"/>
          <p:cNvSpPr>
            <a:spLocks noGrp="1"/>
          </p:cNvSpPr>
          <p:nvPr>
            <p:ph type="sldNum" idx="1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B39D-BE29-401D-85D4-485DDBF1497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6" name="PlaceHolder 3"/>
          <p:cNvSpPr>
            <a:spLocks noGrp="1"/>
          </p:cNvSpPr>
          <p:nvPr>
            <p:ph type="dt" idx="1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PlaceHolder 4"/>
          <p:cNvSpPr>
            <a:spLocks noGrp="1"/>
          </p:cNvSpPr>
          <p:nvPr>
            <p:ph type="ftr" idx="1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PlaceHolder 5"/>
          <p:cNvSpPr>
            <a:spLocks noGrp="1"/>
          </p:cNvSpPr>
          <p:nvPr>
            <p:ph type="sldNum" idx="1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F85F-18BA-4E0A-A52B-D63C134A14F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7" name="PlaceHolder 3"/>
          <p:cNvSpPr>
            <a:spLocks noGrp="1"/>
          </p:cNvSpPr>
          <p:nvPr>
            <p:ph type="dt" idx="1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PlaceHolder 4"/>
          <p:cNvSpPr>
            <a:spLocks noGrp="1"/>
          </p:cNvSpPr>
          <p:nvPr>
            <p:ph type="ftr" idx="1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BCA5-512B-49FB-A19F-0F82560CD2A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8" name="PlaceHolder 3"/>
          <p:cNvSpPr>
            <a:spLocks noGrp="1"/>
          </p:cNvSpPr>
          <p:nvPr>
            <p:ph type="dt" idx="1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PlaceHolder 4"/>
          <p:cNvSpPr>
            <a:spLocks noGrp="1"/>
          </p:cNvSpPr>
          <p:nvPr>
            <p:ph type="ftr" idx="1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PlaceHolder 5"/>
          <p:cNvSpPr>
            <a:spLocks noGrp="1"/>
          </p:cNvSpPr>
          <p:nvPr>
            <p:ph type="sldNum" idx="1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9095-5131-4669-B0CA-DCC98DEE348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9" name="PlaceHolder 3"/>
          <p:cNvSpPr>
            <a:spLocks noGrp="1"/>
          </p:cNvSpPr>
          <p:nvPr>
            <p:ph type="dt" idx="1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PlaceHolder 4"/>
          <p:cNvSpPr>
            <a:spLocks noGrp="1"/>
          </p:cNvSpPr>
          <p:nvPr>
            <p:ph type="ftr" idx="1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PlaceHolder 5"/>
          <p:cNvSpPr>
            <a:spLocks noGrp="1"/>
          </p:cNvSpPr>
          <p:nvPr>
            <p:ph type="sldNum" idx="1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B114-073D-4105-A671-FA9646A6083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10" name="PlaceHolder 3"/>
          <p:cNvSpPr>
            <a:spLocks noGrp="1"/>
          </p:cNvSpPr>
          <p:nvPr>
            <p:ph type="dt" idx="1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PlaceHolder 4"/>
          <p:cNvSpPr>
            <a:spLocks noGrp="1"/>
          </p:cNvSpPr>
          <p:nvPr>
            <p:ph type="ftr" idx="1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PlaceHolder 5"/>
          <p:cNvSpPr>
            <a:spLocks noGrp="1"/>
          </p:cNvSpPr>
          <p:nvPr>
            <p:ph type="sldNum" idx="1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7DD0-F763-4813-87A4-0CFDF7DBBE8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1" name="PlaceHolder 3"/>
          <p:cNvSpPr>
            <a:spLocks noGrp="1"/>
          </p:cNvSpPr>
          <p:nvPr>
            <p:ph type="dt" idx="1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PlaceHolder 4"/>
          <p:cNvSpPr>
            <a:spLocks noGrp="1"/>
          </p:cNvSpPr>
          <p:nvPr>
            <p:ph type="ftr" idx="1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PlaceHolder 5"/>
          <p:cNvSpPr>
            <a:spLocks noGrp="1"/>
          </p:cNvSpPr>
          <p:nvPr>
            <p:ph type="sldNum" idx="1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918C-D645-4877-ABB8-FD4A0A5A1A7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92" name="PlaceHolder 3"/>
          <p:cNvSpPr>
            <a:spLocks noGrp="1"/>
          </p:cNvSpPr>
          <p:nvPr>
            <p:ph type="dt" idx="1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PlaceHolder 4"/>
          <p:cNvSpPr>
            <a:spLocks noGrp="1"/>
          </p:cNvSpPr>
          <p:nvPr>
            <p:ph type="ftr" idx="1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PlaceHolder 5"/>
          <p:cNvSpPr>
            <a:spLocks noGrp="1"/>
          </p:cNvSpPr>
          <p:nvPr>
            <p:ph type="sldNum" idx="1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647A-342D-40AE-90EF-3449973EAF7D}"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Bufetat_RÅD_titlemaster_orig"/>
          <p:cNvPicPr/>
          <p:nvPr/>
        </p:nvPicPr>
        <p:blipFill>
          <a:blip r:embed="rId2"/>
          <a:stretch/>
        </p:blipFill>
        <p:spPr>
          <a:xfrm>
            <a:off x="-31680" y="-9360"/>
            <a:ext cx="9182160" cy="6876720"/>
          </a:xfrm>
          <a:prstGeom prst="rect">
            <a:avLst/>
          </a:prstGeom>
          <a:ln w="0">
            <a:noFill/>
          </a:ln>
        </p:spPr>
      </p:pic>
      <p:sp>
        <p:nvSpPr>
          <p:cNvPr id="167" name="Rectangle 5"/>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8" descr="ny-logo-Bufetat"/>
          <p:cNvPicPr/>
          <p:nvPr/>
        </p:nvPicPr>
        <p:blipFill>
          <a:blip r:embed="rId3"/>
          <a:stretch/>
        </p:blipFill>
        <p:spPr>
          <a:xfrm>
            <a:off x="316080" y="216000"/>
            <a:ext cx="911160" cy="853920"/>
          </a:xfrm>
          <a:prstGeom prst="rect">
            <a:avLst/>
          </a:prstGeom>
          <a:ln w="0">
            <a:noFill/>
          </a:ln>
        </p:spPr>
      </p:pic>
      <p:sp>
        <p:nvSpPr>
          <p:cNvPr id="169"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0" name="PlaceHolder 2"/>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1" name="PlaceHolder 3"/>
          <p:cNvSpPr>
            <a:spLocks noGrp="1"/>
          </p:cNvSpPr>
          <p:nvPr>
            <p:ph type="sldNum" idx="12"/>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de  </a:t>
            </a:r>
            <a:fld id="{5A2602AF-AE13-4526-8075-5F74517ABA88}"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72" name="PlaceHolder 4"/>
          <p:cNvSpPr>
            <a:spLocks noGrp="1"/>
          </p:cNvSpPr>
          <p:nvPr>
            <p:ph type="ftr" idx="13"/>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hild care system i Norway - 07.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1"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3A70-EEDF-4D82-8DB7-199A89607C1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2E98-2478-4F15-9AAC-5AC77E7B714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3"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719C-16D2-45FA-B5E3-13582C60D537}"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5BC4-0D58-49A9-A7F6-B1692142D02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fafo.no/" TargetMode="External"/><Relationship Id="rId2" Type="http://schemas.openxmlformats.org/officeDocument/2006/relationships/hyperlink" Target="http://www.uni.no/" TargetMode="External"/><Relationship Id="rId3" Type="http://schemas.openxmlformats.org/officeDocument/2006/relationships/hyperlink" Target="http://www.atferdssenteret.no/" TargetMode="External"/><Relationship Id="rId4" Type="http://schemas.openxmlformats.org/officeDocument/2006/relationships/hyperlink" Target="http://www.nova.no/"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24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6.wmf"/><Relationship Id="rId4" Type="http://schemas.openxmlformats.org/officeDocument/2006/relationships/slideLayout" Target="../slideLayouts/slideLayout5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fosterhjem.no/"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ufetat.no/barnevern/familieraad/"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title"/>
          </p:nvPr>
        </p:nvSpPr>
        <p:spPr>
          <a:xfrm>
            <a:off x="755640" y="2707920"/>
            <a:ext cx="7772400" cy="35290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introduction to the</a:t>
            </a:r>
            <a:br>
              <a:rPr sz="2800"/>
            </a:br>
            <a:br>
              <a:rPr sz="2800"/>
            </a:br>
            <a:r>
              <a:rPr b="1" lang="en-GB" sz="2800" spc="-1" strike="noStrike">
                <a:solidFill>
                  <a:srgbClr val="000000"/>
                </a:solidFill>
                <a:latin typeface="Arial"/>
              </a:rPr>
              <a:t>Child Care system in Norway</a:t>
            </a:r>
            <a:br>
              <a:rPr sz="2800"/>
            </a:br>
            <a:br>
              <a:rPr sz="2800"/>
            </a:br>
            <a:r>
              <a:rPr b="1" lang="en-GB" sz="2000" spc="-1" strike="noStrike">
                <a:solidFill>
                  <a:srgbClr val="000000"/>
                </a:solidFill>
                <a:latin typeface="Arial"/>
              </a:rPr>
              <a:t>Emphasising the importance of Family Care</a:t>
            </a:r>
            <a:br>
              <a:rPr sz="2000"/>
            </a:br>
            <a:br>
              <a:rPr sz="2000"/>
            </a:br>
            <a:br>
              <a:rPr sz="2000"/>
            </a:br>
            <a:br>
              <a:rPr sz="2000"/>
            </a:br>
            <a:br>
              <a:rPr sz="2000"/>
            </a:br>
            <a:r>
              <a:rPr b="1" lang="en-GB" sz="2000" spc="-1" strike="noStrike">
                <a:solidFill>
                  <a:srgbClr val="000000"/>
                </a:solidFill>
                <a:latin typeface="Arial"/>
              </a:rPr>
              <a:t> </a:t>
            </a:r>
            <a:br>
              <a:rPr sz="2000"/>
            </a:br>
            <a:r>
              <a:rPr b="1" lang="en-GB" sz="1600" spc="-1" strike="noStrike">
                <a:solidFill>
                  <a:srgbClr val="000000"/>
                </a:solidFill>
                <a:latin typeface="Arial"/>
              </a:rPr>
              <a:t>Senior Advisor  Else Gerd Dugstad </a:t>
            </a:r>
            <a:br>
              <a:rPr sz="1600"/>
            </a:br>
            <a:r>
              <a:rPr b="1" lang="en-GB" sz="1600" spc="-1" strike="noStrike">
                <a:solidFill>
                  <a:srgbClr val="000000"/>
                </a:solidFill>
                <a:latin typeface="Arial"/>
              </a:rPr>
              <a:t> </a:t>
            </a:r>
            <a:r>
              <a:rPr b="0" lang="en-GB" sz="1600" spc="-1" strike="noStrike">
                <a:solidFill>
                  <a:srgbClr val="0070c0"/>
                </a:solidFill>
                <a:latin typeface="Arial"/>
              </a:rPr>
              <a:t>else.gerd.dugstad@bufetat.no</a:t>
            </a:r>
            <a:br>
              <a:rPr sz="1600"/>
            </a:br>
            <a:endParaRPr b="0" lang="en-US" sz="1600" spc="-1" strike="noStrike">
              <a:solidFill>
                <a:srgbClr val="000000"/>
              </a:solidFill>
              <a:latin typeface="Arial"/>
            </a:endParaRPr>
          </a:p>
        </p:txBody>
      </p:sp>
      <p:sp>
        <p:nvSpPr>
          <p:cNvPr id="1939" name="Rectangle 7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3A454CA5-C50F-4E58-8B6D-509458F025E1}"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0" name="Rectangle 72"/>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p:nvPr>
        </p:nvSpPr>
        <p:spPr>
          <a:xfrm>
            <a:off x="250560" y="836640"/>
            <a:ext cx="8713800" cy="2232000"/>
          </a:xfrm>
          <a:prstGeom prst="rect">
            <a:avLst/>
          </a:prstGeom>
          <a:noFill/>
          <a:ln w="0">
            <a:noFill/>
          </a:ln>
        </p:spPr>
        <p:txBody>
          <a:bodyPr anchor="t">
            <a:normAutofit fontScale="90000"/>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om Children`s Services:</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Outreach program calls to say that they have an adolescent who can`t live at home anymore.  She is 14 years old and she doesn`t want to go home. </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meet with Children`s Services to talk about the situation.  She has a specific request.  She wants a new family.</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n unknown girl for Children`s Services and all of us wonder  what has happened and what`s in store.</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ldren`s Services inform us that being connected to a new family doesn`t happen in an instant. </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map out the girl`s network, who she knows, etc, to get an overview, and we use the overview well.  This proves to be a useful tool.  She has a large network – older siblings, a father, a mother, several aunts and uncles</a:t>
            </a:r>
            <a:endParaRPr b="0" lang="en-US" sz="1400" spc="-1" strike="noStrike">
              <a:solidFill>
                <a:srgbClr val="000000"/>
              </a:solidFill>
              <a:latin typeface="Arial"/>
            </a:endParaRPr>
          </a:p>
        </p:txBody>
      </p:sp>
      <p:sp>
        <p:nvSpPr>
          <p:cNvPr id="1974" name="Text Box 3"/>
          <p:cNvSpPr/>
          <p:nvPr/>
        </p:nvSpPr>
        <p:spPr>
          <a:xfrm>
            <a:off x="324000" y="333360"/>
            <a:ext cx="5688000" cy="3132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I don`t want a new family – I want the one I have</a:t>
            </a:r>
            <a:endParaRPr b="0" lang="en-US" sz="1800" spc="-1" strike="noStrike">
              <a:solidFill>
                <a:srgbClr val="000000"/>
              </a:solidFill>
              <a:latin typeface="Arial"/>
            </a:endParaRPr>
          </a:p>
        </p:txBody>
      </p:sp>
      <p:sp>
        <p:nvSpPr>
          <p:cNvPr id="1975" name="Text Box 4"/>
          <p:cNvSpPr/>
          <p:nvPr/>
        </p:nvSpPr>
        <p:spPr>
          <a:xfrm>
            <a:off x="3635280" y="3068640"/>
            <a:ext cx="51847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turns out that there are significant communication problems between mother and daugh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tell the girl that it would be a good idea to gather everyone for a meeting to talk about what she finds to be difficult in her present situation.  The goal is to find the help she needs within her own network.  The girl says she doesn`t believe they`ll show u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begin by calling everyone in the girl`s presence.  They are all able to meet at 8 AM the next day.  The girl is surprised, pleased and quite excited.  She chooses to spend the night with a girl friend.</a:t>
            </a:r>
            <a:endParaRPr b="0" lang="en-US" sz="1400" spc="-1" strike="noStrike">
              <a:solidFill>
                <a:srgbClr val="000000"/>
              </a:solidFill>
              <a:latin typeface="Arial"/>
            </a:endParaRPr>
          </a:p>
        </p:txBody>
      </p:sp>
      <p:pic>
        <p:nvPicPr>
          <p:cNvPr id="1976" name="Picture 5" descr=""/>
          <p:cNvPicPr/>
          <p:nvPr/>
        </p:nvPicPr>
        <p:blipFill>
          <a:blip r:embed="rId1"/>
          <a:stretch/>
        </p:blipFill>
        <p:spPr>
          <a:xfrm>
            <a:off x="324000" y="3141720"/>
            <a:ext cx="3341520" cy="2455920"/>
          </a:xfrm>
          <a:prstGeom prst="rect">
            <a:avLst/>
          </a:prstGeom>
          <a:ln w="0">
            <a:noFill/>
          </a:ln>
        </p:spPr>
      </p:pic>
      <p:sp>
        <p:nvSpPr>
          <p:cNvPr id="1977" name="Text Box 6"/>
          <p:cNvSpPr/>
          <p:nvPr/>
        </p:nvSpPr>
        <p:spPr>
          <a:xfrm>
            <a:off x="324000" y="5589720"/>
            <a:ext cx="85676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cceptable to her mom and we also check with her friend`s par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e is picked up and brought to the meeting, and is there at 7:45 AM.  She`s anxious, but she`s also quite proud to be allowed to welcome everyone with 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eryone shows up except a grandmother who missed the ferry from a little village.  The grandmother calls and we talk about what she can contribute.</a:t>
            </a:r>
            <a:endParaRPr b="0" lang="en-US" sz="1400" spc="-1" strike="noStrike">
              <a:solidFill>
                <a:srgbClr val="000000"/>
              </a:solidFill>
              <a:latin typeface="Arial"/>
            </a:endParaRPr>
          </a:p>
        </p:txBody>
      </p:sp>
      <p:pic>
        <p:nvPicPr>
          <p:cNvPr id="1978" name="Picture 7" descr="MCFL00008_0000[1]"/>
          <p:cNvPicPr/>
          <p:nvPr/>
        </p:nvPicPr>
        <p:blipFill>
          <a:blip r:embed="rId2"/>
          <a:stretch/>
        </p:blipFill>
        <p:spPr>
          <a:xfrm>
            <a:off x="7920000" y="0"/>
            <a:ext cx="1224000" cy="892080"/>
          </a:xfrm>
          <a:prstGeom prst="rect">
            <a:avLst/>
          </a:prstGeom>
          <a:ln w="0">
            <a:noFill/>
          </a:ln>
        </p:spPr>
      </p:pic>
      <p:sp>
        <p:nvSpPr>
          <p:cNvPr id="1979" name="Text Box 8"/>
          <p:cNvSpPr/>
          <p:nvPr/>
        </p:nvSpPr>
        <p:spPr>
          <a:xfrm>
            <a:off x="8604360" y="54936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p:nvPr>
        </p:nvSpPr>
        <p:spPr>
          <a:xfrm>
            <a:off x="539280" y="1125360"/>
            <a:ext cx="4319640" cy="2735280"/>
          </a:xfrm>
          <a:prstGeom prst="rect">
            <a:avLst/>
          </a:prstGeom>
          <a:noFill/>
          <a:ln w="0">
            <a:noFill/>
          </a:ln>
        </p:spPr>
        <p:txBody>
          <a:bodyPr anchor="t">
            <a:normAutofit/>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eting is productive.  I open the meeting with a description of how the girl feels about her present situation and what she needs in the future.  (We have agreed ahead of time about what may be said.)  Afterwards, everyone says something in turn.  They are all able to contribute in some way: provide a place for the girl to stay sometimes, activities, support mom, etc.  So far, the girl hasn`t had any eye-contact with her mother, but I can see that she`s about to.  We are about to take a break.  Mom is hesitant - she sits on a sofa where she knows that her daughter has to walk past.  The girl does walk past, hesitantly.  Mom says, “I`m ready when you`re ready.”  The girl runs back and throws her arms around her mother, sobbing…</a:t>
            </a:r>
            <a:endParaRPr b="0" lang="en-US" sz="1400" spc="-1" strike="noStrike">
              <a:solidFill>
                <a:srgbClr val="000000"/>
              </a:solidFill>
              <a:latin typeface="Arial"/>
            </a:endParaRPr>
          </a:p>
          <a:p>
            <a:pPr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81" name="Picture 3" descr=""/>
          <p:cNvPicPr/>
          <p:nvPr/>
        </p:nvPicPr>
        <p:blipFill>
          <a:blip r:embed="rId1"/>
          <a:stretch/>
        </p:blipFill>
        <p:spPr>
          <a:xfrm>
            <a:off x="5148360" y="1052640"/>
            <a:ext cx="3657600" cy="2271600"/>
          </a:xfrm>
          <a:prstGeom prst="rect">
            <a:avLst/>
          </a:prstGeom>
          <a:ln w="0">
            <a:noFill/>
          </a:ln>
        </p:spPr>
      </p:pic>
      <p:sp>
        <p:nvSpPr>
          <p:cNvPr id="1982" name="Text Box 4"/>
          <p:cNvSpPr/>
          <p:nvPr/>
        </p:nvSpPr>
        <p:spPr>
          <a:xfrm>
            <a:off x="539640" y="3789360"/>
            <a:ext cx="792000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eting continues.  Commitments are made all round.  The girl taps my arm, wants to tell me something.  We go out in the hall.  She asks me if she can close the meeting.  We discuss this a little and return to close the mee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 just want to say thank you so much for the help.  I didn`t know that all of you cared so much.  And Mom, I don`t want a new family – I want the one I have.”  In the end, tears were sh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 course, there was no placement in this case – the family just needed some help along the wa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3" name="Text Box 5"/>
          <p:cNvSpPr/>
          <p:nvPr/>
        </p:nvSpPr>
        <p:spPr>
          <a:xfrm>
            <a:off x="468360" y="5300640"/>
            <a:ext cx="6191280" cy="10746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en-US" sz="1400" spc="-1" strike="noStrike">
                <a:solidFill>
                  <a:srgbClr val="000000"/>
                </a:solidFill>
                <a:latin typeface="Arial"/>
              </a:rPr>
              <a:t>Jewels:</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empower the young person to take responsibility for her own life</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create an atmosphere for participation </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help the family to help themselves</a:t>
            </a:r>
            <a:endParaRPr b="0" lang="en-US" sz="1400" spc="-1" strike="noStrike">
              <a:solidFill>
                <a:srgbClr val="000000"/>
              </a:solidFill>
              <a:latin typeface="Arial"/>
            </a:endParaRPr>
          </a:p>
        </p:txBody>
      </p:sp>
      <p:pic>
        <p:nvPicPr>
          <p:cNvPr id="1984" name="Picture 6" descr="MCFL00008_0000[1]"/>
          <p:cNvPicPr/>
          <p:nvPr/>
        </p:nvPicPr>
        <p:blipFill>
          <a:blip r:embed="rId2"/>
          <a:stretch/>
        </p:blipFill>
        <p:spPr>
          <a:xfrm>
            <a:off x="7920000" y="0"/>
            <a:ext cx="1224000" cy="892080"/>
          </a:xfrm>
          <a:prstGeom prst="rect">
            <a:avLst/>
          </a:prstGeom>
          <a:ln w="0">
            <a:noFill/>
          </a:ln>
        </p:spPr>
      </p:pic>
      <p:sp>
        <p:nvSpPr>
          <p:cNvPr id="1985" name="Text Box 7"/>
          <p:cNvSpPr/>
          <p:nvPr/>
        </p:nvSpPr>
        <p:spPr>
          <a:xfrm>
            <a:off x="324000" y="333360"/>
            <a:ext cx="6912000" cy="3132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I don`t want a new family – I want the one I have (continue)</a:t>
            </a:r>
            <a:endParaRPr b="0" lang="en-US" sz="1800" spc="-1" strike="noStrike">
              <a:solidFill>
                <a:srgbClr val="000000"/>
              </a:solidFill>
              <a:latin typeface="Arial"/>
            </a:endParaRPr>
          </a:p>
        </p:txBody>
      </p:sp>
      <p:sp>
        <p:nvSpPr>
          <p:cNvPr id="1986" name="Rectangle 8"/>
          <p:cNvSpPr/>
          <p:nvPr/>
        </p:nvSpPr>
        <p:spPr>
          <a:xfrm>
            <a:off x="8459640" y="476280"/>
            <a:ext cx="44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F80ED35F-145A-43D7-9766-58DCAA8FD47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8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E49A728-A7C5-4111-AE4D-1D93B3680FE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8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Navn på seminar / </a:t>
            </a:r>
            <a:fld id="{B54AFF6C-B501-4DBE-86A5-029D85D2514D}" type="datetime">
              <a:rPr b="0" lang="nb-NO" sz="900" spc="-1" strike="noStrike">
                <a:solidFill>
                  <a:srgbClr val="000000"/>
                </a:solidFill>
                <a:latin typeface="Arial"/>
              </a:rPr>
              <a:t>31.07.26</a:t>
            </a:fld>
            <a:endParaRPr b="0" lang="en-US" sz="900" spc="-1" strike="noStrike">
              <a:solidFill>
                <a:srgbClr val="000000"/>
              </a:solidFill>
              <a:latin typeface="Arial"/>
            </a:endParaRPr>
          </a:p>
        </p:txBody>
      </p:sp>
      <p:sp>
        <p:nvSpPr>
          <p:cNvPr id="1990" name="PlaceHolder 1"/>
          <p:cNvSpPr>
            <a:spLocks noGrp="1"/>
          </p:cNvSpPr>
          <p:nvPr>
            <p:ph type="title"/>
          </p:nvPr>
        </p:nvSpPr>
        <p:spPr>
          <a:xfrm>
            <a:off x="671040" y="0"/>
            <a:ext cx="7301160" cy="12319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Local authorities responsibility in foster care</a:t>
            </a:r>
            <a:br>
              <a:rPr sz="2800"/>
            </a:br>
            <a:endParaRPr b="0" lang="en-US" sz="2800" spc="-1" strike="noStrike">
              <a:solidFill>
                <a:srgbClr val="000000"/>
              </a:solidFill>
              <a:latin typeface="Arial"/>
            </a:endParaRPr>
          </a:p>
        </p:txBody>
      </p:sp>
      <p:sp>
        <p:nvSpPr>
          <p:cNvPr id="199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approval and supervisions of the hom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hild welfare service and the foster parents shall enter into a written agreement regarding the respective duties and rights of the foster parents and the child welfare servic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fetat is responsible for some full time foster parents in special foster hom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regularly contact with the child, and make decisions – following up the placement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written plan about the caring situation </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ow up the birthparents</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5129ECE8-475A-43EC-8B12-296B0E75559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3"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Guidance and support of foster carers</a:t>
            </a:r>
            <a:endParaRPr b="0" lang="en-US" sz="2800" spc="-1" strike="noStrike">
              <a:solidFill>
                <a:srgbClr val="000000"/>
              </a:solidFill>
              <a:latin typeface="Arial"/>
            </a:endParaRPr>
          </a:p>
        </p:txBody>
      </p:sp>
      <p:sp>
        <p:nvSpPr>
          <p:cNvPr id="1994"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lacement- a good start is importan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ollow up/ evaluat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Help if conflicts between foster family and the local authority</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ermination- what can we learn?</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vents for foster parents/ foster famil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Guidance groups- minimum the first year after placemen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ifferent groups (children/ youths/ biological parent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ifferent training programmes (ART, PMTO for foster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94205951-8006-4674-87D9-C7F6C3B9C86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upervision of the child in foster care I</a:t>
            </a:r>
            <a:endParaRPr b="0" lang="en-US" sz="2400" spc="-1" strike="noStrike">
              <a:solidFill>
                <a:srgbClr val="000000"/>
              </a:solidFill>
              <a:latin typeface="Arial"/>
            </a:endParaRPr>
          </a:p>
        </p:txBody>
      </p:sp>
      <p:sp>
        <p:nvSpPr>
          <p:cNvPr id="199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Goal:</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nsure/control that the child get adequate care in the foster home</a:t>
            </a:r>
            <a:endParaRPr b="0" lang="en-US" sz="2000" spc="-1" strike="noStrike">
              <a:solidFill>
                <a:srgbClr val="000000"/>
              </a:solidFill>
              <a:latin typeface="Arial"/>
            </a:endParaRPr>
          </a:p>
          <a:p>
            <a:pPr lvl="1" marL="573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nsure/control that the premises for the placement are followed</a:t>
            </a:r>
            <a:endParaRPr b="0" lang="en-US" sz="20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is supervision of the foster home </a:t>
            </a:r>
            <a:r>
              <a:rPr b="1" lang="nb-NO" sz="1800" spc="-1" strike="noStrike">
                <a:solidFill>
                  <a:srgbClr val="000000"/>
                </a:solidFill>
                <a:latin typeface="Arial"/>
              </a:rPr>
              <a:t>is additional </a:t>
            </a:r>
            <a:r>
              <a:rPr b="0" lang="nb-NO" sz="1800" spc="-1" strike="noStrike">
                <a:solidFill>
                  <a:srgbClr val="000000"/>
                </a:solidFill>
                <a:latin typeface="Arial"/>
              </a:rPr>
              <a:t>to the the control/supervision carried out by the Child Welfare Service in the municipality</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role of the the supervisor is </a:t>
            </a:r>
            <a:r>
              <a:rPr b="1" lang="nb-NO" sz="1800" spc="-1" strike="noStrike">
                <a:solidFill>
                  <a:srgbClr val="000000"/>
                </a:solidFill>
                <a:latin typeface="Arial"/>
              </a:rPr>
              <a:t>independent</a:t>
            </a:r>
            <a:r>
              <a:rPr b="0" lang="nb-NO" sz="1800" spc="-1" strike="noStrike">
                <a:solidFill>
                  <a:srgbClr val="000000"/>
                </a:solidFill>
                <a:latin typeface="Arial"/>
              </a:rPr>
              <a:t> of the Child Welfare Service, and the foster home, and can for instance  be a teacher whom the child already is acquainted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3B2ED70E-5480-4319-AAAB-63AAD8F7983B}"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 </a:t>
            </a:r>
            <a:r>
              <a:rPr b="1" lang="nb-NO" sz="2400" spc="-1" strike="noStrike">
                <a:solidFill>
                  <a:srgbClr val="000000"/>
                </a:solidFill>
                <a:latin typeface="Arial"/>
              </a:rPr>
              <a:t>The supervision of the foster home II</a:t>
            </a:r>
            <a:endParaRPr b="0" lang="en-US" sz="2400" spc="-1" strike="noStrike">
              <a:solidFill>
                <a:srgbClr val="000000"/>
              </a:solidFill>
              <a:latin typeface="Arial"/>
            </a:endParaRPr>
          </a:p>
        </p:txBody>
      </p:sp>
      <p:sp>
        <p:nvSpPr>
          <p:cNvPr id="2000" name="PlaceHolder 2"/>
          <p:cNvSpPr>
            <a:spLocks noGrp="1"/>
          </p:cNvSpPr>
          <p:nvPr>
            <p:ph/>
          </p:nvPr>
        </p:nvSpPr>
        <p:spPr>
          <a:xfrm>
            <a:off x="685800" y="1517400"/>
            <a:ext cx="7772400" cy="4660920"/>
          </a:xfrm>
          <a:prstGeom prst="rect">
            <a:avLst/>
          </a:prstGeom>
          <a:noFill/>
          <a:ln w="0">
            <a:noFill/>
          </a:ln>
        </p:spPr>
        <p:txBody>
          <a:bodyPr anchor="t">
            <a:normAutofit fontScale="99000"/>
          </a:bodyPr>
          <a:p>
            <a:pPr marL="186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he supervisors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ceive training by the foster care services in the regional child welfare offices/Bufetat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re appointed by the Child Welfare Services in which the foster parents live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ceive supervision from the Child Welfare Service in the municipality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have access to the foster home and have the possibility for speaking with the child/meeting  the child without the presence of the foster parents</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minimum visit the child four times a year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make written reports to the Child Welfare Service about the child’s conditions in the foster home. (The Child Welfare Services are obliged to  do the necessary follow ups according to the contents in the repor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out resources in local Child Care Services</a:t>
            </a:r>
            <a:endParaRPr b="0" lang="en-US" sz="2400" spc="-1" strike="noStrike">
              <a:solidFill>
                <a:srgbClr val="000000"/>
              </a:solidFill>
              <a:latin typeface="Arial"/>
            </a:endParaRPr>
          </a:p>
        </p:txBody>
      </p:sp>
      <p:sp>
        <p:nvSpPr>
          <p:cNvPr id="2002"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ld care is expensive  - but good investment !</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ocial workers in the local authority have a huge responsibility – both in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cases with preventive work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in following up</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statistics we have (2010) 3,1 social worker pr. 1000 inhabitants (relevant ag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king 4 local services they answer: from 15 – 40 cases pr. Social worker, mainly 25 cas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kind of social problems. Psyciatric problems, violence, abuse, criminality, alcohol and drugs, children from war etc</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50142D9-6B82-469B-A822-552648C31A4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0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Text Box 2"/>
          <p:cNvSpPr/>
          <p:nvPr/>
        </p:nvSpPr>
        <p:spPr>
          <a:xfrm>
            <a:off x="468360" y="3429000"/>
            <a:ext cx="8280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contacted Children`s Services and they took charge of the situation.  They responded right away.  That day, I realized that Children`s Services really did have my best interests at heart.  I was even allowed to help decide where I would mo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 think back, I was probably feeling a little anxious, because “imagine if Mom and the others stopped doing drugs.  Would they ever forgive me?”  I had to decide so quickly, and I </a:t>
            </a:r>
            <a:r>
              <a:rPr b="0" lang="en-US" sz="1400" spc="-1" strike="noStrike" u="sng">
                <a:solidFill>
                  <a:srgbClr val="000000"/>
                </a:solidFill>
                <a:uFillTx/>
                <a:latin typeface="Arial"/>
              </a:rPr>
              <a:t>did</a:t>
            </a:r>
            <a:r>
              <a:rPr b="0" lang="en-US" sz="1400" spc="-1" strike="noStrike">
                <a:solidFill>
                  <a:srgbClr val="000000"/>
                </a:solidFill>
                <a:latin typeface="Arial"/>
              </a:rPr>
              <a:t> know that Mom really loved me.  But I had warned her so many times, so I felt I had done the right thing.  I didn`t regret it.  </a:t>
            </a:r>
            <a:endParaRPr b="0" lang="en-US" sz="1400" spc="-1" strike="noStrike">
              <a:solidFill>
                <a:srgbClr val="000000"/>
              </a:solidFill>
              <a:latin typeface="Arial"/>
            </a:endParaRPr>
          </a:p>
        </p:txBody>
      </p:sp>
      <p:sp>
        <p:nvSpPr>
          <p:cNvPr id="2006" name="Rectangle 3"/>
          <p:cNvSpPr/>
          <p:nvPr/>
        </p:nvSpPr>
        <p:spPr>
          <a:xfrm>
            <a:off x="615960" y="47880"/>
            <a:ext cx="6477120" cy="642600"/>
          </a:xfrm>
          <a:prstGeom prst="rect">
            <a:avLst/>
          </a:prstGeom>
          <a:noFill/>
          <a:ln w="76320">
            <a:solidFill>
              <a:srgbClr val="66ff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ust a little reminder what it is all about: </a:t>
            </a:r>
            <a:r>
              <a:rPr b="1" i="1" lang="en-GB" sz="1800" spc="-1" strike="noStrike">
                <a:solidFill>
                  <a:srgbClr val="7030a0"/>
                </a:solidFill>
                <a:latin typeface="Arial"/>
              </a:rPr>
              <a:t>Love is not enough</a:t>
            </a:r>
            <a:endParaRPr b="0" lang="en-US" sz="1800" spc="-1" strike="noStrike">
              <a:solidFill>
                <a:srgbClr val="000000"/>
              </a:solidFill>
              <a:latin typeface="Arial"/>
            </a:endParaRPr>
          </a:p>
        </p:txBody>
      </p:sp>
      <p:sp>
        <p:nvSpPr>
          <p:cNvPr id="2007" name="Rectangle 4"/>
          <p:cNvSpPr/>
          <p:nvPr/>
        </p:nvSpPr>
        <p:spPr>
          <a:xfrm>
            <a:off x="395280" y="5449320"/>
            <a:ext cx="8353440" cy="1372680"/>
          </a:xfrm>
          <a:prstGeom prst="rect">
            <a:avLst/>
          </a:prstGeom>
          <a:noFill/>
          <a:ln w="76320">
            <a:solidFill>
              <a:srgbClr val="66ff33"/>
            </a:solidFill>
            <a:miter/>
          </a:ln>
        </p:spPr>
        <p:style>
          <a:lnRef idx="0"/>
          <a:fillRef idx="0"/>
          <a:effectRef idx="0"/>
          <a:fontRef idx="minor"/>
        </p:style>
        <p:txBody>
          <a:bodyPr lIns="90000" rIns="90000" tIns="46800" bIns="46800" anchor="ctr">
            <a:spAutoFit/>
          </a:bodyPr>
          <a:p>
            <a:pPr>
              <a:tabLst>
                <a:tab algn="l" pos="0"/>
                <a:tab algn="l" pos="94284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ve is not enough</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ving good friends means everything.  If I hadn`t had this friend, I would never have been able to work things out on my own!  </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was allowed to make my own decisions.  That was important to me.  That day, I realized that Children`s Services really do care about me.   </a:t>
            </a:r>
            <a:endParaRPr b="0" lang="en-US" sz="1400" spc="-1" strike="noStrike">
              <a:solidFill>
                <a:srgbClr val="000000"/>
              </a:solidFill>
              <a:latin typeface="Arial"/>
            </a:endParaRPr>
          </a:p>
        </p:txBody>
      </p:sp>
      <p:pic>
        <p:nvPicPr>
          <p:cNvPr id="2008" name="Picture 5" descr=""/>
          <p:cNvPicPr/>
          <p:nvPr/>
        </p:nvPicPr>
        <p:blipFill>
          <a:blip r:embed="rId1"/>
          <a:stretch/>
        </p:blipFill>
        <p:spPr>
          <a:xfrm>
            <a:off x="4427640" y="836640"/>
            <a:ext cx="3946320" cy="2448000"/>
          </a:xfrm>
          <a:prstGeom prst="rect">
            <a:avLst/>
          </a:prstGeom>
          <a:ln w="0">
            <a:noFill/>
          </a:ln>
        </p:spPr>
      </p:pic>
      <p:sp>
        <p:nvSpPr>
          <p:cNvPr id="2009" name="Text Box 6"/>
          <p:cNvSpPr/>
          <p:nvPr/>
        </p:nvSpPr>
        <p:spPr>
          <a:xfrm>
            <a:off x="468360" y="620640"/>
            <a:ext cx="410364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Rita” (18 years) has been in foster care for four yea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gin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s 14 years old. My parents had severe alcohol problems. One day, I made a difficult decision.  I contacted Children`s Services. I wanted to move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led me to make this difficult de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good friend of mine said, “if you want to become something, you have got to put your foot down.”  Without her, I would never have dared to do this.   </a:t>
            </a:r>
            <a:endParaRPr b="0" lang="en-US" sz="1400" spc="-1" strike="noStrike">
              <a:solidFill>
                <a:srgbClr val="000000"/>
              </a:solidFill>
              <a:latin typeface="Arial"/>
            </a:endParaRPr>
          </a:p>
        </p:txBody>
      </p:sp>
      <p:pic>
        <p:nvPicPr>
          <p:cNvPr id="2010" name="Picture 7" descr="MCFL00008_0000[1]"/>
          <p:cNvPicPr/>
          <p:nvPr/>
        </p:nvPicPr>
        <p:blipFill>
          <a:blip r:embed="rId2"/>
          <a:stretch/>
        </p:blipFill>
        <p:spPr>
          <a:xfrm>
            <a:off x="7920000" y="0"/>
            <a:ext cx="1224000" cy="892080"/>
          </a:xfrm>
          <a:prstGeom prst="rect">
            <a:avLst/>
          </a:prstGeom>
          <a:ln w="0">
            <a:noFill/>
          </a:ln>
        </p:spPr>
      </p:pic>
      <p:sp>
        <p:nvSpPr>
          <p:cNvPr id="2011" name="Rectangle 8"/>
          <p:cNvSpPr/>
          <p:nvPr/>
        </p:nvSpPr>
        <p:spPr>
          <a:xfrm>
            <a:off x="8606160" y="4762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about child welfare in Norway</a:t>
            </a:r>
            <a:endParaRPr b="0" lang="en-US" sz="2400" spc="-1" strike="noStrike">
              <a:solidFill>
                <a:srgbClr val="000000"/>
              </a:solidFill>
              <a:latin typeface="Arial"/>
            </a:endParaRPr>
          </a:p>
        </p:txBody>
      </p:sp>
      <p:sp>
        <p:nvSpPr>
          <p:cNvPr id="2013" name=""/>
          <p:cNvSpPr txBox="1"/>
          <p:nvPr/>
        </p:nvSpPr>
        <p:spPr>
          <a:xfrm>
            <a:off x="685800" y="1413000"/>
            <a:ext cx="7772400" cy="4765680"/>
          </a:xfrm>
          <a:prstGeom prst="rect">
            <a:avLst/>
          </a:prstGeom>
          <a:noFill/>
          <a:ln w="0">
            <a:noFill/>
          </a:ln>
        </p:spPr>
        <p:txBody>
          <a:bodyPr anchor="t">
            <a:normAutofit fontScale="90000"/>
          </a:bodyPr>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y</a:t>
            </a:r>
            <a:r>
              <a:rPr b="0" lang="en-GB" sz="2000" spc="-1" strike="noStrike">
                <a:solidFill>
                  <a:srgbClr val="000000"/>
                </a:solidFill>
                <a:latin typeface="Arial"/>
              </a:rPr>
              <a:t> comments:</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the rate of family based care: </a:t>
            </a:r>
            <a:endParaRPr b="0" lang="en-US" sz="2000" spc="-1" strike="noStrike">
              <a:solidFill>
                <a:srgbClr val="000000"/>
              </a:solidFill>
              <a:latin typeface="Arial"/>
            </a:endParaRPr>
          </a:p>
          <a:p>
            <a:pPr marL="169920" indent="-169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ood figures, good intensions - but not perfect </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tension between local and state levels</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tension inside our state organisation (central – district)</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going discussions about closing down institution for youth</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ll discussion: how to use recourses the best way? - what is right balance when it comes to field work contra bureacracy.</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T</a:t>
            </a:r>
            <a:r>
              <a:rPr b="0" lang="en-GB" sz="2000" spc="-1" strike="noStrike">
                <a:solidFill>
                  <a:srgbClr val="000000"/>
                </a:solidFill>
                <a:latin typeface="Arial"/>
              </a:rPr>
              <a:t>: one important  agreement: if out of home is needed: </a:t>
            </a:r>
            <a:endParaRPr b="0" lang="en-US" sz="2000" spc="-1" strike="noStrike">
              <a:solidFill>
                <a:srgbClr val="000000"/>
              </a:solidFill>
              <a:latin typeface="Arial"/>
            </a:endParaRPr>
          </a:p>
          <a:p>
            <a:pPr marL="169920" indent="-169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400" spc="-1" strike="noStrike">
                <a:solidFill>
                  <a:srgbClr val="000000"/>
                </a:solidFill>
                <a:latin typeface="Arial"/>
              </a:rPr>
              <a:t>foster care is the best alternative care</a:t>
            </a:r>
            <a:endParaRPr b="0" lang="en-US" sz="24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research</a:t>
            </a:r>
            <a:r>
              <a:rPr b="0" lang="en-GB" sz="2000" spc="-1" strike="noStrike">
                <a:solidFill>
                  <a:srgbClr val="000000"/>
                </a:solidFill>
                <a:latin typeface="Arial"/>
              </a:rPr>
              <a:t> and experience</a:t>
            </a:r>
            <a:endParaRPr b="0" lang="en-US" sz="2000" spc="-1" strike="noStrike">
              <a:solidFill>
                <a:srgbClr val="000000"/>
              </a:solidFill>
              <a:latin typeface="Arial"/>
            </a:endParaRPr>
          </a:p>
        </p:txBody>
      </p:sp>
      <p:sp>
        <p:nvSpPr>
          <p:cNvPr id="201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A069E5D7-D109-4A39-AD27-EF4BA58EE331}"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1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asearch groups and persons</a:t>
            </a:r>
            <a:endParaRPr b="0" lang="en-US" sz="2400" spc="-1" strike="noStrike">
              <a:solidFill>
                <a:srgbClr val="000000"/>
              </a:solidFill>
              <a:latin typeface="Arial"/>
            </a:endParaRPr>
          </a:p>
        </p:txBody>
      </p:sp>
      <p:sp>
        <p:nvSpPr>
          <p:cNvPr id="2017" name=""/>
          <p:cNvSpPr txBox="1"/>
          <p:nvPr/>
        </p:nvSpPr>
        <p:spPr>
          <a:xfrm>
            <a:off x="685800" y="1517400"/>
            <a:ext cx="7772400" cy="5079960"/>
          </a:xfrm>
          <a:prstGeom prst="rect">
            <a:avLst/>
          </a:prstGeom>
          <a:noFill/>
          <a:ln w="0">
            <a:noFill/>
          </a:ln>
        </p:spPr>
        <p:txBody>
          <a:bodyPr anchor="t">
            <a:normAutofit fontScale="98000"/>
          </a:bodyPr>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1"/>
              </a:rPr>
              <a:t>www.fafo.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2"/>
              </a:rPr>
              <a:t>www.uni.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3"/>
              </a:rPr>
              <a:t>www.atferdssenteret.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4"/>
              </a:rPr>
              <a:t>www.nova.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names (among others):</a:t>
            </a:r>
            <a:endParaRPr b="0" lang="en-US" sz="20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ril Havik</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isabeth Backe Han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gdis Bunkholdt</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rik Lar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laug Skjær Ulvik</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re Andreas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rje Ogd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gen Raundalen</a:t>
            </a:r>
            <a:endParaRPr b="0" lang="en-US" sz="1400" spc="-1" strike="noStrike">
              <a:solidFill>
                <a:srgbClr val="000000"/>
              </a:solidFill>
              <a:latin typeface="Arial"/>
            </a:endParaRPr>
          </a:p>
        </p:txBody>
      </p:sp>
      <p:sp>
        <p:nvSpPr>
          <p:cNvPr id="201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4707EDAF-0BF1-47DA-A7BC-008892A0CDF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1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Presentation</a:t>
            </a:r>
            <a:endParaRPr b="0" lang="en-US" sz="3200" spc="-1" strike="noStrike">
              <a:solidFill>
                <a:srgbClr val="000000"/>
              </a:solidFill>
              <a:latin typeface="Arial"/>
            </a:endParaRPr>
          </a:p>
        </p:txBody>
      </p:sp>
      <p:sp>
        <p:nvSpPr>
          <p:cNvPr id="1942" name=""/>
          <p:cNvSpPr txBox="1"/>
          <p:nvPr/>
        </p:nvSpPr>
        <p:spPr>
          <a:xfrm>
            <a:off x="685800" y="13536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y self:</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ere I work today: Child-, youth- and family departement (Bufetat).</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y previous experience in child care</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at to do:</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ef overview of the child care system in Norway</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venting work</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ut of home”</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ing family care</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kinds of foster care: ordinary, short-term, specialised</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99C9391-F082-42A3-90F2-F52764FB11E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 to continue II</a:t>
            </a:r>
            <a:endParaRPr b="0" lang="en-US" sz="2400" spc="-1" strike="noStrike">
              <a:solidFill>
                <a:srgbClr val="000000"/>
              </a:solidFill>
              <a:latin typeface="Arial"/>
            </a:endParaRPr>
          </a:p>
        </p:txBody>
      </p:sp>
      <p:sp>
        <p:nvSpPr>
          <p:cNvPr id="2021"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having foster care as number one alternative care:</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dition and attitude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m for many year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the question of </a:t>
            </a:r>
            <a:r>
              <a:rPr b="1" lang="en-GB" sz="1800" spc="-1" strike="noStrike">
                <a:solidFill>
                  <a:srgbClr val="000000"/>
                </a:solidFill>
                <a:latin typeface="Arial"/>
              </a:rPr>
              <a:t>if</a:t>
            </a:r>
            <a:r>
              <a:rPr b="0" lang="en-GB" sz="1800" spc="-1" strike="noStrike">
                <a:solidFill>
                  <a:srgbClr val="000000"/>
                </a:solidFill>
                <a:latin typeface="Arial"/>
              </a:rPr>
              <a:t> foster care - but </a:t>
            </a:r>
            <a:r>
              <a:rPr b="1" lang="en-GB" sz="1800" spc="-1" strike="noStrike">
                <a:solidFill>
                  <a:srgbClr val="000000"/>
                </a:solidFill>
                <a:latin typeface="Arial"/>
              </a:rPr>
              <a:t>how </a:t>
            </a:r>
            <a:r>
              <a:rPr b="0" lang="en-GB" sz="1800" spc="-1" strike="noStrike">
                <a:solidFill>
                  <a:srgbClr val="000000"/>
                </a:solidFill>
                <a:latin typeface="Arial"/>
              </a:rPr>
              <a:t>to manag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challange: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ck of foster carers for big children and youth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 provide a </a:t>
            </a:r>
            <a:r>
              <a:rPr b="1" lang="en-GB" sz="1800" spc="-1" strike="noStrike">
                <a:solidFill>
                  <a:srgbClr val="000000"/>
                </a:solidFill>
                <a:latin typeface="Arial"/>
              </a:rPr>
              <a:t>sufficient system </a:t>
            </a:r>
            <a:r>
              <a:rPr b="0" lang="en-GB" sz="1800" spc="-1" strike="noStrike">
                <a:solidFill>
                  <a:srgbClr val="000000"/>
                </a:solidFill>
                <a:latin typeface="Arial"/>
              </a:rPr>
              <a:t>helping us to succed</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extra is needed to include adolescents with severe emotional- and behavioural problems in family car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challenges: recruit immigrant foster carers, national miniorities, more family-placement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EB3AAA83-313A-4F4E-B096-E7B5166E781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2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 to continue III</a:t>
            </a:r>
            <a:endParaRPr b="0" lang="en-US" sz="2400" spc="-1" strike="noStrike">
              <a:solidFill>
                <a:srgbClr val="000000"/>
              </a:solidFill>
              <a:latin typeface="Arial"/>
            </a:endParaRPr>
          </a:p>
        </p:txBody>
      </p:sp>
      <p:sp>
        <p:nvSpPr>
          <p:cNvPr id="2025"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y do we have figures that shows a high rate of foster care placements?</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igh priority among politician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mplementation national wid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qual- not fragmented</a:t>
            </a:r>
            <a:endParaRPr b="0" lang="en-US" sz="18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foster care system has improved very much </a:t>
            </a:r>
            <a:r>
              <a:rPr b="0" lang="nb-NO" sz="1600" spc="-1" strike="noStrike">
                <a:solidFill>
                  <a:srgbClr val="000000"/>
                </a:solidFill>
                <a:latin typeface="Arial"/>
              </a:rPr>
              <a:t>(recruitment, training and following up)</a:t>
            </a:r>
            <a:endParaRPr b="0" lang="en-US" sz="16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re differentiated foster care system - some specialised in accordance to target group</a:t>
            </a:r>
            <a:endParaRPr b="0" lang="en-US" sz="2000" spc="-1" strike="noStrike">
              <a:solidFill>
                <a:srgbClr val="000000"/>
              </a:solidFill>
              <a:latin typeface="Arial"/>
            </a:endParaRPr>
          </a:p>
        </p:txBody>
      </p:sp>
      <p:sp>
        <p:nvSpPr>
          <p:cNvPr id="2026"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C112A073-C109-422F-9E0F-9FF2361F685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27"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 care / a foster home in Norway I</a:t>
            </a:r>
            <a:endParaRPr b="0" lang="en-US" sz="2400" spc="-1" strike="noStrike">
              <a:solidFill>
                <a:srgbClr val="000000"/>
              </a:solidFill>
              <a:latin typeface="Arial"/>
            </a:endParaRPr>
          </a:p>
        </p:txBody>
      </p:sp>
      <p:sp>
        <p:nvSpPr>
          <p:cNvPr id="2029" name=""/>
          <p:cNvSpPr txBox="1"/>
          <p:nvPr/>
        </p:nvSpPr>
        <p:spPr>
          <a:xfrm>
            <a:off x="685800" y="1517400"/>
            <a:ext cx="7772400" cy="4660920"/>
          </a:xfrm>
          <a:prstGeom prst="rect">
            <a:avLst/>
          </a:prstGeom>
          <a:noFill/>
          <a:ln w="0">
            <a:noFill/>
          </a:ln>
        </p:spPr>
        <p:txBody>
          <a:bodyPr anchor="t">
            <a:normAutofit fontScale="97000"/>
          </a:bodyPr>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oster home</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s a private home/ family taking care of one or several foster children</a:t>
            </a:r>
            <a:endParaRPr b="0" lang="en-US" sz="1800" spc="-1" strike="noStrike">
              <a:solidFill>
                <a:srgbClr val="000000"/>
              </a:solidFill>
              <a:latin typeface="Arial"/>
            </a:endParaRPr>
          </a:p>
          <a:p>
            <a:pPr lvl="1" marL="555840" indent="-18756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eive a certain amount of money, agreed national wide </a:t>
            </a:r>
            <a:r>
              <a:rPr b="0" lang="en-GB" sz="1400" spc="-1" strike="noStrike">
                <a:solidFill>
                  <a:srgbClr val="000000"/>
                </a:solidFill>
                <a:latin typeface="Arial"/>
              </a:rPr>
              <a:t>(see above)</a:t>
            </a:r>
            <a:endParaRPr b="0" lang="en-US" sz="1400" spc="-1" strike="noStrike">
              <a:solidFill>
                <a:srgbClr val="000000"/>
              </a:solidFill>
              <a:latin typeface="Arial"/>
            </a:endParaRPr>
          </a:p>
          <a:p>
            <a:pPr lvl="2" marL="921960" indent="-181440">
              <a:spcBef>
                <a:spcPts val="1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ance: about 15 – 20 % of average income in Norway</a:t>
            </a:r>
            <a:endParaRPr b="0" lang="en-US" sz="1800" spc="-1" strike="noStrike">
              <a:solidFill>
                <a:srgbClr val="000000"/>
              </a:solidFill>
              <a:latin typeface="Arial"/>
            </a:endParaRPr>
          </a:p>
          <a:p>
            <a:pPr lvl="2" marL="921960" indent="-181440">
              <a:spcBef>
                <a:spcPts val="1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nses:  depends on age (the amount quite similar to allowance)</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ed upon as a positive thing to do – recruited from all parts of the people</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ments are temporary (by law), most of the children have contact with their (biological) family</a:t>
            </a:r>
            <a:endParaRPr b="0" lang="en-US" sz="18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 parents </a:t>
            </a:r>
            <a:endParaRPr b="0" lang="en-US" sz="2000" spc="-1" strike="noStrike">
              <a:solidFill>
                <a:srgbClr val="000000"/>
              </a:solidFill>
              <a:latin typeface="Arial"/>
            </a:endParaRPr>
          </a:p>
          <a:p>
            <a:pPr marL="183240" indent="-1832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800" spc="-1" strike="noStrike">
                <a:solidFill>
                  <a:srgbClr val="000000"/>
                </a:solidFill>
                <a:latin typeface="Arial"/>
              </a:rPr>
              <a:t>- don’t have to be married, can be single, can be couple of same sex</a:t>
            </a:r>
            <a:endParaRPr b="0" lang="en-US" sz="1800" spc="-1" strike="noStrike">
              <a:solidFill>
                <a:srgbClr val="000000"/>
              </a:solidFill>
              <a:latin typeface="Arial"/>
            </a:endParaRPr>
          </a:p>
        </p:txBody>
      </p:sp>
      <p:sp>
        <p:nvSpPr>
          <p:cNvPr id="2030"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6268A7E8-B17B-4255-9C09-5D8D8F0811F7}"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31"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title"/>
          </p:nvPr>
        </p:nvSpPr>
        <p:spPr>
          <a:xfrm>
            <a:off x="1763280" y="274320"/>
            <a:ext cx="5545080" cy="345960"/>
          </a:xfrm>
          <a:prstGeom prst="rect">
            <a:avLst/>
          </a:prstGeom>
          <a:noFill/>
          <a:ln w="76320">
            <a:solidFill>
              <a:srgbClr val="33cc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gether, all of us are important</a:t>
            </a:r>
            <a:endParaRPr b="0" lang="en-US" sz="2000" spc="-1" strike="noStrike">
              <a:solidFill>
                <a:srgbClr val="000000"/>
              </a:solidFill>
              <a:latin typeface="Arial"/>
            </a:endParaRPr>
          </a:p>
        </p:txBody>
      </p:sp>
      <p:sp>
        <p:nvSpPr>
          <p:cNvPr id="2033" name="Text Box 3"/>
          <p:cNvSpPr/>
          <p:nvPr/>
        </p:nvSpPr>
        <p:spPr>
          <a:xfrm>
            <a:off x="900000" y="765000"/>
            <a:ext cx="446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Betty, a fostermother`s perspective:</a:t>
            </a:r>
            <a:endParaRPr b="0" lang="en-US" sz="1600" spc="-1" strike="noStrike">
              <a:solidFill>
                <a:srgbClr val="000000"/>
              </a:solidFill>
              <a:latin typeface="Arial"/>
            </a:endParaRPr>
          </a:p>
        </p:txBody>
      </p:sp>
      <p:pic>
        <p:nvPicPr>
          <p:cNvPr id="2034" name="Picture 4" descr="MCFL00008_0000[1]"/>
          <p:cNvPicPr/>
          <p:nvPr/>
        </p:nvPicPr>
        <p:blipFill>
          <a:blip r:embed="rId1"/>
          <a:stretch/>
        </p:blipFill>
        <p:spPr>
          <a:xfrm>
            <a:off x="8101080" y="0"/>
            <a:ext cx="1042920" cy="760320"/>
          </a:xfrm>
          <a:prstGeom prst="rect">
            <a:avLst/>
          </a:prstGeom>
          <a:ln w="0">
            <a:noFill/>
          </a:ln>
        </p:spPr>
      </p:pic>
      <p:sp>
        <p:nvSpPr>
          <p:cNvPr id="2035" name="Text Box 5"/>
          <p:cNvSpPr/>
          <p:nvPr/>
        </p:nvSpPr>
        <p:spPr>
          <a:xfrm>
            <a:off x="1476360" y="4221000"/>
            <a:ext cx="6553080" cy="207324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wels: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s a foster parent, it is important to be seen, heard and respected.</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is essential to be provided with relevant background information.</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is valuable to come into contact with others who are in a similar situation.</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It is essential that professional guidance is readily available.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helps to have our own consultant who is available on a day-to-day basis, who is familiar with our situation, who can provide guidance, answer questions, reflect, and help make decisions.</a:t>
            </a:r>
            <a:endParaRPr b="0" lang="en-US" sz="1400" spc="-1" strike="noStrike">
              <a:solidFill>
                <a:srgbClr val="000000"/>
              </a:solidFill>
              <a:latin typeface="Arial"/>
            </a:endParaRPr>
          </a:p>
        </p:txBody>
      </p:sp>
      <p:sp>
        <p:nvSpPr>
          <p:cNvPr id="2036" name="Rectangle 6"/>
          <p:cNvSpPr/>
          <p:nvPr/>
        </p:nvSpPr>
        <p:spPr>
          <a:xfrm>
            <a:off x="2195640" y="1557360"/>
            <a:ext cx="4572000" cy="243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counseling with other foster parents has given me insight and helped me to get to know myself better.  It is important to meet others who are in a similar situ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 it has also been essential to have my own consultant  who I can ask questions, think aloud with, reflect and discuss with.  As a foster mother, it is important to be seen, heard and respected</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WordArt 7"/>
          <p:cNvSpPr txBox="1"/>
          <p:nvPr/>
        </p:nvSpPr>
        <p:spPr>
          <a:xfrm>
            <a:off x="1258920" y="1197000"/>
            <a:ext cx="1143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KNOWLEDGE</a:t>
            </a:r>
            <a:endParaRPr b="0" lang="en-US" sz="1200" spc="1" strike="noStrike">
              <a:ln w="9360">
                <a:solidFill>
                  <a:srgbClr val="000000"/>
                </a:solidFill>
                <a:miter/>
              </a:ln>
              <a:solidFill>
                <a:srgbClr val="ffffff"/>
              </a:solidFill>
              <a:latin typeface="Arial"/>
              <a:ea typeface="Arial"/>
            </a:endParaRPr>
          </a:p>
        </p:txBody>
      </p:sp>
      <p:pic>
        <p:nvPicPr>
          <p:cNvPr id="2038" name="Picture 8" descr="j0239205"/>
          <p:cNvPicPr/>
          <p:nvPr/>
        </p:nvPicPr>
        <p:blipFill>
          <a:blip r:embed="rId2"/>
          <a:stretch/>
        </p:blipFill>
        <p:spPr>
          <a:xfrm>
            <a:off x="611280" y="1341360"/>
            <a:ext cx="630000" cy="720720"/>
          </a:xfrm>
          <a:prstGeom prst="rect">
            <a:avLst/>
          </a:prstGeom>
          <a:ln w="0">
            <a:noFill/>
          </a:ln>
        </p:spPr>
      </p:pic>
      <p:pic>
        <p:nvPicPr>
          <p:cNvPr id="2039" name="Picture 9" descr="j0239107"/>
          <p:cNvPicPr/>
          <p:nvPr/>
        </p:nvPicPr>
        <p:blipFill>
          <a:blip r:embed="rId3"/>
          <a:stretch/>
        </p:blipFill>
        <p:spPr>
          <a:xfrm>
            <a:off x="611280" y="3068640"/>
            <a:ext cx="755640" cy="750960"/>
          </a:xfrm>
          <a:prstGeom prst="rect">
            <a:avLst/>
          </a:prstGeom>
          <a:ln w="0">
            <a:noFill/>
          </a:ln>
        </p:spPr>
      </p:pic>
      <p:sp>
        <p:nvSpPr>
          <p:cNvPr id="2040" name="WordArt 10"/>
          <p:cNvSpPr txBox="1"/>
          <p:nvPr/>
        </p:nvSpPr>
        <p:spPr>
          <a:xfrm>
            <a:off x="1187280" y="3789360"/>
            <a:ext cx="1143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KNOWLEDGE</a:t>
            </a:r>
            <a:endParaRPr b="0" lang="en-US" sz="1200" spc="1" strike="noStrike">
              <a:ln w="9360">
                <a:solidFill>
                  <a:srgbClr val="000000"/>
                </a:solidFill>
                <a:miter/>
              </a:ln>
              <a:solidFill>
                <a:srgbClr val="ffffff"/>
              </a:solidFill>
              <a:latin typeface="Arial"/>
              <a:ea typeface="Arial"/>
            </a:endParaRPr>
          </a:p>
        </p:txBody>
      </p:sp>
      <p:sp>
        <p:nvSpPr>
          <p:cNvPr id="2041" name="WordArt 11"/>
          <p:cNvSpPr txBox="1"/>
          <p:nvPr/>
        </p:nvSpPr>
        <p:spPr>
          <a:xfrm>
            <a:off x="539640" y="2492280"/>
            <a:ext cx="1104840" cy="216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AFFIRMATION</a:t>
            </a:r>
            <a:endParaRPr b="0" lang="en-US" sz="1200" spc="1" strike="noStrike">
              <a:ln w="9360">
                <a:solidFill>
                  <a:srgbClr val="000000"/>
                </a:solidFill>
                <a:miter/>
              </a:ln>
              <a:solidFill>
                <a:srgbClr val="000000"/>
              </a:solidFill>
              <a:latin typeface="Arial"/>
              <a:ea typeface="Arial"/>
            </a:endParaRPr>
          </a:p>
        </p:txBody>
      </p:sp>
      <p:pic>
        <p:nvPicPr>
          <p:cNvPr id="2042" name="Picture 12" descr="j0213033"/>
          <p:cNvPicPr/>
          <p:nvPr/>
        </p:nvPicPr>
        <p:blipFill>
          <a:blip r:embed="rId4"/>
          <a:stretch/>
        </p:blipFill>
        <p:spPr>
          <a:xfrm>
            <a:off x="6732720" y="2924280"/>
            <a:ext cx="674640" cy="934920"/>
          </a:xfrm>
          <a:prstGeom prst="rect">
            <a:avLst/>
          </a:prstGeom>
          <a:ln w="0">
            <a:noFill/>
          </a:ln>
        </p:spPr>
      </p:pic>
      <p:sp>
        <p:nvSpPr>
          <p:cNvPr id="2043" name="WordArt 13"/>
          <p:cNvSpPr txBox="1"/>
          <p:nvPr/>
        </p:nvSpPr>
        <p:spPr>
          <a:xfrm>
            <a:off x="7020000" y="1197000"/>
            <a:ext cx="71424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RESPECT</a:t>
            </a:r>
            <a:endParaRPr b="0" lang="en-US" sz="1200" spc="1" strike="noStrike">
              <a:ln w="9360">
                <a:solidFill>
                  <a:srgbClr val="000000"/>
                </a:solidFill>
                <a:miter/>
              </a:ln>
              <a:solidFill>
                <a:srgbClr val="ffffff"/>
              </a:solidFill>
              <a:latin typeface="Arial"/>
              <a:ea typeface="Arial"/>
            </a:endParaRPr>
          </a:p>
        </p:txBody>
      </p:sp>
      <p:sp>
        <p:nvSpPr>
          <p:cNvPr id="2044" name="WordArt 14"/>
          <p:cNvSpPr txBox="1"/>
          <p:nvPr/>
        </p:nvSpPr>
        <p:spPr>
          <a:xfrm rot="21261000">
            <a:off x="7667640" y="2781360"/>
            <a:ext cx="89532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COUNSELING</a:t>
            </a:r>
            <a:endParaRPr b="0" lang="en-US" sz="1200" spc="1" strike="noStrike">
              <a:ln w="9360">
                <a:solidFill>
                  <a:srgbClr val="000000"/>
                </a:solidFill>
                <a:miter/>
              </a:ln>
              <a:solidFill>
                <a:srgbClr val="000000"/>
              </a:solidFill>
              <a:latin typeface="Arial"/>
              <a:ea typeface="Arial"/>
            </a:endParaRPr>
          </a:p>
        </p:txBody>
      </p:sp>
      <p:pic>
        <p:nvPicPr>
          <p:cNvPr id="2045" name="Picture 15" descr="j0355973"/>
          <p:cNvPicPr/>
          <p:nvPr/>
        </p:nvPicPr>
        <p:blipFill>
          <a:blip r:embed="rId5"/>
          <a:stretch/>
        </p:blipFill>
        <p:spPr>
          <a:xfrm>
            <a:off x="7380360" y="1557360"/>
            <a:ext cx="785880" cy="792000"/>
          </a:xfrm>
          <a:prstGeom prst="rect">
            <a:avLst/>
          </a:prstGeom>
          <a:ln w="0">
            <a:noFill/>
          </a:ln>
        </p:spPr>
      </p:pic>
      <p:sp>
        <p:nvSpPr>
          <p:cNvPr id="2046" name="Rectangle 16"/>
          <p:cNvSpPr/>
          <p:nvPr/>
        </p:nvSpPr>
        <p:spPr>
          <a:xfrm>
            <a:off x="8677800" y="404640"/>
            <a:ext cx="43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hat does our foster care system look like?</a:t>
            </a:r>
            <a:endParaRPr b="0" lang="en-US" sz="2400" spc="-1" strike="noStrike">
              <a:solidFill>
                <a:srgbClr val="000000"/>
              </a:solidFill>
              <a:latin typeface="Arial"/>
            </a:endParaRPr>
          </a:p>
        </p:txBody>
      </p:sp>
      <p:sp>
        <p:nvSpPr>
          <p:cNvPr id="2048"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Norway: 2 levels </a:t>
            </a:r>
            <a:r>
              <a:rPr b="0" lang="en-GB" sz="1600" spc="-1" strike="noStrike">
                <a:solidFill>
                  <a:srgbClr val="000000"/>
                </a:solidFill>
                <a:latin typeface="Arial"/>
              </a:rPr>
              <a:t>(state and local) </a:t>
            </a:r>
            <a:r>
              <a:rPr b="1" lang="en-GB" sz="1800" spc="-1" strike="noStrike">
                <a:solidFill>
                  <a:srgbClr val="000000"/>
                </a:solidFill>
                <a:latin typeface="Arial"/>
              </a:rPr>
              <a:t>and different </a:t>
            </a:r>
            <a:r>
              <a:rPr b="1" lang="en-GB" sz="2000" spc="-1" strike="noStrike">
                <a:solidFill>
                  <a:srgbClr val="000000"/>
                </a:solidFill>
                <a:latin typeface="Arial"/>
              </a:rPr>
              <a:t>kinds </a:t>
            </a:r>
            <a:r>
              <a:rPr b="0" lang="en-GB" sz="2000" spc="-1" strike="noStrike">
                <a:solidFill>
                  <a:srgbClr val="000000"/>
                </a:solidFill>
                <a:latin typeface="Arial"/>
              </a:rPr>
              <a:t>of foster care:</a:t>
            </a:r>
            <a:endParaRPr b="0" lang="en-US" sz="20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rdinary foster </a:t>
            </a:r>
            <a:r>
              <a:rPr b="0" lang="en-GB" sz="2000" spc="-1" strike="noStrike">
                <a:solidFill>
                  <a:srgbClr val="000000"/>
                </a:solidFill>
                <a:latin typeface="Arial"/>
              </a:rPr>
              <a:t>care placements </a:t>
            </a:r>
            <a:r>
              <a:rPr b="0" lang="en-GB" sz="1600" spc="-1" strike="noStrike">
                <a:solidFill>
                  <a:srgbClr val="000000"/>
                </a:solidFill>
                <a:latin typeface="Arial"/>
              </a:rPr>
              <a:t>(90 %, long term) </a:t>
            </a:r>
            <a:r>
              <a:rPr b="1" i="1" lang="en-GB" sz="1600" spc="-1" strike="noStrike">
                <a:solidFill>
                  <a:srgbClr val="000000"/>
                </a:solidFill>
                <a:latin typeface="Arial"/>
              </a:rPr>
              <a:t>The core in child care</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ate level </a:t>
            </a:r>
            <a:r>
              <a:rPr b="1" lang="en-GB" sz="1600" spc="-1" strike="noStrike">
                <a:solidFill>
                  <a:srgbClr val="000000"/>
                </a:solidFill>
                <a:latin typeface="Arial"/>
              </a:rPr>
              <a:t>recruit</a:t>
            </a:r>
            <a:r>
              <a:rPr b="0" lang="en-GB" sz="1600" spc="-1" strike="noStrike">
                <a:solidFill>
                  <a:srgbClr val="000000"/>
                </a:solidFill>
                <a:latin typeface="Arial"/>
              </a:rPr>
              <a:t> and </a:t>
            </a:r>
            <a:r>
              <a:rPr b="1" lang="en-GB" sz="1600" spc="-1" strike="noStrike">
                <a:solidFill>
                  <a:srgbClr val="000000"/>
                </a:solidFill>
                <a:latin typeface="Arial"/>
              </a:rPr>
              <a:t>train</a:t>
            </a:r>
            <a:r>
              <a:rPr b="0" lang="en-GB" sz="1600" spc="-1" strike="noStrike">
                <a:solidFill>
                  <a:srgbClr val="000000"/>
                </a:solidFill>
                <a:latin typeface="Arial"/>
              </a:rPr>
              <a:t> and hand over to local authority</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ocal level are </a:t>
            </a:r>
            <a:r>
              <a:rPr b="1" lang="en-GB" sz="1600" spc="-1" strike="noStrike">
                <a:solidFill>
                  <a:srgbClr val="000000"/>
                </a:solidFill>
                <a:latin typeface="Arial"/>
              </a:rPr>
              <a:t>following up </a:t>
            </a:r>
            <a:r>
              <a:rPr b="0" lang="en-GB" sz="1600" spc="-1" strike="noStrike">
                <a:solidFill>
                  <a:srgbClr val="000000"/>
                </a:solidFill>
                <a:latin typeface="Arial"/>
              </a:rPr>
              <a:t>and responsible for </a:t>
            </a:r>
            <a:r>
              <a:rPr b="1" lang="en-GB" sz="1600" spc="-1" strike="noStrike">
                <a:solidFill>
                  <a:srgbClr val="000000"/>
                </a:solidFill>
                <a:latin typeface="Arial"/>
              </a:rPr>
              <a:t>payment</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ra recourses </a:t>
            </a:r>
            <a:r>
              <a:rPr b="0" lang="en-GB" sz="2000" spc="-1" strike="noStrike">
                <a:solidFill>
                  <a:srgbClr val="000000"/>
                </a:solidFill>
                <a:latin typeface="Arial"/>
              </a:rPr>
              <a:t>(45 % of these) </a:t>
            </a:r>
            <a:r>
              <a:rPr b="1" lang="en-GB" sz="2000" spc="-1" strike="noStrike">
                <a:solidFill>
                  <a:srgbClr val="000000"/>
                </a:solidFill>
                <a:latin typeface="Arial"/>
              </a:rPr>
              <a:t>– </a:t>
            </a:r>
            <a:r>
              <a:rPr b="0" lang="en-GB" sz="1600" spc="-1" strike="noStrike">
                <a:solidFill>
                  <a:srgbClr val="000000"/>
                </a:solidFill>
                <a:latin typeface="Arial"/>
              </a:rPr>
              <a:t>higher amount of problems (still local responsibility, but refund from state above a certain amount)</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alised foster care </a:t>
            </a:r>
            <a:r>
              <a:rPr b="0" lang="en-GB" sz="1600" spc="-1" strike="noStrike">
                <a:solidFill>
                  <a:srgbClr val="000000"/>
                </a:solidFill>
                <a:latin typeface="Arial"/>
              </a:rPr>
              <a:t>(«family homes» and short term care- 10 %)</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hard to place» youth</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mergency – short term</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ate level</a:t>
            </a:r>
            <a:r>
              <a:rPr b="0" lang="en-GB" sz="1600" spc="-1" strike="noStrike">
                <a:solidFill>
                  <a:srgbClr val="000000"/>
                </a:solidFill>
                <a:latin typeface="Arial"/>
              </a:rPr>
              <a:t>; salary like a job, pension rights, standard contracts</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9"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9CA9D983-0E28-448B-B159-847F6E694F5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0"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DE a recruitment and training system for foster carers</a:t>
            </a:r>
            <a:endParaRPr b="0" lang="en-US" sz="2400" spc="-1" strike="noStrike">
              <a:solidFill>
                <a:srgbClr val="000000"/>
              </a:solidFill>
              <a:latin typeface="Arial"/>
            </a:endParaRPr>
          </a:p>
        </p:txBody>
      </p:sp>
      <p:sp>
        <p:nvSpPr>
          <p:cNvPr id="2052" name=""/>
          <p:cNvSpPr txBox="1"/>
          <p:nvPr/>
        </p:nvSpPr>
        <p:spPr>
          <a:xfrm>
            <a:off x="685800" y="1517400"/>
            <a:ext cx="7772400" cy="4660920"/>
          </a:xfrm>
          <a:prstGeom prst="rect">
            <a:avLst/>
          </a:prstGeom>
          <a:noFill/>
          <a:ln w="0">
            <a:noFill/>
          </a:ln>
        </p:spPr>
        <p:txBody>
          <a:bodyPr anchor="t">
            <a:normAutofit/>
          </a:bodyPr>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DE – overall system to be used</a:t>
            </a:r>
            <a:endParaRPr b="0" lang="en-US" sz="20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fetat is the </a:t>
            </a:r>
            <a:r>
              <a:rPr b="1" lang="en-GB" sz="1800" spc="-1" strike="noStrike">
                <a:solidFill>
                  <a:srgbClr val="000000"/>
                </a:solidFill>
                <a:latin typeface="Arial"/>
              </a:rPr>
              <a:t>rightful owner </a:t>
            </a:r>
            <a:r>
              <a:rPr b="0" lang="en-GB" sz="1800" spc="-1" strike="noStrike">
                <a:solidFill>
                  <a:srgbClr val="000000"/>
                </a:solidFill>
                <a:latin typeface="Arial"/>
              </a:rPr>
              <a:t>of the recruiting and training programme</a:t>
            </a:r>
            <a:r>
              <a:rPr b="0" lang="en-GB" sz="2000" spc="-1" strike="noStrike">
                <a:solidFill>
                  <a:srgbClr val="000000"/>
                </a:solidFill>
                <a:latin typeface="Arial"/>
              </a:rPr>
              <a:t>. </a:t>
            </a:r>
            <a:r>
              <a:rPr b="0" lang="en-GB" sz="1600" spc="-1" strike="noStrike">
                <a:solidFill>
                  <a:srgbClr val="000000"/>
                </a:solidFill>
                <a:latin typeface="Arial"/>
              </a:rPr>
              <a:t>(originally developed in USA)</a:t>
            </a:r>
            <a:endParaRPr b="0" lang="en-US" sz="16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the programme, produce materials, train the trainers</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rvice programme : everybody through PRIDE (our aim)</a:t>
            </a:r>
            <a:endParaRPr b="0" lang="en-US" sz="20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 than 4 out of 5 people in the “foster-home-bank” have done the Pre-service programme</a:t>
            </a:r>
            <a:endParaRPr b="0" lang="en-US" sz="16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 state that PRIDE Pre-service was highly influential in their decision to become foster parents</a:t>
            </a:r>
            <a:endParaRPr b="0" lang="en-US" sz="16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ter the course – the participants often have valuable contact and help each other</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ervice programme: </a:t>
            </a:r>
            <a:r>
              <a:rPr b="0" lang="en-GB" sz="1600" spc="-1" strike="noStrike">
                <a:solidFill>
                  <a:srgbClr val="000000"/>
                </a:solidFill>
                <a:latin typeface="Arial"/>
              </a:rPr>
              <a:t>special themes during placements</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ised foster care</a:t>
            </a:r>
            <a:r>
              <a:rPr b="0" lang="en-GB" sz="1600" spc="-1" strike="noStrike">
                <a:solidFill>
                  <a:srgbClr val="000000"/>
                </a:solidFill>
                <a:latin typeface="Arial"/>
              </a:rPr>
              <a:t>: training in addition</a:t>
            </a:r>
            <a:endParaRPr b="0" lang="en-US" sz="1600" spc="-1" strike="noStrike">
              <a:solidFill>
                <a:srgbClr val="000000"/>
              </a:solidFill>
              <a:latin typeface="Arial"/>
            </a:endParaRPr>
          </a:p>
        </p:txBody>
      </p:sp>
      <p:sp>
        <p:nvSpPr>
          <p:cNvPr id="205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B3719EA-441D-4DFE-94B9-B7BA9F4B7C2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important issues I</a:t>
            </a:r>
            <a:endParaRPr b="0" lang="en-US" sz="3200" spc="-1" strike="noStrike">
              <a:solidFill>
                <a:srgbClr val="000000"/>
              </a:solidFill>
              <a:latin typeface="Arial"/>
            </a:endParaRPr>
          </a:p>
        </p:txBody>
      </p:sp>
      <p:sp>
        <p:nvSpPr>
          <p:cNvPr id="2056"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leaving care and after care: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th can - by law - maintain help from the child care system until 23 years, if needed</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youth have to agre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disability:</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separate law about fostering children with disability</a:t>
            </a:r>
            <a:endParaRPr b="0" lang="en-US" sz="18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vered by different laws: social law, health law, child care law</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more big institution – but use of respite homes (smaller)</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ldren stay at home or in foster care or what we call: “shared apartments” (1-2 in each with staff)</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ways discussion about payment among authorities</a:t>
            </a:r>
            <a:endParaRPr b="0" lang="en-US" sz="16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89C4D191-3827-45EC-B77A-8713E4288C5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p:nvPr>
        </p:nvSpPr>
        <p:spPr>
          <a:xfrm>
            <a:off x="394920" y="1267920"/>
            <a:ext cx="3097080" cy="3961080"/>
          </a:xfrm>
          <a:prstGeom prst="rect">
            <a:avLst/>
          </a:prstGeom>
          <a:noFill/>
          <a:ln w="0">
            <a:noFill/>
          </a:ln>
        </p:spPr>
        <p:txBody>
          <a:bodyPr anchor="t">
            <a:normAutofit fontScale="96000"/>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en (19) tells about his social worker in the program he is in:</a:t>
            </a: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ll be moving to my own apartment soon.  I`ve been living within a system where I`ve had a lot of support.  I have tried things on my own, too – it`s often lonely.  Some days worse than others, sitting in my chair, the fear growing, things getting darker and darker, loneliness sneaking up on me…   </a:t>
            </a: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cial worker thought a lot about this boy – “tonight I`ll stop by with some good food.  I`ll do it without calling ahead of time, I want to surprise him.”</a:t>
            </a:r>
            <a:endParaRPr b="0" lang="en-US" sz="1400" spc="-1" strike="noStrike">
              <a:solidFill>
                <a:srgbClr val="000000"/>
              </a:solidFill>
              <a:latin typeface="Arial"/>
            </a:endParaRPr>
          </a:p>
        </p:txBody>
      </p:sp>
      <p:sp>
        <p:nvSpPr>
          <p:cNvPr id="2060" name="Text Box 3"/>
          <p:cNvSpPr/>
          <p:nvPr/>
        </p:nvSpPr>
        <p:spPr>
          <a:xfrm>
            <a:off x="539640" y="5589720"/>
            <a:ext cx="6696360" cy="79452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verything seems a little brighter when you have someone to share wit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 spontaneous get-together can be more valuable than a planned meeting.</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061" name="Text Box 4"/>
          <p:cNvSpPr/>
          <p:nvPr/>
        </p:nvSpPr>
        <p:spPr>
          <a:xfrm>
            <a:off x="395280" y="333360"/>
            <a:ext cx="6048360" cy="642600"/>
          </a:xfrm>
          <a:prstGeom prst="rect">
            <a:avLst/>
          </a:prstGeom>
          <a:noFill/>
          <a:ln w="76320">
            <a:solidFill>
              <a:srgbClr val="66ff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the little things – like stopping by with good food – that`s social work! –a little story about  “after care”</a:t>
            </a:r>
            <a:endParaRPr b="0" lang="en-US" sz="1800" spc="-1" strike="noStrike">
              <a:solidFill>
                <a:srgbClr val="000000"/>
              </a:solidFill>
              <a:latin typeface="Arial"/>
            </a:endParaRPr>
          </a:p>
        </p:txBody>
      </p:sp>
      <p:sp>
        <p:nvSpPr>
          <p:cNvPr id="2062" name="Text Box 5"/>
          <p:cNvSpPr/>
          <p:nvPr/>
        </p:nvSpPr>
        <p:spPr>
          <a:xfrm>
            <a:off x="6084720" y="1268280"/>
            <a:ext cx="2664000" cy="3188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oorbell rings.  Who can it be?  I open the door and there`s the social worker, arms full of food, and he asks: “would you like to eat with m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t`s just what I needed.  He went on and on about this and that. He talks a lot. But it was nic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came by and stayed around for awhile, just for me – it was a good evening and I slept well that nigh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63" name="Picture 6" descr="MCFL00008_0000[1]"/>
          <p:cNvPicPr/>
          <p:nvPr/>
        </p:nvPicPr>
        <p:blipFill>
          <a:blip r:embed="rId1"/>
          <a:stretch/>
        </p:blipFill>
        <p:spPr>
          <a:xfrm>
            <a:off x="7920000" y="0"/>
            <a:ext cx="1224000" cy="892080"/>
          </a:xfrm>
          <a:prstGeom prst="rect">
            <a:avLst/>
          </a:prstGeom>
          <a:ln w="0">
            <a:noFill/>
          </a:ln>
        </p:spPr>
      </p:pic>
      <p:pic>
        <p:nvPicPr>
          <p:cNvPr id="2064" name="Picture 7" descr=""/>
          <p:cNvPicPr/>
          <p:nvPr/>
        </p:nvPicPr>
        <p:blipFill>
          <a:blip r:embed="rId2"/>
          <a:stretch/>
        </p:blipFill>
        <p:spPr>
          <a:xfrm>
            <a:off x="3635280" y="1916280"/>
            <a:ext cx="2260800" cy="3095280"/>
          </a:xfrm>
          <a:prstGeom prst="rect">
            <a:avLst/>
          </a:prstGeom>
          <a:ln w="0">
            <a:noFill/>
          </a:ln>
        </p:spPr>
      </p:pic>
      <p:sp>
        <p:nvSpPr>
          <p:cNvPr id="2065" name="Rectangle 8"/>
          <p:cNvSpPr/>
          <p:nvPr/>
        </p:nvSpPr>
        <p:spPr>
          <a:xfrm>
            <a:off x="8677440" y="4762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important issues II</a:t>
            </a:r>
            <a:endParaRPr b="0" lang="en-US" sz="3200" spc="-1" strike="noStrike">
              <a:solidFill>
                <a:srgbClr val="000000"/>
              </a:solidFill>
              <a:latin typeface="Arial"/>
            </a:endParaRPr>
          </a:p>
        </p:txBody>
      </p:sp>
      <p:sp>
        <p:nvSpPr>
          <p:cNvPr id="2067" name=""/>
          <p:cNvSpPr txBox="1"/>
          <p:nvPr/>
        </p:nvSpPr>
        <p:spPr>
          <a:xfrm>
            <a:off x="685800" y="15174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ghts of children in decision making process</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law (Child and welfare law &amp; 6-3)</a:t>
            </a:r>
            <a:endParaRPr b="0" lang="en-US" sz="18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a say by 7 years </a:t>
            </a:r>
            <a:r>
              <a:rPr b="0" lang="en-GB" sz="1600" spc="-1" strike="noStrike">
                <a:solidFill>
                  <a:srgbClr val="000000"/>
                </a:solidFill>
                <a:latin typeface="Arial"/>
              </a:rPr>
              <a:t>(or younger if possible) before decisions taken on their behalf. Their opinions are supposed to have an essential impact.</a:t>
            </a:r>
            <a:endParaRPr b="0" lang="en-US" sz="16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y rights from 15 years.</a:t>
            </a:r>
            <a:endParaRPr b="0" lang="en-US" sz="1600" spc="-1" strike="noStrike">
              <a:solidFill>
                <a:srgbClr val="000000"/>
              </a:solidFill>
              <a:latin typeface="Arial"/>
            </a:endParaRPr>
          </a:p>
          <a:p>
            <a:pPr lvl="1" marL="567360" indent="-19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far as I know these rights are fully respected in formal decisions.</a:t>
            </a:r>
            <a:endParaRPr b="0" lang="en-US" sz="1600" spc="-1" strike="noStrike">
              <a:solidFill>
                <a:srgbClr val="000000"/>
              </a:solidFill>
              <a:latin typeface="Arial"/>
            </a:endParaRPr>
          </a:p>
          <a:p>
            <a:pPr lvl="1" marL="567360" indent="-19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 day by day” – life many of them will say they have to little influence, for instance by ” foster home breakdowns”.</a:t>
            </a:r>
            <a:endParaRPr b="0" lang="en-US" sz="16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blings together in foster care - if this is in the interest of the child</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eparate homes- staying in contact can be chosen</a:t>
            </a:r>
            <a:endParaRPr b="0" lang="en-US" sz="18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olve the parents whenever possible</a:t>
            </a:r>
            <a:endParaRPr b="0" lang="en-US" sz="2000" spc="-1" strike="noStrike">
              <a:solidFill>
                <a:srgbClr val="000000"/>
              </a:solidFill>
              <a:latin typeface="Arial"/>
            </a:endParaRPr>
          </a:p>
        </p:txBody>
      </p:sp>
      <p:sp>
        <p:nvSpPr>
          <p:cNvPr id="206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498C1155-16BD-4181-944C-B53439A8C1F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6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title"/>
          </p:nvPr>
        </p:nvSpPr>
        <p:spPr>
          <a:xfrm>
            <a:off x="468000" y="404280"/>
            <a:ext cx="4895640" cy="863640"/>
          </a:xfrm>
          <a:prstGeom prst="rect">
            <a:avLst/>
          </a:prstGeom>
          <a:noFill/>
          <a:ln w="76320">
            <a:solidFill>
              <a:srgbClr val="ff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day, I can help you, </a:t>
            </a:r>
            <a:br>
              <a:rPr sz="2000"/>
            </a:br>
            <a:r>
              <a:rPr b="0" lang="en-GB" sz="2000" spc="-1" strike="noStrike">
                <a:solidFill>
                  <a:srgbClr val="000000"/>
                </a:solidFill>
                <a:latin typeface="Arial"/>
              </a:rPr>
              <a:t>tomorrow you can help me.</a:t>
            </a:r>
            <a:endParaRPr b="0" lang="en-US" sz="2000" spc="-1" strike="noStrike">
              <a:solidFill>
                <a:srgbClr val="000000"/>
              </a:solidFill>
              <a:latin typeface="Arial"/>
            </a:endParaRPr>
          </a:p>
        </p:txBody>
      </p:sp>
      <p:sp>
        <p:nvSpPr>
          <p:cNvPr id="2071" name="PlaceHolder 2"/>
          <p:cNvSpPr>
            <a:spLocks noGrp="1"/>
          </p:cNvSpPr>
          <p:nvPr>
            <p:ph/>
          </p:nvPr>
        </p:nvSpPr>
        <p:spPr>
          <a:xfrm>
            <a:off x="456840" y="1600200"/>
            <a:ext cx="4475160" cy="45259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daughter was 14 years old when she was placed in foster care.  There had been a lot of problems at home over a long period of time before she was placed.  I felt exhausted and like a failure as a mother.  My way of dealing with things was to back out of my daughter`s life.  I didn`t want to go to meetings or even to see my daught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two things that turned the situation around.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thing was that Children`s Services and the program that my daughter was a part of included me in the entire process.  They said that I was important to my daughter and they never gave me up.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ther turning point was the way the foster mother approached me the first time we met.  The first thing I noticed was the way she conducted herself.  It made me relax.  And she said to me, “I`m only human myself.  Today, I can help you, tomorrow you can help m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72" name="Picture 4" descr="MCj02500530000[1]"/>
          <p:cNvPicPr/>
          <p:nvPr/>
        </p:nvPicPr>
        <p:blipFill>
          <a:blip r:embed="rId1"/>
          <a:stretch/>
        </p:blipFill>
        <p:spPr>
          <a:xfrm>
            <a:off x="6659640" y="2852640"/>
            <a:ext cx="1004760" cy="1293840"/>
          </a:xfrm>
          <a:prstGeom prst="rect">
            <a:avLst/>
          </a:prstGeom>
          <a:ln w="0">
            <a:noFill/>
          </a:ln>
        </p:spPr>
      </p:pic>
      <p:sp>
        <p:nvSpPr>
          <p:cNvPr id="2073" name="Text Box 5"/>
          <p:cNvSpPr/>
          <p:nvPr/>
        </p:nvSpPr>
        <p:spPr>
          <a:xfrm>
            <a:off x="5651640" y="2276640"/>
            <a:ext cx="30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cked on the door and they let me in. </a:t>
            </a:r>
            <a:endParaRPr b="0" lang="en-US" sz="1200" spc="-1" strike="noStrike">
              <a:solidFill>
                <a:srgbClr val="000000"/>
              </a:solidFill>
              <a:latin typeface="Arial"/>
            </a:endParaRPr>
          </a:p>
        </p:txBody>
      </p:sp>
      <p:sp>
        <p:nvSpPr>
          <p:cNvPr id="2074" name="Text Box 6"/>
          <p:cNvSpPr/>
          <p:nvPr/>
        </p:nvSpPr>
        <p:spPr>
          <a:xfrm>
            <a:off x="5940360" y="4508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Text Box 7"/>
          <p:cNvSpPr/>
          <p:nvPr/>
        </p:nvSpPr>
        <p:spPr>
          <a:xfrm>
            <a:off x="5580000" y="4581360"/>
            <a:ext cx="302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Text Box 8"/>
          <p:cNvSpPr/>
          <p:nvPr/>
        </p:nvSpPr>
        <p:spPr>
          <a:xfrm>
            <a:off x="5651640" y="4508640"/>
            <a:ext cx="3168360" cy="138204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marL="87480" indent="-87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wels:  </a:t>
            </a:r>
            <a:endParaRPr b="0" lang="en-US" sz="1400" spc="-1" strike="noStrike">
              <a:solidFill>
                <a:srgbClr val="000000"/>
              </a:solidFill>
              <a:latin typeface="Arial"/>
            </a:endParaRPr>
          </a:p>
          <a:p>
            <a:pPr marL="87480" indent="-87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ver give up on us parents. </a:t>
            </a:r>
            <a:endParaRPr b="0" lang="en-US" sz="1400" spc="-1" strike="noStrike">
              <a:solidFill>
                <a:srgbClr val="000000"/>
              </a:solidFill>
              <a:latin typeface="Arial"/>
            </a:endParaRPr>
          </a:p>
          <a:p>
            <a:pPr marL="87480" indent="-87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oster mother reminded me we have more in common than not!</a:t>
            </a:r>
            <a:endParaRPr b="0" lang="en-US" sz="1400" spc="-1" strike="noStrike">
              <a:solidFill>
                <a:srgbClr val="000000"/>
              </a:solidFill>
              <a:latin typeface="Arial"/>
            </a:endParaRPr>
          </a:p>
        </p:txBody>
      </p:sp>
      <p:pic>
        <p:nvPicPr>
          <p:cNvPr id="2077" name="Picture 9" descr="MCj02997510000[1]"/>
          <p:cNvPicPr/>
          <p:nvPr/>
        </p:nvPicPr>
        <p:blipFill>
          <a:blip r:embed="rId2"/>
          <a:stretch/>
        </p:blipFill>
        <p:spPr>
          <a:xfrm>
            <a:off x="5219640" y="836640"/>
            <a:ext cx="2016360" cy="1247760"/>
          </a:xfrm>
          <a:prstGeom prst="rect">
            <a:avLst/>
          </a:prstGeom>
          <a:ln w="0">
            <a:noFill/>
          </a:ln>
        </p:spPr>
      </p:pic>
      <p:sp>
        <p:nvSpPr>
          <p:cNvPr id="2078" name="Rectangle 10"/>
          <p:cNvSpPr/>
          <p:nvPr/>
        </p:nvSpPr>
        <p:spPr>
          <a:xfrm>
            <a:off x="613080" y="1341360"/>
            <a:ext cx="395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BEATHE, A MOTHER`S PERSPECTIVE:</a:t>
            </a:r>
            <a:endParaRPr b="0" lang="en-US" sz="1600" spc="-1" strike="noStrike">
              <a:solidFill>
                <a:srgbClr val="000000"/>
              </a:solidFill>
              <a:latin typeface="Arial"/>
            </a:endParaRPr>
          </a:p>
        </p:txBody>
      </p:sp>
      <p:pic>
        <p:nvPicPr>
          <p:cNvPr id="2079" name="Picture 11" descr="MCFL00008_0000[1]"/>
          <p:cNvPicPr/>
          <p:nvPr/>
        </p:nvPicPr>
        <p:blipFill>
          <a:blip r:embed="rId3"/>
          <a:stretch/>
        </p:blipFill>
        <p:spPr>
          <a:xfrm>
            <a:off x="7939080" y="0"/>
            <a:ext cx="1204920" cy="879480"/>
          </a:xfrm>
          <a:prstGeom prst="rect">
            <a:avLst/>
          </a:prstGeom>
          <a:ln w="0">
            <a:noFill/>
          </a:ln>
        </p:spPr>
      </p:pic>
      <p:sp>
        <p:nvSpPr>
          <p:cNvPr id="2080" name="Text Box 12"/>
          <p:cNvSpPr/>
          <p:nvPr/>
        </p:nvSpPr>
        <p:spPr>
          <a:xfrm>
            <a:off x="8604360" y="62064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orwegian Child and family welfare system</a:t>
            </a:r>
            <a:endParaRPr b="0" lang="en-US" sz="2800" spc="-1" strike="noStrike">
              <a:solidFill>
                <a:srgbClr val="000000"/>
              </a:solidFill>
              <a:latin typeface="Arial"/>
            </a:endParaRPr>
          </a:p>
        </p:txBody>
      </p:sp>
      <p:sp>
        <p:nvSpPr>
          <p:cNvPr id="1946"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pulation:</a:t>
            </a:r>
            <a:r>
              <a:rPr b="1" lang="nb-NO" sz="2000" spc="-1" strike="noStrike">
                <a:solidFill>
                  <a:srgbClr val="000000"/>
                </a:solidFill>
                <a:latin typeface="Arial"/>
              </a:rPr>
              <a:t>	</a:t>
            </a:r>
            <a:r>
              <a:rPr b="0" lang="nb-NO" sz="2000" spc="-1" strike="noStrike">
                <a:solidFill>
                  <a:srgbClr val="000000"/>
                </a:solidFill>
                <a:latin typeface="Arial"/>
              </a:rPr>
              <a:t>5 million peopl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Geographically </a:t>
            </a:r>
            <a:r>
              <a:rPr b="0" lang="nb-NO" sz="2000" spc="-1" strike="noStrike">
                <a:solidFill>
                  <a:srgbClr val="000000"/>
                </a:solidFill>
                <a:latin typeface="Arial"/>
              </a:rPr>
              <a:t>devided in counties and municipalit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child care system at 2 levels: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ocal:</a:t>
            </a:r>
            <a:r>
              <a:rPr b="1" lang="nb-NO" sz="1800" spc="-1" strike="noStrike">
                <a:solidFill>
                  <a:srgbClr val="000000"/>
                </a:solidFill>
                <a:latin typeface="Arial"/>
              </a:rPr>
              <a:t>	</a:t>
            </a:r>
            <a:r>
              <a:rPr b="0" lang="nb-NO" sz="1800" spc="-1" strike="noStrike">
                <a:solidFill>
                  <a:srgbClr val="000000"/>
                </a:solidFill>
                <a:latin typeface="Arial"/>
              </a:rPr>
              <a:t>Social and Child Services in municipalitie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ate:</a:t>
            </a:r>
            <a:r>
              <a:rPr b="1" lang="nb-NO" sz="1800" spc="-1" strike="noStrike">
                <a:solidFill>
                  <a:srgbClr val="000000"/>
                </a:solidFill>
                <a:latin typeface="Arial"/>
              </a:rPr>
              <a:t>	</a:t>
            </a:r>
            <a:r>
              <a:rPr b="0" lang="nb-NO" sz="1800" spc="-1" strike="noStrike">
                <a:solidFill>
                  <a:srgbClr val="000000"/>
                </a:solidFill>
                <a:latin typeface="Arial"/>
              </a:rPr>
              <a:t>Ministry, Directorate (Bufdir) and «etat» o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epartement (Bufetat)</a:t>
            </a:r>
            <a:endParaRPr b="0" lang="en-US" sz="18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most important law:  </a:t>
            </a:r>
            <a:r>
              <a:rPr b="0" lang="nb-NO" sz="2000" spc="-1" strike="noStrike">
                <a:solidFill>
                  <a:srgbClr val="000000"/>
                </a:solidFill>
                <a:latin typeface="Arial"/>
              </a:rPr>
              <a:t>Child and welfare law </a:t>
            </a:r>
            <a:r>
              <a:rPr b="0" lang="nb-NO" sz="1600" spc="-1" strike="noStrike">
                <a:solidFill>
                  <a:srgbClr val="000000"/>
                </a:solidFill>
                <a:latin typeface="Arial"/>
              </a:rPr>
              <a:t>(1993,rew.2004,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ongoing revision)</a:t>
            </a:r>
            <a:endParaRPr b="0" lang="en-US" sz="16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asks: </a:t>
            </a:r>
            <a:r>
              <a:rPr b="1" lang="nb-NO" sz="2000" spc="-1" strike="noStrike">
                <a:solidFill>
                  <a:srgbClr val="000000"/>
                </a:solidFill>
                <a:latin typeface="Arial"/>
              </a:rPr>
              <a:t>	</a:t>
            </a:r>
            <a:r>
              <a:rPr b="0" lang="nb-NO" sz="2000" spc="-1" strike="noStrike">
                <a:solidFill>
                  <a:srgbClr val="000000"/>
                </a:solidFill>
                <a:latin typeface="Arial"/>
              </a:rPr>
              <a:t>Devided between </a:t>
            </a:r>
            <a:r>
              <a:rPr b="1" lang="nb-NO" sz="2000" spc="-1" strike="noStrike">
                <a:solidFill>
                  <a:srgbClr val="000000"/>
                </a:solidFill>
                <a:latin typeface="Arial"/>
              </a:rPr>
              <a:t>state</a:t>
            </a:r>
            <a:r>
              <a:rPr b="0" lang="nb-NO" sz="2000" spc="-1" strike="noStrike">
                <a:solidFill>
                  <a:srgbClr val="000000"/>
                </a:solidFill>
                <a:latin typeface="Arial"/>
              </a:rPr>
              <a:t> and </a:t>
            </a:r>
            <a:r>
              <a:rPr b="1" lang="nb-NO" sz="2000" spc="-1" strike="noStrike">
                <a:solidFill>
                  <a:srgbClr val="000000"/>
                </a:solidFill>
                <a:latin typeface="Arial"/>
              </a:rPr>
              <a:t>local</a:t>
            </a:r>
            <a:r>
              <a:rPr b="0" lang="nb-NO" sz="2000" spc="-1" strike="noStrike">
                <a:solidFill>
                  <a:srgbClr val="000000"/>
                </a:solidFill>
                <a:latin typeface="Arial"/>
              </a:rPr>
              <a:t> in accordance to </a:t>
            </a:r>
            <a:r>
              <a:rPr b="0" lang="nb-NO" sz="2000" spc="-1" strike="noStrike">
                <a:solidFill>
                  <a:srgbClr val="000000"/>
                </a:solidFill>
                <a:latin typeface="Arial"/>
              </a:rPr>
              <a:t>	</a:t>
            </a:r>
            <a:r>
              <a:rPr b="0" lang="nb-NO" sz="2000" spc="-1" strike="noStrike">
                <a:solidFill>
                  <a:srgbClr val="000000"/>
                </a:solidFill>
                <a:latin typeface="Arial"/>
              </a:rPr>
              <a:t>	</a:t>
            </a:r>
            <a:r>
              <a:rPr b="0" lang="nb-NO" sz="2000" spc="-1" strike="noStrike">
                <a:solidFill>
                  <a:srgbClr val="000000"/>
                </a:solidFill>
                <a:latin typeface="Arial"/>
              </a:rPr>
              <a:t>this law and prescription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5 state-regions and a «gate system» between local and state</a:t>
            </a:r>
            <a:endParaRPr b="0" lang="en-US" sz="2000" spc="-1" strike="noStrike">
              <a:solidFill>
                <a:srgbClr val="000000"/>
              </a:solidFill>
              <a:latin typeface="Arial"/>
            </a:endParaRPr>
          </a:p>
        </p:txBody>
      </p:sp>
      <p:sp>
        <p:nvSpPr>
          <p:cNvPr id="194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B9159A4C-07EC-42B1-8FE5-16DD77480B5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ld Welfare – who does what? -</a:t>
            </a:r>
            <a:r>
              <a:rPr b="1" lang="en-GB" sz="1600" spc="-1" strike="noStrike">
                <a:solidFill>
                  <a:srgbClr val="000000"/>
                </a:solidFill>
                <a:latin typeface="Arial"/>
              </a:rPr>
              <a:t> on request only</a:t>
            </a:r>
            <a:endParaRPr b="0" lang="en-US" sz="1600" spc="-1" strike="noStrike">
              <a:solidFill>
                <a:srgbClr val="000000"/>
              </a:solidFill>
              <a:latin typeface="Arial"/>
            </a:endParaRPr>
          </a:p>
        </p:txBody>
      </p:sp>
      <p:sp>
        <p:nvSpPr>
          <p:cNvPr id="2082" name=""/>
          <p:cNvSpPr txBox="1"/>
          <p:nvPr/>
        </p:nvSpPr>
        <p:spPr>
          <a:xfrm>
            <a:off x="685800" y="1517400"/>
            <a:ext cx="7772400" cy="4660920"/>
          </a:xfrm>
          <a:prstGeom prst="rect">
            <a:avLst/>
          </a:prstGeom>
          <a:noFill/>
          <a:ln w="0">
            <a:noFill/>
          </a:ln>
        </p:spPr>
        <p:txBody>
          <a:bodyPr anchor="t">
            <a:normAutofit/>
          </a:bodyPr>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inistry of Children and Equality</a:t>
            </a:r>
            <a:br>
              <a:rPr sz="1800"/>
            </a:br>
            <a:r>
              <a:rPr b="0" lang="nb-NO" sz="1800" spc="-1" strike="noStrike">
                <a:solidFill>
                  <a:srgbClr val="000000"/>
                </a:solidFill>
                <a:latin typeface="Arial"/>
              </a:rPr>
              <a:t>has the o</a:t>
            </a:r>
            <a:r>
              <a:rPr b="0" lang="en-GB" sz="1800" spc="-1" strike="noStrike">
                <a:solidFill>
                  <a:srgbClr val="000000"/>
                </a:solidFill>
                <a:latin typeface="Arial"/>
              </a:rPr>
              <a:t>verall responsibility for child welfare at central government level</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rwegian Directorate for Children, Youth and Families </a:t>
            </a:r>
            <a:br>
              <a:rPr sz="1800"/>
            </a:br>
            <a:r>
              <a:rPr b="0" lang="nb-NO" sz="1800" spc="-1" strike="noStrike">
                <a:solidFill>
                  <a:srgbClr val="000000"/>
                </a:solidFill>
                <a:latin typeface="Arial"/>
              </a:rPr>
              <a:t>a</a:t>
            </a:r>
            <a:r>
              <a:rPr b="0" lang="en-GB" sz="1800" spc="-1" strike="noStrike">
                <a:solidFill>
                  <a:srgbClr val="000000"/>
                </a:solidFill>
                <a:latin typeface="Arial"/>
              </a:rPr>
              <a:t>ssists the local authorities in child welfare cases, management of institutions, foster home service and family-based activities</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unty Governor</a:t>
            </a:r>
            <a:r>
              <a:rPr b="0" lang="en-GB" sz="1800" spc="-1" strike="noStrike">
                <a:solidFill>
                  <a:srgbClr val="000000"/>
                </a:solidFill>
                <a:latin typeface="Arial"/>
              </a:rPr>
              <a:t> </a:t>
            </a:r>
            <a:br>
              <a:rPr sz="1800"/>
            </a:br>
            <a:r>
              <a:rPr b="0" lang="nb-NO" sz="1800" spc="-1" strike="noStrike">
                <a:solidFill>
                  <a:srgbClr val="000000"/>
                </a:solidFill>
                <a:latin typeface="Arial"/>
              </a:rPr>
              <a:t>s</a:t>
            </a:r>
            <a:r>
              <a:rPr b="0" lang="en-GB" sz="1800" spc="-1" strike="noStrike">
                <a:solidFill>
                  <a:srgbClr val="000000"/>
                </a:solidFill>
                <a:latin typeface="Arial"/>
              </a:rPr>
              <a:t>upervises child welfare activities, ensures that tasks laid down in the Child Welfare Act are carried out, supervises child welfare institutions and acts as the appeal body for individual decisions by the local authority.</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local authority:</a:t>
            </a:r>
            <a:r>
              <a:rPr b="0" lang="en-GB" sz="1800" spc="-1" strike="noStrike">
                <a:solidFill>
                  <a:srgbClr val="000000"/>
                </a:solidFill>
                <a:latin typeface="Arial"/>
              </a:rPr>
              <a:t> </a:t>
            </a:r>
            <a:br>
              <a:rPr sz="1800"/>
            </a:br>
            <a:r>
              <a:rPr b="0" lang="en-GB" sz="1800" spc="-1" strike="noStrike">
                <a:solidFill>
                  <a:srgbClr val="000000"/>
                </a:solidFill>
                <a:latin typeface="Arial"/>
              </a:rPr>
              <a:t>The municipal child welfare service receives reports of concern about children’s situations, investigates and takes action in accordance with the Child Welfare Services Act.</a:t>
            </a:r>
            <a:endParaRPr b="0" lang="en-US" sz="1800" spc="-1" strike="noStrike">
              <a:solidFill>
                <a:srgbClr val="000000"/>
              </a:solidFill>
              <a:latin typeface="Arial"/>
            </a:endParaRPr>
          </a:p>
        </p:txBody>
      </p:sp>
      <p:sp>
        <p:nvSpPr>
          <p:cNvPr id="208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B461F2D6-2BD2-4801-BDC1-67CBE96C6F1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8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ruitment – responsibility in Bufetat</a:t>
            </a:r>
            <a:endParaRPr b="0" lang="en-US" sz="2400" spc="-1" strike="noStrike">
              <a:solidFill>
                <a:srgbClr val="000000"/>
              </a:solidFill>
              <a:latin typeface="Arial"/>
            </a:endParaRPr>
          </a:p>
        </p:txBody>
      </p:sp>
      <p:sp>
        <p:nvSpPr>
          <p:cNvPr id="2086" name=""/>
          <p:cNvSpPr txBox="1"/>
          <p:nvPr/>
        </p:nvSpPr>
        <p:spPr>
          <a:xfrm>
            <a:off x="685800" y="1517400"/>
            <a:ext cx="7772400" cy="4660920"/>
          </a:xfrm>
          <a:prstGeom prst="rect">
            <a:avLst/>
          </a:prstGeom>
          <a:noFill/>
          <a:ln w="0">
            <a:noFill/>
          </a:ln>
        </p:spPr>
        <p:txBody>
          <a:bodyPr anchor="t">
            <a:normAutofit/>
          </a:bodyPr>
          <a:p>
            <a:pPr marL="189000" indent="-1890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Bufetat – the foster care services:</a:t>
            </a:r>
            <a:endParaRPr b="0" lang="en-US" sz="2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ily recruitment work</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advertising, articles / interview</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campaign activities – help from foster parents</a:t>
            </a:r>
            <a:endParaRPr b="0" lang="en-US" sz="1800" spc="-1" strike="noStrike">
              <a:solidFill>
                <a:srgbClr val="000000"/>
              </a:solidFill>
              <a:latin typeface="Arial"/>
            </a:endParaRPr>
          </a:p>
          <a:p>
            <a:pPr marL="189000" indent="-1890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Bufdir:</a:t>
            </a:r>
            <a:endParaRPr b="0" lang="en-US" sz="2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contact</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eping an eye on the recruiting situ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trategies</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e information materials</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campaign – strengthen local activity</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 page </a:t>
            </a:r>
            <a:r>
              <a:rPr b="0" lang="en-GB" sz="1800" spc="-1" strike="noStrike" u="sng">
                <a:solidFill>
                  <a:srgbClr val="ea4f00"/>
                </a:solidFill>
                <a:uFillTx/>
                <a:latin typeface="Arial"/>
                <a:hlinkClick r:id="rId1"/>
              </a:rPr>
              <a:t>www.fosterhjem.no</a:t>
            </a:r>
            <a:r>
              <a:rPr b="0" lang="en-GB" sz="1800" spc="-1" strike="noStrike">
                <a:solidFill>
                  <a:srgbClr val="000000"/>
                </a:solidFill>
                <a:latin typeface="Arial"/>
              </a:rPr>
              <a:t> – public information about foster care</a:t>
            </a:r>
            <a:endParaRPr b="0" lang="en-US" sz="1800" spc="-1" strike="noStrike">
              <a:solidFill>
                <a:srgbClr val="000000"/>
              </a:solidFill>
              <a:latin typeface="Arial"/>
            </a:endParaRPr>
          </a:p>
        </p:txBody>
      </p:sp>
      <p:sp>
        <p:nvSpPr>
          <p:cNvPr id="208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9E8A1AF7-D93C-4878-82BD-78D3D75EF6B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8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
        <p:nvSpPr>
          <p:cNvPr id="2090"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little video in the end</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209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900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r>
              <a:rPr b="0" lang="nb-NO" sz="2800" spc="-1" strike="noStrike">
                <a:solidFill>
                  <a:srgbClr val="000000"/>
                </a:solidFill>
                <a:latin typeface="Arial"/>
              </a:rPr>
              <a:t> </a:t>
            </a:r>
            <a:r>
              <a:rPr b="0" lang="en-GB" sz="2800" spc="-1" strike="noStrike">
                <a:solidFill>
                  <a:srgbClr val="000000"/>
                </a:solidFill>
                <a:latin typeface="Arial"/>
              </a:rPr>
              <a:t>From our recruitment campaign i 2012</a:t>
            </a:r>
            <a:endParaRPr b="0" lang="en-US" sz="2800" spc="-1" strike="noStrike">
              <a:solidFill>
                <a:srgbClr val="000000"/>
              </a:solidFill>
              <a:latin typeface="Arial"/>
            </a:endParaRPr>
          </a:p>
        </p:txBody>
      </p:sp>
      <p:sp>
        <p:nvSpPr>
          <p:cNvPr id="2092" name="Plassholder for lysbildenummer 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54D99B63-929D-4AC5-9F6D-F797002A787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ocal and state: who does what?</a:t>
            </a:r>
            <a:endParaRPr b="0" lang="en-US" sz="2400" spc="-1" strike="noStrike">
              <a:solidFill>
                <a:srgbClr val="000000"/>
              </a:solidFill>
              <a:latin typeface="Arial"/>
            </a:endParaRPr>
          </a:p>
        </p:txBody>
      </p:sp>
      <p:sp>
        <p:nvSpPr>
          <p:cNvPr id="1950" name=""/>
          <p:cNvSpPr txBox="1"/>
          <p:nvPr/>
        </p:nvSpPr>
        <p:spPr>
          <a:xfrm>
            <a:off x="685800" y="1341360"/>
            <a:ext cx="7772400" cy="518328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Local (child care sercvices):</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itiate a process, assessment, coordinate the case</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reventive work while children still stay at home</a:t>
            </a:r>
            <a:endParaRPr b="0" lang="en-US" sz="18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rovide respite homes, family councelling, support persons for children, treatment, some  economic support, other</a:t>
            </a:r>
            <a:endParaRPr b="0" lang="en-US" sz="16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ollow up if placements out of home</a:t>
            </a:r>
            <a:endParaRPr b="0" lang="en-US" sz="16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ontact  between child and foster carer</a:t>
            </a:r>
            <a:endParaRPr b="0" lang="en-US" sz="16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tate level (Bufetat):  </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rovide the local authority with alternative care, in institution or foster home</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videns based treatment programmes, mainly in (bio) families</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ome treatment foster homes (evidens based programme)</a:t>
            </a:r>
            <a:endParaRPr b="0" lang="en-US" sz="18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addition: family counselling and adoption</a:t>
            </a:r>
            <a:endParaRPr b="0" lang="en-US" sz="1600" spc="-1" strike="noStrike">
              <a:solidFill>
                <a:srgbClr val="000000"/>
              </a:solidFill>
              <a:latin typeface="Arial"/>
            </a:endParaRPr>
          </a:p>
        </p:txBody>
      </p:sp>
      <p:sp>
        <p:nvSpPr>
          <p:cNvPr id="1951"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D98A86FD-7507-4CD8-89FE-CD68D817C4A5}"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2"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in issues in our organisation Bufetat 2012</a:t>
            </a:r>
            <a:endParaRPr b="0" lang="en-US" sz="2400" spc="-1" strike="noStrike">
              <a:solidFill>
                <a:srgbClr val="000000"/>
              </a:solidFill>
              <a:latin typeface="Arial"/>
            </a:endParaRPr>
          </a:p>
        </p:txBody>
      </p:sp>
      <p:sp>
        <p:nvSpPr>
          <p:cNvPr id="1954"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program called </a:t>
            </a:r>
            <a:r>
              <a:rPr b="1" lang="nb-NO" sz="2000" spc="-1" strike="noStrike">
                <a:solidFill>
                  <a:srgbClr val="000000"/>
                </a:solidFill>
                <a:latin typeface="Arial"/>
              </a:rPr>
              <a:t>19 – 5 – 1</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rom 19 counties to 5 regions to 1 national wide way of doing i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st important aims:</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ffects (does it work?)</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afe car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sers participation  (children and their familie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Quality and Eqality national wid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definition between local and state authorithy</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budget balance</a:t>
            </a:r>
            <a:endParaRPr b="0" lang="en-US" sz="2000" spc="-1" strike="noStrike">
              <a:solidFill>
                <a:srgbClr val="000000"/>
              </a:solidFill>
              <a:latin typeface="Arial"/>
            </a:endParaRPr>
          </a:p>
        </p:txBody>
      </p:sp>
      <p:sp>
        <p:nvSpPr>
          <p:cNvPr id="1955"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A8EBE59A-BEA8-4B71-9D15-62D7825B27A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6"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statistics showing the rate of children having assistance, and what kind</a:t>
            </a:r>
            <a:endParaRPr b="0" lang="en-US" sz="2400" spc="-1" strike="noStrike">
              <a:solidFill>
                <a:srgbClr val="000000"/>
              </a:solidFill>
              <a:latin typeface="Arial"/>
            </a:endParaRPr>
          </a:p>
        </p:txBody>
      </p:sp>
      <p:sp>
        <p:nvSpPr>
          <p:cNvPr id="1958" name=""/>
          <p:cNvSpPr txBox="1"/>
          <p:nvPr/>
        </p:nvSpPr>
        <p:spPr>
          <a:xfrm>
            <a:off x="598320" y="1429920"/>
            <a:ext cx="7772400" cy="4660920"/>
          </a:xfrm>
          <a:prstGeom prst="rect">
            <a:avLst/>
          </a:prstGeom>
          <a:noFill/>
          <a:ln w="0">
            <a:noFill/>
          </a:ln>
        </p:spPr>
        <p:txBody>
          <a:bodyPr anchor="t">
            <a:normAutofit fontScale="97000"/>
          </a:bodyPr>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otal 52 100 children received help from our welfare system i during 2011</a:t>
            </a:r>
            <a:r>
              <a:rPr b="0" lang="en-GB" sz="1800" spc="-1" strike="noStrike">
                <a:solidFill>
                  <a:srgbClr val="000000"/>
                </a:solidFill>
                <a:latin typeface="Arial"/>
              </a:rPr>
              <a:t>	</a:t>
            </a:r>
            <a:r>
              <a:rPr b="0" lang="en-GB" sz="1800" spc="-1" strike="noStrike">
                <a:solidFill>
                  <a:srgbClr val="000000"/>
                </a:solidFill>
                <a:latin typeface="Arial"/>
              </a:rPr>
              <a:t>(increasing from 49 800 in 2010) </a:t>
            </a:r>
            <a:endParaRPr b="0" lang="en-US" sz="1800" spc="-1" strike="noStrike">
              <a:solidFill>
                <a:srgbClr val="000000"/>
              </a:solidFill>
              <a:latin typeface="Arial"/>
            </a:endParaRPr>
          </a:p>
          <a:p>
            <a:pPr marL="183240" indent="-18324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ly </a:t>
            </a:r>
            <a:r>
              <a:rPr b="1" lang="en-GB" sz="1600" spc="-1" strike="noStrike">
                <a:solidFill>
                  <a:srgbClr val="000000"/>
                </a:solidFill>
                <a:latin typeface="Arial"/>
              </a:rPr>
              <a:t>3 % of population </a:t>
            </a:r>
            <a:r>
              <a:rPr b="0" lang="en-GB" sz="1600" spc="-1" strike="noStrike">
                <a:solidFill>
                  <a:srgbClr val="000000"/>
                </a:solidFill>
                <a:latin typeface="Arial"/>
              </a:rPr>
              <a:t>(children age 1 – 23 year).</a:t>
            </a:r>
            <a:endParaRPr b="0" lang="en-US" sz="16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 31.12.11 38 000 received assistance. 1/3 of them was placed in alternative care </a:t>
            </a:r>
            <a:r>
              <a:rPr b="1" lang="en-GB" sz="1800" spc="-1" strike="noStrike">
                <a:solidFill>
                  <a:srgbClr val="000000"/>
                </a:solidFill>
                <a:latin typeface="Arial"/>
              </a:rPr>
              <a:t>(«out of home»); </a:t>
            </a:r>
            <a:r>
              <a:rPr b="0" lang="en-GB" sz="1800" spc="-1" strike="noStrike">
                <a:solidFill>
                  <a:srgbClr val="000000"/>
                </a:solidFill>
                <a:latin typeface="Arial"/>
              </a:rPr>
              <a:t>institution or foster care; as voluntarily assistance or after court decision.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ximately </a:t>
            </a:r>
            <a:r>
              <a:rPr b="1" lang="en-GB" sz="1800" spc="-1" strike="noStrike">
                <a:solidFill>
                  <a:srgbClr val="000000"/>
                </a:solidFill>
                <a:latin typeface="Arial"/>
              </a:rPr>
              <a:t>0.9 % of population </a:t>
            </a:r>
            <a:r>
              <a:rPr b="0" lang="en-GB" sz="1800" spc="-1" strike="noStrike">
                <a:solidFill>
                  <a:srgbClr val="000000"/>
                </a:solidFill>
                <a:latin typeface="Arial"/>
              </a:rPr>
              <a:t>(children age 1-23 year).</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of 10 is more than 18 years</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these:  </a:t>
            </a:r>
            <a:r>
              <a:rPr b="1" lang="en-GB" sz="1800" spc="-1" strike="noStrike">
                <a:solidFill>
                  <a:srgbClr val="000000"/>
                </a:solidFill>
                <a:latin typeface="Arial"/>
              </a:rPr>
              <a:t>9500</a:t>
            </a:r>
            <a:r>
              <a:rPr b="0" lang="en-GB" sz="1800" spc="-1" strike="noStrike">
                <a:solidFill>
                  <a:srgbClr val="000000"/>
                </a:solidFill>
                <a:latin typeface="Arial"/>
              </a:rPr>
              <a:t> in foster care.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add the use of short term foster care, we find the rate of </a:t>
            </a:r>
            <a:r>
              <a:rPr b="1" lang="en-GB" sz="1800" spc="-1" strike="noStrike">
                <a:solidFill>
                  <a:srgbClr val="000000"/>
                </a:solidFill>
                <a:latin typeface="Arial"/>
              </a:rPr>
              <a:t>87-89 % </a:t>
            </a:r>
            <a:r>
              <a:rPr b="0" lang="en-GB" sz="1800" spc="-1" strike="noStrike">
                <a:solidFill>
                  <a:srgbClr val="000000"/>
                </a:solidFill>
                <a:latin typeface="Arial"/>
              </a:rPr>
              <a:t>of total placements </a:t>
            </a:r>
            <a:r>
              <a:rPr b="1" lang="en-GB" sz="1800" spc="-1" strike="noStrike">
                <a:solidFill>
                  <a:srgbClr val="000000"/>
                </a:solidFill>
                <a:latin typeface="Arial"/>
              </a:rPr>
              <a:t> </a:t>
            </a:r>
            <a:r>
              <a:rPr b="0" lang="en-GB" sz="1800" spc="-1" strike="noStrike">
                <a:solidFill>
                  <a:srgbClr val="000000"/>
                </a:solidFill>
                <a:latin typeface="Arial"/>
              </a:rPr>
              <a:t>in different kind of </a:t>
            </a:r>
            <a:r>
              <a:rPr b="1" lang="en-GB" sz="1800" spc="-1" strike="noStrike">
                <a:solidFill>
                  <a:srgbClr val="000000"/>
                </a:solidFill>
                <a:latin typeface="Arial"/>
              </a:rPr>
              <a:t>family care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2011: Much higher rate in foster care compared to1995 (2010: 77% increase)</a:t>
            </a:r>
            <a:endParaRPr b="0" lang="en-US" sz="1800" spc="-1" strike="noStrike">
              <a:solidFill>
                <a:srgbClr val="000000"/>
              </a:solidFill>
              <a:latin typeface="Arial"/>
            </a:endParaRPr>
          </a:p>
        </p:txBody>
      </p:sp>
      <p:sp>
        <p:nvSpPr>
          <p:cNvPr id="1959"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D8D72FE3-0DB8-4E30-A8AE-1170E8D3899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0"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statistics of foster care - to continue</a:t>
            </a:r>
            <a:endParaRPr b="0" lang="en-US" sz="2400" spc="-1" strike="noStrike">
              <a:solidFill>
                <a:srgbClr val="000000"/>
              </a:solidFill>
              <a:latin typeface="Arial"/>
            </a:endParaRPr>
          </a:p>
        </p:txBody>
      </p:sp>
      <p:sp>
        <p:nvSpPr>
          <p:cNvPr id="1962" name=""/>
          <p:cNvSpPr txBox="1"/>
          <p:nvPr/>
        </p:nvSpPr>
        <p:spPr>
          <a:xfrm>
            <a:off x="685800" y="1517400"/>
            <a:ext cx="7772400" cy="4660920"/>
          </a:xfrm>
          <a:prstGeom prst="rect">
            <a:avLst/>
          </a:prstGeom>
          <a:noFill/>
          <a:ln w="0">
            <a:noFill/>
          </a:ln>
        </p:spPr>
        <p:txBody>
          <a:bodyPr anchor="t">
            <a:normAutofit fontScale="97000"/>
          </a:bodyPr>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5 % of foster carers gets more assistance and economic support than the agreed national wide amount</a:t>
            </a:r>
            <a:endParaRPr b="0" lang="en-US" sz="20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out of 4-5 children is placed in their own family (kinship care: aunts, grand parents etc.)</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in accordance to political aim</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a «forgotten group» anymore, </a:t>
            </a:r>
            <a:endParaRPr b="0" lang="en-US" sz="18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vements: </a:t>
            </a:r>
            <a:r>
              <a:rPr b="0" lang="en-GB" sz="2000" spc="-1" strike="noStrike">
                <a:solidFill>
                  <a:srgbClr val="000000"/>
                </a:solidFill>
                <a:latin typeface="Arial"/>
              </a:rPr>
              <a:t>	</a:t>
            </a:r>
            <a:r>
              <a:rPr b="0" lang="en-GB" sz="2000" spc="-1" strike="noStrike">
                <a:solidFill>
                  <a:srgbClr val="000000"/>
                </a:solidFill>
                <a:latin typeface="Arial"/>
              </a:rPr>
              <a:t>2600 moved from one care system to another</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number! The figures are not showing the reasons; can be planned or breakdowns</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breakdowns: normally a new foster family- maybe after a short «visit» in institution</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our region: Some «mobile social workers» to prevent breakdowns</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6FB75151-F376-452E-BC51-C38AB30145AB}"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Child Care services - in municipalities</a:t>
            </a:r>
            <a:endParaRPr b="0" lang="en-US" sz="2000" spc="-1" strike="noStrike">
              <a:solidFill>
                <a:srgbClr val="000000"/>
              </a:solidFill>
              <a:latin typeface="Arial"/>
            </a:endParaRPr>
          </a:p>
        </p:txBody>
      </p:sp>
      <p:sp>
        <p:nvSpPr>
          <p:cNvPr id="1966" name=""/>
          <p:cNvSpPr txBox="1"/>
          <p:nvPr/>
        </p:nvSpPr>
        <p:spPr>
          <a:xfrm>
            <a:off x="611280" y="15570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often organised in 2 team:</a:t>
            </a:r>
            <a:endParaRPr b="0" lang="en-US" sz="2000" spc="-1" strike="noStrike">
              <a:solidFill>
                <a:srgbClr val="000000"/>
              </a:solidFill>
              <a:latin typeface="Arial"/>
            </a:endParaRPr>
          </a:p>
          <a:p>
            <a:pPr lvl="1" marL="722160" indent="-342720">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ment, decision – making and assistance while the child is still staying at home </a:t>
            </a:r>
            <a:r>
              <a:rPr b="1" lang="en-GB" sz="1800" spc="-1" strike="noStrike">
                <a:solidFill>
                  <a:srgbClr val="000000"/>
                </a:solidFill>
                <a:latin typeface="Arial"/>
              </a:rPr>
              <a:t>(preventive work)</a:t>
            </a:r>
            <a:endParaRPr b="0" lang="en-US" sz="1800" spc="-1" strike="noStrike">
              <a:solidFill>
                <a:srgbClr val="000000"/>
              </a:solidFill>
              <a:latin typeface="Arial"/>
            </a:endParaRPr>
          </a:p>
          <a:p>
            <a:pPr lvl="1" marL="722160" indent="-342720">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llowing up children and youth staying out of home </a:t>
            </a:r>
            <a:r>
              <a:rPr b="0" lang="en-GB" sz="1800" spc="-1" strike="noStrike">
                <a:solidFill>
                  <a:srgbClr val="000000"/>
                </a:solidFill>
                <a:latin typeface="Arial"/>
              </a:rPr>
              <a:t>(foster care, institution and after car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kind of assistance (preventive):</a:t>
            </a:r>
            <a:endParaRPr b="0" lang="en-US" sz="20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etings, counselling and therapy </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programs (PMTO, ICDP, Family Group conferences)</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ite home</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support</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ing up youth leaving care </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887B5C17-5A85-466A-A568-B694444651D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ventive work</a:t>
            </a:r>
            <a:r>
              <a:rPr b="0" lang="en-GB" sz="2800" spc="-1" strike="noStrike">
                <a:solidFill>
                  <a:srgbClr val="000000"/>
                </a:solidFill>
                <a:latin typeface="Arial"/>
              </a:rPr>
              <a:t> - example: </a:t>
            </a:r>
            <a:r>
              <a:rPr b="0" lang="en-GB" sz="2400" spc="-1" strike="noStrike">
                <a:solidFill>
                  <a:srgbClr val="000000"/>
                </a:solidFill>
                <a:latin typeface="Arial"/>
              </a:rPr>
              <a:t>Family Group conference - FGC</a:t>
            </a:r>
            <a:endParaRPr b="0" lang="en-US" sz="2400" spc="-1" strike="noStrike">
              <a:solidFill>
                <a:srgbClr val="000000"/>
              </a:solidFill>
              <a:latin typeface="Arial"/>
            </a:endParaRPr>
          </a:p>
        </p:txBody>
      </p:sp>
      <p:sp>
        <p:nvSpPr>
          <p:cNvPr id="1970" name=""/>
          <p:cNvSpPr txBox="1"/>
          <p:nvPr/>
        </p:nvSpPr>
        <p:spPr>
          <a:xfrm>
            <a:off x="685800" y="15174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pproach  - originally adopted from Maori- people in New Zealand</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amily itself and its network are actively involved in finding constructive solutions to the dysfunction in the famil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cus on the families capabilities, resources and sense of responsibilit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often coordinated by the Child Care Service in the local authorit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im: the family and network comes up with a plan what to do in the best interest of the child</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Norway: an important issue in Child Care work</a:t>
            </a:r>
            <a:r>
              <a:rPr b="0" lang="nb-NO" sz="2000" spc="-1" strike="noStrike">
                <a:solidFill>
                  <a:srgbClr val="000000"/>
                </a:solidFill>
                <a:latin typeface="Arial"/>
              </a:rPr>
              <a:t>.   </a:t>
            </a:r>
            <a:r>
              <a:rPr b="0" lang="nb-NO" sz="2000" spc="-1" strike="noStrike" u="sng">
                <a:solidFill>
                  <a:srgbClr val="ea4f00"/>
                </a:solidFill>
                <a:uFillTx/>
                <a:latin typeface="Arial"/>
                <a:hlinkClick r:id="rId1"/>
              </a:rPr>
              <a:t>http://www.bufetat.no/barnevern/familieraad/</a:t>
            </a:r>
            <a:endParaRPr b="0" lang="en-US" sz="2000" spc="-1" strike="noStrike">
              <a:solidFill>
                <a:srgbClr val="000000"/>
              </a:solidFill>
              <a:latin typeface="Arial"/>
            </a:endParaRPr>
          </a:p>
        </p:txBody>
      </p:sp>
      <p:sp>
        <p:nvSpPr>
          <p:cNvPr id="1971"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3C67DA34-A06F-4464-A60F-9F2322C8D8FC}"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72"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07:26:50Z</dcterms:created>
  <dc:creator>tothe</dc:creator>
  <dc:description/>
  <dc:language>en-US</dc:language>
  <cp:lastModifiedBy>Else Gerd Dugstad</cp:lastModifiedBy>
  <cp:lastPrinted>2012-11-29T12:22:07Z</cp:lastPrinted>
  <dcterms:modified xsi:type="dcterms:W3CDTF">2012-11-29T12:38:03Z</dcterms:modified>
  <cp:revision>91</cp:revision>
  <dc:subject/>
  <dc:title>Lysbilde 1</dc:title>
</cp:coreProperties>
</file>