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8.png" ContentType="image/png"/>
  <Override PartName="/ppt/media/image23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8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20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2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1A72-F8FC-49AC-9D75-650443AC9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49B4-0E68-448F-93BB-E1E7A2DC9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9693-D7B4-4C4D-9336-2BE442F33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BC20-DD4F-4FBD-A21B-E61BB5DBE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58EA1-2AC2-4FC4-8B7A-7EBD097BB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B5E25-1C12-4391-84F4-36A0AECB4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0AA37-3573-40FF-93EA-2B4E5D6BF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33431-0A23-4BCB-9DCE-962243CA2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7A75E-FA09-44EB-BDDE-A51541D50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50917-E6CD-4C8D-8C2A-B02B66C23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88C1E-4C84-4EDD-95C5-76B2DC55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B074-AE13-4934-8887-D8C630A30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2C5BE-87E4-45B8-8FE5-DEFD2C3B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59AE2-02EB-4C2E-B252-CF4729F7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EED95-C0EF-4C1F-85E1-C483C0F17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313BF-A8E7-4C7B-8A7A-7E2947F88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BFCA0-04CF-462C-BB2F-4CA8BFCEF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26179-6FEB-45AB-A8EB-830C3B821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7FB82-A0B1-4E98-914A-D63742D0D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92064-0CC8-437A-9DDC-C8D531C6F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78A88-BE53-41A9-8CD4-A81289C5F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9146E-7EDC-42E0-85DD-EFE7475D4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331F-2A85-4A68-8591-4FD112D34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9E066-6946-4852-AAF6-9DD09FEFA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33C90-9B09-406A-8006-B09C6BA3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F0E2D-A2FE-49AE-814F-C62E90437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68B51-7D3C-425F-920F-2170C436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ACFDC-0D78-4814-9B97-3FC65CFF9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D3916-94FC-402A-B0BA-0B095789B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91421-B0CC-4001-92FB-6FB17EA55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94871-D0C8-42AF-8723-45672E844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3E405-08B0-4E9F-B137-1B41DA3AD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8E509-8986-413A-B520-3EAAAF22A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50DA-5D1C-41D7-A19A-4302C1081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9903F-26E9-4D41-8860-BFE90768A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5E5D8-78A3-42FD-8564-56C31D055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BF8BC-F936-4A7F-8A96-3420A3F8D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CB934-6ADE-4B69-BA2A-593CA69B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485C9-E6C7-4573-AFAE-3A3319A6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F9C6B-60E9-48F9-9031-E55BCC39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BA8D2-0D62-454F-9971-0B888900F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2E7FC-1FA9-4683-8135-123586169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471A6-D248-4233-BB33-8C45C6307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C5135-B3FA-4055-8AE3-E773B3F2B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8E59-0F36-46D9-9ADC-21D2473C0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851A9-1C8E-4B38-A7D1-A5B26E2B6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B015D-8358-4387-ADBE-FD892A892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22A13-6F9D-45F4-A8E3-D201CB076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C59A7-098C-4612-A440-345893E71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5D256-0C2C-4381-9A77-D08E28A99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90718-B49B-4AED-A95D-6BD5205D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F50A2-87B7-48F7-B1F5-40398BD3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C9D81-22B4-49FD-B895-17857F9F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C5CB1-CFB6-4F41-9DB0-71F398E27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198FB-6C67-401D-A93E-8B7B8277D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1A49-FD75-4DB6-9599-8FDDD69C4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7BAE0-A341-42F9-BF9E-40B475005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CE6A9-6F07-4F20-8F7D-11FA173E8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B46D0-63DA-4C1F-8BAB-2B32287F1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FDAAA-9881-4929-AAF9-625050A82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CC414-0CEC-42C0-8D30-54C28067C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A6EC7-CF0C-428C-A396-D57B27BA1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A27DF3-85EF-4497-B98F-F11B3895F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24814-01A6-4075-8F30-2728300E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A645C-F0C9-4859-B1D2-8E41372A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10156-5801-41C4-B048-01AD26BD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6FA1-38B7-4D64-836C-811B3E8C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75E0CA-CE90-4473-A5A0-833D3FC33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3A35B-FEF5-4895-9D7C-17821A935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48B32-FD85-4070-969C-5DB284662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92F0E-B71F-4E6E-A34E-94DCE619E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886C0-E240-4AB4-9AD7-37EF78BCC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6129DF-48F8-48CC-A133-94BF07FCA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0BE10B-BA0F-45B8-80A4-B1139C09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C4982-8BA3-478A-97A8-8CA72206E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8FC345-37A3-4EAB-9224-BA7BA92C3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2122A5-5457-4BD0-8564-3C9B6117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EF60-1DE8-4A3D-8CFB-34E42E58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8AA90-7BAA-4269-9857-E3DFA31D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6D55B-4628-435C-B6E6-2EA3480D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CE9AF-29D7-484E-A7B1-AFF4F187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F700F-B323-4138-8DCC-43CE65E45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A1AB7-25F9-4131-AE9E-CEC1103D4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DC1F68-86F6-45F6-93A1-7CDF5DF4F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F6061D-80A8-4104-917B-B85612CC9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FF5759-1F85-44A9-8351-3F09055A0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BBE9A8-EF2C-4422-AFFD-3A2691BF9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C82F0B-2E7E-4EAA-8DB1-82817F0D8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35B1-4E62-4C39-A1D0-795CD09A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1EC1E8-CA9E-49FB-8F70-88D38949F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379975-4E2A-4757-B3AE-133FABED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438617-9C89-4C0F-B258-5AEE1787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1FF84E-A685-4CAF-AFAC-6BBC3865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D6A0C8-4EC0-4A5D-8FB5-8A70ABA2A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673EEE-605F-41CF-93D9-4FE042BFE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00A82-141F-453C-ABE3-D6FC71D9B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7CDA2-A6DC-45D7-8403-9F220C15CE8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Vrije v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79A34-448A-42EA-8BB0-1871AD3229D1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5F69E-450D-4772-9698-2DCEC6BEC41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EEED6-60AA-420B-A8DF-B887250D9DB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1C777-CF1B-49C1-8996-551E6BEAA10D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4E932-CEE0-4EEF-AECE-829DD185716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6AC72-E8CB-48B6-8032-309114758DA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echthoekige driehoek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E02D5-9EB4-4B0C-BC39-AB7DC69E5B47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hyperlink" Target="mailto:bepvansloten@ziggo.nl" TargetMode="External"/><Relationship Id="rId3" Type="http://schemas.openxmlformats.org/officeDocument/2006/relationships/hyperlink" Target="http://www.bestcareforchildren.com/" TargetMode="External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2560" y="1384200"/>
            <a:ext cx="8205840" cy="22129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464646"/>
                </a:solidFill>
                <a:latin typeface="Lucida Sans Unicode"/>
              </a:rPr>
              <a:t>Bep van Sloten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464646"/>
                </a:solidFill>
                <a:latin typeface="Lucida Sans Unicode"/>
              </a:rPr>
              <a:t>Independent Consultant, The Netherland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464646"/>
                </a:solidFill>
                <a:latin typeface="Lucida Sans Unicode"/>
              </a:rPr>
              <a:t>6 December 2012; Pragu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Rectangle 2" descr=""/>
          <p:cNvPicPr/>
          <p:nvPr/>
        </p:nvPicPr>
        <p:blipFill>
          <a:blip r:embed="rId1"/>
          <a:stretch/>
        </p:blipFill>
        <p:spPr>
          <a:xfrm>
            <a:off x="152280" y="1262160"/>
            <a:ext cx="8564760" cy="267660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4" descr="pagina 13 contact"/>
          <p:cNvPicPr/>
          <p:nvPr/>
        </p:nvPicPr>
        <p:blipFill>
          <a:blip r:embed="rId2"/>
          <a:stretch/>
        </p:blipFill>
        <p:spPr>
          <a:xfrm>
            <a:off x="5219640" y="4365720"/>
            <a:ext cx="3024360" cy="20113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5" descr="pagina 2 voorpagina"/>
          <p:cNvPicPr/>
          <p:nvPr/>
        </p:nvPicPr>
        <p:blipFill>
          <a:blip r:embed="rId3"/>
          <a:stretch/>
        </p:blipFill>
        <p:spPr>
          <a:xfrm>
            <a:off x="826920" y="47628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394" name="Afbeelding 6" descr="girl.jpg"/>
          <p:cNvPicPr/>
          <p:nvPr/>
        </p:nvPicPr>
        <p:blipFill>
          <a:blip r:embed="rId4"/>
          <a:stretch/>
        </p:blipFill>
        <p:spPr>
          <a:xfrm>
            <a:off x="6516720" y="620640"/>
            <a:ext cx="1450800" cy="1941480"/>
          </a:xfrm>
          <a:prstGeom prst="rect">
            <a:avLst/>
          </a:prstGeom>
          <a:ln w="0">
            <a:noFill/>
          </a:ln>
        </p:spPr>
      </p:pic>
      <p:pic>
        <p:nvPicPr>
          <p:cNvPr id="395" name="Afbeelding 7" descr="boy.jpg"/>
          <p:cNvPicPr/>
          <p:nvPr/>
        </p:nvPicPr>
        <p:blipFill>
          <a:blip r:embed="rId5"/>
          <a:stretch/>
        </p:blipFill>
        <p:spPr>
          <a:xfrm>
            <a:off x="826920" y="3933720"/>
            <a:ext cx="2011680" cy="26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keep from failing or sinking; to assist; to encourage; to defend; to support the courage or spirits.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act of overseeing; inspection; oversight; superintendence.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Titel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98" name="Rechthoek 3"/>
          <p:cNvSpPr/>
          <p:nvPr/>
        </p:nvSpPr>
        <p:spPr>
          <a:xfrm>
            <a:off x="1476360" y="4365720"/>
            <a:ext cx="66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like watching where you are going while riding a bicycle; you can adjust as you go along and ensure that you are on the right t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Contract or Court Ord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ndividual Care Plan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Support Plans to families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Titel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7200" y="148068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raining of Foster carers: Family history book: families describe their history and family situation and test of competenc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Matching based on family profil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Family support folder describing what they can expect from their foster care organisation; where to turn to for assistance; rights and responsibiliti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Family support plan based on competences family and needs for support with particular chil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Titel 2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Suppor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Contact with social worker at least once in six weeks: phone, email, home visi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ideo interaction Support (VIB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Supervis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Home visits and questionnaires to follow developments of child in the famil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Titel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267920"/>
            <a:ext cx="82296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Suppor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ndividual Care Plan: aims of placement and objectives for suppor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e-Box: information of the foster family, their home, animals, food, school etc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Life books for each chil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ndividual meetings</a:t>
            </a:r>
            <a:br>
              <a:rPr sz="2700"/>
            </a:b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Supervis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ndividual meetings with child to discuss placemen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Titel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Children at the moment and first period in foster care are feeling alon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ransition and how this is done is extremely importa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Building an emotional bonding with the new family is crucial for the development of the child in the long run and the success of the placem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reparation of the placement crucia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Titel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Getting up in the morn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Who “calls” who?  How? (ie knocking on bedroom door; physically shaking)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When are beds made, who makes them? 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0" name="Titel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Titel 1" descr=""/>
          <p:cNvPicPr/>
          <p:nvPr/>
        </p:nvPicPr>
        <p:blipFill>
          <a:blip r:embed="rId1"/>
          <a:stretch/>
        </p:blipFill>
        <p:spPr>
          <a:xfrm>
            <a:off x="291960" y="268200"/>
            <a:ext cx="8401320" cy="100656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94680" rIns="94680" tIns="51480" bIns="514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94680" rIns="94680" tIns="51480" bIns="514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6840" y="620640"/>
            <a:ext cx="404028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Who sees whom off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How do you say goodbye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How do you get there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644720" y="836640"/>
            <a:ext cx="4041720" cy="45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Do you eat lunch together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Where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Light snack or main meal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Who chooses the menu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Who makes school lunches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Titel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272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94680" rIns="94680" tIns="51480" bIns="514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94680" rIns="94680" tIns="51480" bIns="514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6840" y="144432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Who goes first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Do you use the bathroom individually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Do you lock the door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Do you use bathrobes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Do you get dressed in the bathroom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Do you insist on privacy when you use the toilet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644720" y="1444320"/>
            <a:ext cx="40417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Who makes it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What’s on offer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Does your family all sit together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Where do you eat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Are you all washed and dressed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Rectangle 2" descr=""/>
          <p:cNvPicPr/>
          <p:nvPr/>
        </p:nvPicPr>
        <p:blipFill>
          <a:blip r:embed="rId1"/>
          <a:stretch/>
        </p:blipFill>
        <p:spPr>
          <a:xfrm>
            <a:off x="171360" y="-6480"/>
            <a:ext cx="8979120" cy="31100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" descr="http://www.rtvoost.nl/images/T3/Origineel/43931.jpg"/>
          <p:cNvPicPr/>
          <p:nvPr/>
        </p:nvPicPr>
        <p:blipFill>
          <a:blip r:embed="rId2"/>
          <a:stretch/>
        </p:blipFill>
        <p:spPr>
          <a:xfrm>
            <a:off x="1979640" y="2276640"/>
            <a:ext cx="5049720" cy="425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Titel 1" descr=""/>
          <p:cNvPicPr/>
          <p:nvPr/>
        </p:nvPicPr>
        <p:blipFill>
          <a:blip r:embed="rId1"/>
          <a:stretch/>
        </p:blipFill>
        <p:spPr>
          <a:xfrm>
            <a:off x="304920" y="549360"/>
            <a:ext cx="8400960" cy="87156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94680" rIns="94680" tIns="51480" bIns="514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94680" rIns="94680" tIns="51480" bIns="514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6840" y="144432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How much telly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Who chooses channel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Other activities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Do you have times set aside for chatting/discussions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Homework routines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Do you have supper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Playing out – what age, where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572000" y="1444320"/>
            <a:ext cx="41767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How do you say goodnight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When and where do you undress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Does your family use nightwear, pyjamas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Bedtime drinks?  Stories/reading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Do you leave lights on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Bedroom doors open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7" name="Titel 6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  <p:pic>
        <p:nvPicPr>
          <p:cNvPr id="428" name="Afbeelding 8" descr="girl.jpg"/>
          <p:cNvPicPr/>
          <p:nvPr/>
        </p:nvPicPr>
        <p:blipFill>
          <a:blip r:embed="rId2"/>
          <a:stretch/>
        </p:blipFill>
        <p:spPr>
          <a:xfrm>
            <a:off x="2843280" y="1424160"/>
            <a:ext cx="3529080" cy="47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Titel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bepvansloten@ziggo.n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www.bestcareforchildren.co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ypes of foster care in The Netherlan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hat do we want for our child when placed in foster care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Support and supervision: the International Guidelin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ools: Family Support Plans based on family mapping</a:t>
            </a:r>
            <a:br>
              <a:rPr sz="2700"/>
            </a:b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Questions: whenever you have a question, ask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el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family being the fundamental group of society and the natural environment for the growth, well-being and protection of children, efforts should primarily be directed to enabling the child to remain in or return to the care of his/her parents, or when appropriate, other close family members. The State should ensur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that families have access to forms of support in the caregiving rol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Sans Unicode"/>
              </a:rPr>
              <a:t>From: Guidelines for the Alternative Care for Children (UN 2009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el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20. Special preparation, support and counselling services for foster carers should be developed and made available to carers at regular intervals, before, during and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after the placemen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21. Carers should have, within fostering agencies and other systems involved with children without parental care, the opportunity to make their voice heard and to 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nfluence polic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el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Rectangle 2" descr=""/>
          <p:cNvPicPr/>
          <p:nvPr/>
        </p:nvPicPr>
        <p:blipFill>
          <a:blip r:embed="rId1"/>
          <a:stretch/>
        </p:blipFill>
        <p:spPr>
          <a:xfrm>
            <a:off x="201600" y="60480"/>
            <a:ext cx="8491680" cy="145080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 Unicode"/>
              </a:rPr>
              <a:t>Around 20.000 placements a yea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Lucida Sans Unicode"/>
              </a:rPr>
              <a:t>Specialised foster care organisations (NGO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Trained foster care worker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Trained kinship care worker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Recruitment, assessment, support, supervision and evaluation of foster parents and children in foster car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Contact with biological families and reunification services and suppor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Extended family first but not always the preferred option: depends on needs of chil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Crisis intervention: 6 weeks (2 x extension possible)</a:t>
            </a:r>
            <a:br>
              <a:rPr sz="2700"/>
            </a:b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mporary Care: treatment and return home or to other permanent solution</a:t>
            </a:r>
            <a:br>
              <a:rPr sz="2700"/>
            </a:b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Permanent Care: child stays with foster family until 18 +: permanent family member</a:t>
            </a:r>
            <a:br>
              <a:rPr sz="2700"/>
            </a:b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Respite care: weekend/ holiday foster ca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el 2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656920" cy="115884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With consent of parents/ caregiv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Orphans (mainly kinship care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Educational or behavioural reasons</a:t>
            </a:r>
            <a:br>
              <a:rPr sz="2300"/>
            </a:b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Without consent of parents/ caregiv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Abuse and neglec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Family violenc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Alcoholism, drug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etc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Rectangle 4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272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456840" y="5409720"/>
            <a:ext cx="404028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Lucida Sans Unicode"/>
              </a:rPr>
              <a:t>Support and Supervis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644720" y="5409720"/>
            <a:ext cx="4041720" cy="762120"/>
          </a:xfrm>
          <a:prstGeom prst="rect">
            <a:avLst/>
          </a:prstGeom>
          <a:solidFill>
            <a:srgbClr val="2da2bf"/>
          </a:solidFill>
          <a:ln w="9720">
            <a:solidFill>
              <a:srgbClr val="2da2bf"/>
            </a:solidFill>
            <a:miter/>
          </a:ln>
        </p:spPr>
        <p:txBody>
          <a:bodyPr lIns="182880" anchor="ctr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Lucida Sans Unicode"/>
              </a:rPr>
              <a:t>Support and Supervis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6840" y="1444320"/>
            <a:ext cx="404028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With consent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Foster Care Contract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Care Plan Chil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Support Plan Family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Foster Care Gran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644720" y="1444320"/>
            <a:ext cx="40417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Without consent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Court Order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Care Plan Chil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Support Plan Family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 Unicode"/>
              </a:rPr>
              <a:t>Foster Care Gran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1T09:13:07Z</dcterms:created>
  <dc:creator>Bep van Sloten</dc:creator>
  <dc:description/>
  <dc:language>en-US</dc:language>
  <cp:lastModifiedBy>Bep van Sloten</cp:lastModifiedBy>
  <dcterms:modified xsi:type="dcterms:W3CDTF">2012-12-03T13:51:45Z</dcterms:modified>
  <cp:revision>27</cp:revision>
  <dc:subject/>
  <dc:title>Dia 1</dc:title>
</cp:coreProperties>
</file>