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947-8A4F-4249-9C4D-6A7CED7A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30A-68F0-4B40-AA49-A0ED098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14C-EDFB-4DC7-BEA2-27497000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8CB-40B7-4AA0-8891-A3E6128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FD1-7324-43C5-A5B0-6666201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DDA6-9C83-446E-87C0-BF985FB5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570A-8573-49FB-A08A-0DD4C01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A3F-C980-41CF-A7B8-BD52CA4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5D2B-F1AA-4E8F-AED9-5995A43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CDCF-BD11-4F5C-AC25-B470504D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96B-D264-421C-BBD6-550782F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D9F9-93EC-4623-B7D8-D4936104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5B95-17FE-4E03-B232-10B728D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DAF5-01CF-4201-8A3A-344C72BF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C05-0FA7-41DA-A859-19E744F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0E8E-7131-4820-9196-C4081E71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4BBB-2ED2-47C2-AA4B-232B23F1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EBD0-8557-4D94-8F04-6EFD863B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7D0-DA74-4D4E-9E6D-B7C9892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0DF-1087-4C4B-BE50-0C4C4F24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9A7-2476-4626-B394-F6EE56F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EA4-7B1B-493B-A7A0-863363C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329-C93B-4BDB-995A-39AB7A9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D0C-53BC-4F5E-A35C-DB232C5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1E9-41C1-459B-8248-14B08C9A9C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FAC-1CE7-4BB6-9456-CE10C0E09A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9F12-9B16-47E0-912B-6CCFBBBF398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BD41-D80D-4210-A443-8A65A62AB08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dravotnic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71640" y="155088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phụ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moděložní 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 ngoài dạ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lav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phận si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gí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Âm đ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lo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jcov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Ống dẫn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ječní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ồng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71640" y="162864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ěložní čí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ổ 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sty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 hệ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chor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plodnost/Steril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ô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stovaná reprodu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sinh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mělé oplod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inh nhân t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br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ôi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ào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trat/Interrup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ẩy thai/phá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con/đẻ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edčasný 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 koncem pánevní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ngược chân ra trướ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ísařský ře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m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trak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th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í boles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au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c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u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peční šňů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ây rố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estine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Ở c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ecká žlouten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àng da 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 con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ěžitá pomoc v mateřstv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tiền mặt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dičovský příspěv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sinh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ídavek na dít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uôi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9. Zdravotní pojiš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1640" y="1628640"/>
          <a:ext cx="7746840" cy="35640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é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công c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erční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thương m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ekac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ời gian chờ đ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čátek pojistného pl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ắt đầu trả bảo hi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ituty a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lékařské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ubní léka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di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ktický léka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ynek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Instituty a za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4248000"/>
                <a:gridCol w="34560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stvo zdravo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Y t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đa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ní 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Khoa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otov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ực cấp cứ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eb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ện 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ối nước kho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záchranná služ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ứu thư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/chor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ăn b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ptom/přízn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ệu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d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ội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ó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ẩn đo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tní 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iz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ằm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ili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ồi s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71640" y="1628640"/>
          <a:ext cx="7704000" cy="404496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ař/stomat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a s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 moudr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khô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/hà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s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á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l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ựa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sâ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1628640"/>
          <a:ext cx="7704000" cy="31086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á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òng chỉnh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om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à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implan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gi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vrtač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khoa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mů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u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71640" y="1628640"/>
          <a:ext cx="7704000" cy="41450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roz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đang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nh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ý léka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n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iv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định k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ací kalend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ịch 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ne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 - dětské nemo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71640" y="1628640"/>
          <a:ext cx="7704000" cy="45356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šk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ch hầ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a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ốn v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vivý kaš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 g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ob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i liệt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lnič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loutenka typu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êm gan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B (Haemophilus influenzae typu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úm H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ušn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i b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dě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 Đức (Rubel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raktický lék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971640" y="1550880"/>
          <a:ext cx="7746840" cy="462132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in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kh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oté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ủ hồ sơ bệnh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 phí điều ch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ost (001, 002, 00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ên ng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s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ch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ơn thuố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chope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nghỉ ố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58Z</dcterms:modified>
  <cp:revision>110</cp:revision>
  <dc:subject/>
  <dc:title>Snímek 1</dc:title>
</cp:coreProperties>
</file>