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B49-E516-49AA-8187-9CC7F25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77D-9037-455B-B6F5-EBA11D4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75D-1A55-43A7-9381-C20893AE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6BC-82C6-414B-89E8-B8107518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A8D-FC1D-423F-9297-F16A45B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8AF4-6321-4B08-8596-6B26B422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992-63EA-4D0E-A953-3FFF589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EC1E-C3CA-4D7B-8412-C29F2343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D5D8-6E21-49BA-8061-37D77BF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B5AD-8178-44EE-84FE-A6D08288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AE4-95C5-46AC-A9F1-D19805E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DA43-FE67-4859-9F9C-549F1E3C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CEC5-518A-4470-9EF0-0925F67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CDB-2C43-471D-966F-B74E1AA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E57-AC21-468B-920E-5DB9AC7C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A7E2-C0C9-444A-BE15-AD5F45AD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9CBA-50D7-4A19-B318-F20156A5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E8F5-3C17-4E03-AEA2-15B9788D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AD6-375B-4F40-87E9-645DCA0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A5-93EF-412E-9415-79DC608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588-145D-45C8-B67E-1213C69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A22-4551-48E0-9B20-06916E4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F5D-953E-4359-A0FF-6F33A97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7B1-A4FA-497F-B278-AB20A9D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0B9-4082-41BC-937E-9BF76894D0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5FD-C46B-4B8A-87BA-399E06CA2B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2656-ECC2-444D-8852-5FA451746CA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960D-A989-45DB-B79F-0C207FD4FC2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aměstn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áce přesč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řízená práce přesčas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 zaměstnanc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init více než 8 hodin v jednotlivých týdnech a 150 hodin 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alendářním ro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§ 93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ý rozsah práce přesčas nesmí činit v průměru více než 8 hodin týdně v období, které může činit nejvýše 26 týdnů po sobě jdouc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ční práce je konaná mezi 22. a 6. hodi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městnanec pracující v noci – během noční doby pravidelně odpracuje nejméně 3 hodiny ze své pracovní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platek nejméně 10% (§ 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116000" y="1268280"/>
          <a:ext cx="7273800" cy="49993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̀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v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ủ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ời lao động, nhân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ě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ovědět smlou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ậm dứt h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ušeb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thử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116000" y="1268280"/>
          <a:ext cx="7273800" cy="54262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ấy phép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řad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̀ng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í k pobytu za účelem zaměstn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phép cư trú với mục đích loa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ntura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ông ty mối giới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rostředkující služ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̣ch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zumění pojmů zaměstnanec, 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ědomí o legislati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byt za účelem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zaměstnaných ciz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příležitosti pro ciz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ávní úprava zaměstnávání cizin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ladní právní norm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stava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Listina základních práv a svob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ík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 o zaměstna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oník práce a agenturní zaměstn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ávislá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racovně právní vzta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ovolení k obytu za účelem zaměstnávání/Pracovní povolení a Pracovní smlo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V případě zaměstnání u agentury práce nemají cizinci smlouvu s konkrétní továrnou, kde pracují, ale s agenturou prá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aměstnanec se nemůže vzdát svých 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tup před vznikem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1 ZP – před uzavřením pracovní smlouvy je zaměstnavatel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vinen seznám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yzickou osob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ávy a povinnostm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by pro ni z pracovní smlouvy, popřípadě ze jmenování na pracovní místo vyplynuly, 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acovními podmínkami a podmínkami odměňování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 nichž má práci konat, a povinnostmi, které vyplývají ze zvláštních právních předpisů vztahujících se k práci, která má být předmětem pracovního pomě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2 ZP – v případech stanovených zvláštním právním předpisem je zaměstnavatel povinen zajistit, aby se fyzická osoba před uzavřením pracovní smlouvy podrobil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stupní lékařs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ohlíd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kušební doba max. 3 měsí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Ukončení pracovního pomě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končení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hodou (§ 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ovědí (§ 50 nebo §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amžitým zrušením (§ 55, § 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ušením ve zkušební době (§ 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na dobu určitou končí uplynutím sjednané doby (§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cizince končí naví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ovolení k po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hošt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plynutím doby, na kterou je sjednáno pracovní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latnosti pracovního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Typy dohod - písem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ích, konaných mimo pracovní p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oved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ov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acovní do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lka stanovené týdenní pracovní dob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 překročit 40 hodin týd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§ 79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ální týdenní pracovní doba včetně prací přesčas je 48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směnné provozy – zkrácení až na 37,5 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i přesčas je možno konat jen výjimeč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konaná zaměstnancem na příkaz zaměstnavatele nebo s jeho souhlasem nad stanovenou týdenní pracovní dobu 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48Z</dcterms:modified>
  <cp:revision>114</cp:revision>
  <dc:subject/>
  <dc:title>Snímek 1</dc:title>
</cp:coreProperties>
</file>