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7045-EC10-41E2-B239-CF6A7D6EC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DA7E-500A-4673-B083-73EED76F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2BFA-635E-44AB-A714-1266B2F4A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C4C3-FD2A-40F4-B667-82C18963F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3CBD-5214-4751-87AE-CF4EE98E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56D3-51B6-4112-B90E-CC2FA723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6CAF-079A-428A-864E-8B3DDE34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F1EF-8993-4719-B568-84FC37C6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69F8-61E9-4967-BA82-DAE5CD4A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317C-3820-4508-BA84-FD966EE8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6EF9-8DD6-4C87-9610-FAC9B98C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F663-8A97-4C66-9CD3-AC7F602B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0BFA-C0F9-401A-AD22-F47C95FB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2148-E64E-4FE9-8A17-34A32300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7F36-3D53-4E89-9B36-48F1807C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BF15-82AE-4DF2-8258-38388095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31FB-5C89-459E-B526-13058F9E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55C9-AC01-403F-A47E-91D3ADAF8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EA50-9EE2-40B5-8E90-4E3AD9CB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2844-4EBA-4B47-821F-3DE3BF89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EA3B-A8FC-49D2-BE6F-8470FDFF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82B3-8CF6-4363-8266-920A37AE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2F20-F7D6-4800-B492-962CEE4D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EB5E-1D73-42A4-B01E-3B202D1C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ADC3-DC1C-4646-859C-336B26666A6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83D9-9955-4E21-A2E0-57686CB4686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55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110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696F-6094-4127-84D8-06F503461F93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561D-E559-40AD-BEF2-A573ACF2AE2B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166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856880" y="3890520"/>
            <a:ext cx="65725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Téma: TRESTNÁ ČINNO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Trestní říze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476360" y="1773360"/>
          <a:ext cx="7128000" cy="3017880"/>
        </p:xfrm>
        <a:graphic>
          <a:graphicData uri="http://schemas.openxmlformats.org/drawingml/2006/table">
            <a:tbl>
              <a:tblPr/>
              <a:tblGrid>
                <a:gridCol w="3808440"/>
                <a:gridCol w="3319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pravné říz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uẩn bị xét x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dběžné projednání obžalo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em xét bản cáo trạ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lavní líč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ở phiên tò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volací říz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ét xử phúc thẩ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konávací říz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ét xử thi hà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457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Trestní řízení - subjek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476360" y="1773360"/>
          <a:ext cx="7128000" cy="3108240"/>
        </p:xfrm>
        <a:graphic>
          <a:graphicData uri="http://schemas.openxmlformats.org/drawingml/2006/table">
            <a:tbl>
              <a:tblPr/>
              <a:tblGrid>
                <a:gridCol w="3808440"/>
                <a:gridCol w="3319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ezřel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hi c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držen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ị tạm gi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tčen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ị bắ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viněn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ị buộc t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alovan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ị truy t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ěze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ù nhâ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Věze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042920" y="1773360"/>
          <a:ext cx="7632720" cy="3456000"/>
        </p:xfrm>
        <a:graphic>
          <a:graphicData uri="http://schemas.openxmlformats.org/drawingml/2006/table">
            <a:tbl>
              <a:tblPr/>
              <a:tblGrid>
                <a:gridCol w="3814920"/>
                <a:gridCol w="3817800"/>
              </a:tblGrid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zební věz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ại tạm gi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ěz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à t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 dohled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 quản l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 dozor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 theo dõ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 ostrah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 canh gá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 zvýšenou ostrah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 canh gác nghiêm ngặ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Rozhodnut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332000" y="3357720"/>
          <a:ext cx="7127640" cy="2590560"/>
        </p:xfrm>
        <a:graphic>
          <a:graphicData uri="http://schemas.openxmlformats.org/drawingml/2006/table">
            <a:tbl>
              <a:tblPr/>
              <a:tblGrid>
                <a:gridCol w="3816360"/>
                <a:gridCol w="3311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sud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ản 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nesení soud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hị quyế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stní příka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ệnh phạ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tební příka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ệnh trả tiề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ávní mo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ệu lực pháp l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Text Box 30"/>
          <p:cNvSpPr/>
          <p:nvPr/>
        </p:nvSpPr>
        <p:spPr>
          <a:xfrm>
            <a:off x="1042920" y="1700280"/>
            <a:ext cx="756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hodnutí je externí individuální právní akt, kterým se zakládají, mění nebo ruší určitá konkrétní práva a povinnosti adresáta tohoto aktu, případně se závazně stanoví, zda již taková práva a povinnost existují či niko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Opravný prostřede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187280" y="1773360"/>
          <a:ext cx="7417080" cy="3108240"/>
        </p:xfrm>
        <a:graphic>
          <a:graphicData uri="http://schemas.openxmlformats.org/drawingml/2006/table">
            <a:tbl>
              <a:tblPr/>
              <a:tblGrid>
                <a:gridCol w="3962520"/>
                <a:gridCol w="3454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íž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iếu nạ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mit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ản đố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p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áng lệ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volá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áng cá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volá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ám đốc thẩ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ní stíž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iếu nại hiến phá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Rejstřík trest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187280" y="1773360"/>
          <a:ext cx="7417080" cy="2590560"/>
        </p:xfrm>
        <a:graphic>
          <a:graphicData uri="http://schemas.openxmlformats.org/drawingml/2006/table">
            <a:tbl>
              <a:tblPr/>
              <a:tblGrid>
                <a:gridCol w="3816360"/>
                <a:gridCol w="36007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pis z Rejstříku trest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ích lục danh bạ tội phạ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znam v Rejstříku trest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 tích trong danh bạ tội phạ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maz záznamu</a:t>
                      </a:r>
                      <a:br>
                        <a:rPr sz="2800"/>
                      </a:b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 Rejstříku trest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óa án tích trong danh bạ tội phạ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Text Box 30"/>
          <p:cNvSpPr/>
          <p:nvPr/>
        </p:nvSpPr>
        <p:spPr>
          <a:xfrm>
            <a:off x="971640" y="48690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 července 2008 komunikují již všechny orgány veřejné moci na území České republiky s Rejstříkem trestů výhradně elektronic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tiprávní jedn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187280" y="1773360"/>
          <a:ext cx="7417080" cy="3108240"/>
        </p:xfrm>
        <a:graphic>
          <a:graphicData uri="http://schemas.openxmlformats.org/drawingml/2006/table">
            <a:tbl>
              <a:tblPr/>
              <a:tblGrid>
                <a:gridCol w="3816360"/>
                <a:gridCol w="360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o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ểm t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olní orgá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ơ quan kiểm t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olovaná oso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ười bị kiểm t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tokol o kontro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ên bản kiểm t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stup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 phạm hành chí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ávní říz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ử lý hành chí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tiprávní jedn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187280" y="1773360"/>
          <a:ext cx="7417080" cy="3627360"/>
        </p:xfrm>
        <a:graphic>
          <a:graphicData uri="http://schemas.openxmlformats.org/drawingml/2006/table">
            <a:tbl>
              <a:tblPr/>
              <a:tblGrid>
                <a:gridCol w="3816360"/>
                <a:gridCol w="360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mácí násil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ũ lực gia đì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silní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g th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ě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ạn nhâ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kázání z domu (bytu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uổi khỏi nh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chodování s lidm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ôn ngườ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cená prá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àm việc bắt buộ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vádě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ưa ngườ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E-mail liên hệ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ngoc@tuvan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Trestní práv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1042920" y="1773360"/>
            <a:ext cx="756144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estní práv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odvětvím veřejného práva, které určuje jaké společensky škodlivé jednání jso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estnými či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jaké jsou sankce za jejich spáchání a jakým způsobem stát prostřednictvím svých příslušných orgánů spáchání trestných činů a jejich pachatele zjišťuje a trest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estní právo hmot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stanoví, co je trestným činem, podmínky trestní odpovědnosti, jaké sankce lze za trestný čin ulo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estní právo proces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stanoví postup příslušných orgánů státu (v ČR tzv. orgány činné v trestním řízení) při zjišťování trestných činů, prokazování jejich spáchání konkrétním osobám, ukládání a výkon trestů a ochranných opatření, upravuje zároveň i práva a povinnosti osoby, proti které se trestní řízení vede, jakož i dalších osob, jichž se toto řízení dotýk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Trestní zák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476360" y="1773360"/>
          <a:ext cx="6767640" cy="4054320"/>
        </p:xfrm>
        <a:graphic>
          <a:graphicData uri="http://schemas.openxmlformats.org/drawingml/2006/table">
            <a:tbl>
              <a:tblPr/>
              <a:tblGrid>
                <a:gridCol w="3384720"/>
                <a:gridCol w="338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stní zák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ộ luật hình s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stní řá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ộ luật tố tụng hình s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stný č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ội hình s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č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ội hình sự nh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utková podstata trestného čin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ếu tố cấu thành tội phạm hình s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Skutková podst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476360" y="1773360"/>
          <a:ext cx="6767640" cy="3627360"/>
        </p:xfrm>
        <a:graphic>
          <a:graphicData uri="http://schemas.openxmlformats.org/drawingml/2006/table">
            <a:tbl>
              <a:tblPr/>
              <a:tblGrid>
                <a:gridCol w="3384720"/>
                <a:gridCol w="338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k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ách th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ktivní strán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ính khách qu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jek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ối tượ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jektivní strán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ính chủ qu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tipráv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ính phạm phá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Trestní odpovědno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476360" y="1773360"/>
          <a:ext cx="6335640" cy="4054320"/>
        </p:xfrm>
        <a:graphic>
          <a:graphicData uri="http://schemas.openxmlformats.org/drawingml/2006/table">
            <a:tbl>
              <a:tblPr/>
              <a:tblGrid>
                <a:gridCol w="3384720"/>
                <a:gridCol w="295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vině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ạm t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ně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rẻ vị thành niê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lečenská nebezpeč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ức độ nguy hiểm xã h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rajní nou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ình trạng khẩn cấ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tná obr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ự vệ chính đá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ình phạ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Zavině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187280" y="1584360"/>
          <a:ext cx="7614000" cy="3573360"/>
        </p:xfrm>
        <a:graphic>
          <a:graphicData uri="http://schemas.openxmlformats.org/drawingml/2006/table">
            <a:tbl>
              <a:tblPr/>
              <a:tblGrid>
                <a:gridCol w="3807000"/>
                <a:gridCol w="38070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mysln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4dc4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ố 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4dc4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11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mysl přím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mysl nepřím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4dc4a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c4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ủ ý trực tiế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ủ ý gián tiế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4dc4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c4a">
                        <a:alpha val="20000"/>
                      </a:srgbClr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dbalost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4dc4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ất cẩ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4dc4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dbalost vědom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dbalost nevědom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4dc4a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c4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ất cẩn cố 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ất cẩn sơ 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4dc4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c4a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2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Soud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258920" y="1773360"/>
          <a:ext cx="7273800" cy="3627360"/>
        </p:xfrm>
        <a:graphic>
          <a:graphicData uri="http://schemas.openxmlformats.org/drawingml/2006/table">
            <a:tbl>
              <a:tblPr/>
              <a:tblGrid>
                <a:gridCol w="3457440"/>
                <a:gridCol w="381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resní so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òa án huyệ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rajský so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òa án tỉ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šší so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òa án cấp ca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jvyšší so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òa án tối ca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jvyšší správní so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òa án hành chính tối ca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ní so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òa án Lập phá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Tres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476360" y="1773360"/>
          <a:ext cx="7128000" cy="4054320"/>
        </p:xfrm>
        <a:graphic>
          <a:graphicData uri="http://schemas.openxmlformats.org/drawingml/2006/table">
            <a:tbl>
              <a:tblPr/>
              <a:tblGrid>
                <a:gridCol w="3808440"/>
                <a:gridCol w="3319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nětí svob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ù gi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ýjimečný tres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ình phạt đặc biệ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mácí věz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ản chế tại nh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ecně prospěšné prá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o động công í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adnutí majetk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ịch thu tài sả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ěžitý tr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ạt tiề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adnutí věci nebo jiné majetkové hodno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ịch thu đồ vật hoặc các giá trị tài sản khá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Tresty - pokračová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476360" y="1773360"/>
          <a:ext cx="7128000" cy="3962160"/>
        </p:xfrm>
        <a:graphic>
          <a:graphicData uri="http://schemas.openxmlformats.org/drawingml/2006/table">
            <a:tbl>
              <a:tblPr/>
              <a:tblGrid>
                <a:gridCol w="3808440"/>
                <a:gridCol w="3319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kaz činnos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ấm hoạt độ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kaz poby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ấm cư tr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kaz vstupu na sportovní, kulturní a jiné společenské ak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ấm vào nơi có các  hoạt động thể thao, văn hóa, xã h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tráta čestných titul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ước danh hiệ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tráta vojenské hodnos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ước quân hà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hoštění z území Č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ục xuất khỏi Sé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5:38Z</dcterms:modified>
  <cp:revision>100</cp:revision>
  <dc:subject/>
  <dc:title>Snímek 1</dc:title>
</cp:coreProperties>
</file>