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5DF-8AB4-4056-9D89-C2ABF02E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2FF-28E9-4584-972B-3016D6F2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3CE-FDBF-4C88-B122-FD550319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23C-05F7-4A60-BC99-C0CBD3BF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45A-51E1-42AE-857C-80A3DADC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14FB-46D1-4E91-8490-37113372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6015-5391-4417-BFFC-D9FB059A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2919-DA0D-4327-97DA-53BD3748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B444-6CF3-4A60-89A0-B705D28A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8D5F-713E-41AC-8843-9BFA051D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B0B-3626-481E-981D-8B1A67B6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AA63-ED39-4B63-A6FF-DDEB1401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7A1F-6E98-4108-8CBD-540E7BB8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3EB2-8126-4DAC-8830-9BD7E619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8062-8C8B-45CA-86CA-F11F2496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FA16-B3AB-4000-8AD6-E3211CBF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9070-3379-40FF-A62E-D64C33B9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03CF-E20F-43EF-9C6C-F2BE0B24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A1F-9E82-422C-86EB-99473275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DB9-7595-4192-B004-F64CE7A1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DAE-B5FF-4574-8252-AC895EBD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4AF-555F-4FD4-813C-BDBA4EA0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9C4-CF3D-4C6E-B2FE-D6F7B722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E65-7ECE-4C80-9D7F-C7D82D0C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1880-92CF-4457-8F1B-2F33A3C405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04B6-679B-4469-BC91-F0E533929C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5081-499B-4DDE-83A3-B316CFC1942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6E05-3306-4185-A50D-C9DDBADD682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Sociální zabezpe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ČSS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042920" y="1773360"/>
            <a:ext cx="756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zemní přísluš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padě zaměstnance hradí část zaměstnavatel a část zaměstnavatel za zaměst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nikatel hradí dle svého pří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hlašování a odhlašování při změně trvalého bydliště nebo sídla fi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innost platit do určitého konkrétního dne v měsíci – nestačí zaplatit jednorázově po termí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sílání výpisu a zpráv – kontaktní ad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1. 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042920" y="1773360"/>
            <a:ext cx="756144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ální zabezpečení a sociální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ální práce ve VSR a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sociální práce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ální prostředí ve V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práce s cílovou skupi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ímání moderních právních poj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ímání pojmů: pomoc, podpora, inte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 sociální práce ve V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2. Projektový jazyk v oblasti sociálnínch vě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042920" y="177336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měr, cíl, aktivita, výstup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klad projektové závěrečné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Sociální zabezpeční zaměstnanců a podnikatel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042920" y="177336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vnostenský podnikatel provozuje živnost samostatně, vlastním jménem a na vlastní odpovědnost. V rámci své činnosti je odpovědný za plnění svých povinnosti vůči úřadů, zejmé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Živnostenskému úř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inančnímu úř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České správě sociální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Sociální zabezpeč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1773360"/>
            <a:ext cx="75614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řihlášku k důchodovému pojištění a následně odvádět pojistné na důchodové pojištění a státní politiku zaměstna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ZV. minimální zá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čítá se 29,2% z vyměřovacího základu (50% z daňového základu, t.j. příjem – výd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Oznámit ukončení  samostatné výdělečné čin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lnění uváděných povinností může mít vliv i na prodloužení povolení k dlouhodobému pobytu za účelem podnik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Zdravotní pojiště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ém veřejného zdravotního pojištění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luvní zdravotní po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ze pojišťovny oprávněné provozovat t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ištění dle seznam České národní ba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zinec-zaměstnanec je účasten systému veřejného zdravotního pojištění, ale jeho rodinní příslušníci včetně děti narozených na území ČR si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us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jistit komerční pojišt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Sociální pojiště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042920" y="177336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chodové po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mocenské po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ištění v nezaměstna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Podp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042920" y="1773360"/>
            <a:ext cx="756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vky sociální péče pro osoby se zdravotním posti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trvalý pobyt, občan EU, dle konkrétních předpisů – pracující, rodinný příslušník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 v hmotné nou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říspěvek na životby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doplatek na byd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mimořádná okamžitá podp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ůc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5 let pobytu, nebo 15 let pobytu a alespoň 6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Podp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ní sociální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řídavek na dítě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rodičovský příspěve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sociální příplate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říspěvek na bydlení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orodné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ohřebné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dávky pěstounské pé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25Z</dcterms:modified>
  <cp:revision>123</cp:revision>
  <dc:subject/>
  <dc:title>Snímek 1</dc:title>
</cp:coreProperties>
</file>