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1D4-F83E-4652-B9A3-F768A46C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937-19D2-4B20-9E4A-FEF8E0BC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14A-F54C-4037-B5DA-6A82763C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DF4-D1B2-4727-8AFD-CCA3638D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7B43-CA22-4534-98FD-D4954692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7AB4-3AF9-4C1C-AC2E-EE7784F1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BA90-0A88-40EC-A6C4-5644E885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3931-C907-40EF-B249-1EFF3E0A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27F7-9C7C-4A27-AFD7-D6F8097E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463E-4E05-422C-B78A-AE68AA61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F9B-2EC4-447D-914D-7B7CAD84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A5AC-A388-4D7A-9AEE-9E41CEB6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194E-3021-4EF3-8321-100C5314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FF58-28A3-4B62-90F6-DFD815C1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0FDF-9BDB-48D4-A330-C9E985AE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6023-A205-4178-B401-DD861C69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0888-7169-47F2-8DF7-3F876570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2DAD-00AD-460E-ADD6-1432B3D8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F23-4255-4277-806A-67171979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E92-88F9-4181-B385-1B0DEA48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6E6-7188-496A-BDF9-3A0BC179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BE4-D310-429D-9D77-C002D971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E177-60F5-4CAA-9177-850866F5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5B4-9E06-48AE-9882-2A1FF8C9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ABFD-E00C-4565-8660-BE598E8E918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A0C2-B84E-485D-A019-4B71642184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CEED-CC76-4DB0-8C53-253FED028838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F57D-46FE-4C0C-9924-007168B7D4C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a: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Školstv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116000" y="1612800"/>
          <a:ext cx="7273800" cy="448020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ẫu giáo, mầm 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vní dva stupně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ổ thông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c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ơ sơ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s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ểu nhi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v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Í stupe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ểu ho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vní, druhý, třetí stupe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ấp I, II,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řední vzdělávání, třetí stupe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ung ho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v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í stupeň odborného vzděláv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ở cấp nghê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7. Slovníč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116000" y="1773360"/>
          <a:ext cx="7273800" cy="568152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řetí stupeň odborného vzděláv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šší odborná šk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o đẳng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gh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ê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o đẳ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á šk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Đại ho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Đại học tổng hợ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ương trì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ámka –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Điể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vědč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ấy chứnh mi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7. Slovníč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116000" y="1730520"/>
          <a:ext cx="7273800" cy="249876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vědč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ằng cấ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ká kar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̉ sinh viê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kovská kníž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ổ liên la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hý stupeň odborného vzděláv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ung cấp nghê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7. Slovníč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1. Úv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042920" y="1773360"/>
            <a:ext cx="756144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myšlenky vzdělávání ve VSR a v ČR – Konfucius a Komen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formace o projektu vytvářejícím systém odborného vzdělávání ve V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porovnání obou syst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stém V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stém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ematika vzdělávání cizinců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2. Filozofie a metod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042920" y="1773360"/>
            <a:ext cx="7561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onfucius : důraz na morálku, učení nazpaměť a vyjadřování pí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omenský : aplikace a dialog o obsahu, morálka je o vztah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odnes se odráží ve vzdělávacích systémech obou zem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íklady z prax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3. Systém ve VS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042920" y="1773360"/>
            <a:ext cx="7561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Škol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vní až  třetí stupeň základního vzděl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dle toho tři stupně odborného vzdělá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yšší odborné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ysoké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 řízením Ministerstva vzdělávání a výchovy, Ministerstva práce, válečných invalidů a sociálních věc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3. Systém ve VS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42920" y="1773360"/>
            <a:ext cx="75614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roblémy s aplikací znal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Neefektivní přijímání žá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ůraz na morál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Chybí pedagogické dovednosti učitelů a komunikační dovednosti učitelů i žá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Velký zmatek v nutných formalitách, přechodech mezi školami, způsobech hodnoc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Chybí systematická definice šk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4. Systém Č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042920" y="177336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ílá kn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Rámcově vzdělávací progra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Školní vzdělávací progra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říprava uči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Eval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5. Národnostní menši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042920" y="1773360"/>
            <a:ext cx="756144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okud se ve sčítání lidu přihlásí určité procento k dané národnosti, vzniká právo na vytváření ntříd, škol v mateřském jazyce a založení výboru pro národnostní otáz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etnam žádá o zařazení mezi národnostní menš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ou je sdružování a aktivní činnosti občanů ČR vietnamské národ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a dva státy – změny cizineckých záko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6. Vzdělávání cizinců v Č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042920" y="1773360"/>
            <a:ext cx="756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omě ojedinělých projektů, neexistuje žádný systematický nástroj výuky češtiny pro děti cizince. Dohání to neziskové organiz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ladších generací dětí to tolik nevadí, ale již od třetí třídy nastávají problémy s efektivní výuk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čitelé nemají potřebné materiá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6. Cizinci v Č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042920" y="177336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oslední době mnoho cizinců na povolení ke studiu , i když studovat vůbec nechtěli. Ve chvíli nedodržení účelu pobytu hrozí vyhošt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kušenosti s asistenty na školá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y z prax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6:09Z</dcterms:modified>
  <cp:revision>121</cp:revision>
  <dc:subject/>
  <dc:title>Snímek 1</dc:title>
</cp:coreProperties>
</file>