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636-E259-4631-9F07-56DAB32D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A33-69DC-4EB2-9790-08764793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EA2-B2B2-4353-A2F5-3DE9D61E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15B-8719-46EC-9450-A17A7B03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852-FBE7-4E31-878A-CF4533EF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338B-0054-4600-92FB-3D4DB90B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32FF-7D04-4C16-AFE5-A46C75EC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8F7E-AB94-419E-A3DB-F412046F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3409-2BC1-4B58-9F50-984ECA30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1458-3A0B-4DFF-A546-D25E12DB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0D9-2D80-45D1-8F6C-0BBBAE1E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D4B0-30CA-4CCA-9269-3B06070E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7915-511B-4C0C-8BBD-118E42E5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6D53-1661-4020-AE5F-BDD6ADA4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8F28-B400-48C8-A909-88A5EFD3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6519-A37E-450F-80CB-66A0D1FE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92BA-8807-4E4B-A76B-ABD44295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5578-89A1-4E09-A7C9-2F7958C8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201-DCB3-4012-9226-4578A604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46C-0455-46F4-A04F-9C879401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DF8-30C5-4468-A961-021406B6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E9F-72F7-4BA8-BBE7-3F83BAAC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500-5083-4A44-A9C4-43AAF8AA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580-866F-4F80-9A52-1A66D26A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6DB5-E1DC-4A77-9200-8995E9C93C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8FCF-BBA0-46C4-AF12-1A26CEA4D9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09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7AF1-23F1-4C78-8C4D-4D8BE42EDACC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3EFB-C448-46EC-B720-C7D802B5E58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5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ahoma"/>
              </a:rPr>
              <a:t>PODNIKÁ</a:t>
            </a:r>
            <a:r>
              <a:rPr b="1" lang="vi-VN" sz="3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cs-CZ" sz="3000" spc="-1" strike="noStrike">
                <a:solidFill>
                  <a:srgbClr val="000000"/>
                </a:solidFill>
                <a:latin typeface="Tahoma"/>
              </a:rPr>
              <a:t>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457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9. Formy společností (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71640" y="1773360"/>
          <a:ext cx="7345440" cy="3322440"/>
        </p:xfrm>
        <a:graphic>
          <a:graphicData uri="http://schemas.openxmlformats.org/drawingml/2006/table">
            <a:tbl>
              <a:tblPr/>
              <a:tblGrid>
                <a:gridCol w="4464000"/>
                <a:gridCol w="28814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řská (holdingová)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m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eřiná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int-vent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ên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l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ập đoà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zastoupe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ại diện thương mạ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dnárodní korpora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đa quốc g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ropské hospodářské zájmové sdruže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óm lợi ích kinh tế Châu Â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10. OSV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116000" y="1773360"/>
          <a:ext cx="7488360" cy="3840120"/>
        </p:xfrm>
        <a:graphic>
          <a:graphicData uri="http://schemas.openxmlformats.org/drawingml/2006/table">
            <a:tbl>
              <a:tblPr/>
              <a:tblGrid>
                <a:gridCol w="3384720"/>
                <a:gridCol w="410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ozování živnost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ạt động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enské oprávně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ấy phép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ikační číslo (IČ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ã đăng ký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ísto podniká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ịa điểm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ozov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ịa điểm hoạt động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povědná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chịu trách nhiệ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ozní d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ời gian hoạt độ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evírací d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ời gian mở c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enský rejstří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h bạ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73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11. Úřady a institu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16000" y="1773360"/>
          <a:ext cx="7488360" cy="4174920"/>
        </p:xfrm>
        <a:graphic>
          <a:graphicData uri="http://schemas.openxmlformats.org/drawingml/2006/table">
            <a:tbl>
              <a:tblPr/>
              <a:tblGrid>
                <a:gridCol w="4032360"/>
                <a:gridCol w="3456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stra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ăng k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ňové identifikační čísl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ã số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rávce dan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ơ quan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ráva sociálního zabezpeče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òng bảo hiểm xã hội (an sinh xã hội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ální pojiště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ảo hiểm xã hộ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dravotní pojišťov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ãng bảo hiểm y t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ňové přizná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ờ khai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tební výmě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ấn định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hled o příjmech a výdají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ờ tổng quát thu ch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12.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16000" y="1773360"/>
          <a:ext cx="7488360" cy="4267080"/>
        </p:xfrm>
        <a:graphic>
          <a:graphicData uri="http://schemas.openxmlformats.org/drawingml/2006/table">
            <a:tbl>
              <a:tblPr/>
              <a:tblGrid>
                <a:gridCol w="4032360"/>
                <a:gridCol w="3456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kl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ứng từ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ktu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óa đ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čtenka / parag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iếu bán hà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znam trže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hi chép doanh th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četnictv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ế to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vojné účetnictv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ế toán ké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ňová evid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hi chép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četní uzávěrk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óa sổ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zvah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ảng cân đố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ka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ảng quyết to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1. Základní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42920" y="2708280"/>
          <a:ext cx="7632720" cy="3413160"/>
        </p:xfrm>
        <a:graphic>
          <a:graphicData uri="http://schemas.openxmlformats.org/drawingml/2006/table">
            <a:tbl>
              <a:tblPr/>
              <a:tblGrid>
                <a:gridCol w="3097440"/>
                <a:gridCol w="45352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ạt động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enský úř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òng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enský zák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ộ luật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ohlašovac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thông bá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voln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tự 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řemesln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thủ cô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vázan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phụ thuộ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koncesovan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có chứng ch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92"/>
          <p:cNvSpPr/>
          <p:nvPr/>
        </p:nvSpPr>
        <p:spPr>
          <a:xfrm>
            <a:off x="971640" y="1700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nost: Soustavná činnost provozovaná samostatně, vlastním jménem, na vlastní odpovědnost, za účelem dosažení zisku a podmínek stanovených živnostenským zákon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2. Subjek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16000" y="1773360"/>
          <a:ext cx="7273800" cy="3840120"/>
        </p:xfrm>
        <a:graphic>
          <a:graphicData uri="http://schemas.openxmlformats.org/drawingml/2006/table">
            <a:tbl>
              <a:tblPr/>
              <a:tblGrid>
                <a:gridCol w="3311640"/>
                <a:gridCol w="3962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yzická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á nhâ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ávnická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áp nhâ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, hã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fir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ương hiệu, tên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nika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anh nhân, doanh nghiệ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V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kinh doanh cá th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eská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ối tượng Sé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raniční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ối tượng nước ngoà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povědný zástup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ại diện trách nhiệ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116000" y="1773360"/>
          <a:ext cx="7273800" cy="3840120"/>
        </p:xfrm>
        <a:graphic>
          <a:graphicData uri="http://schemas.openxmlformats.org/drawingml/2006/table">
            <a:tbl>
              <a:tblPr/>
              <a:tblGrid>
                <a:gridCol w="3311640"/>
                <a:gridCol w="3962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ávajíc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b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třebi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tiêu dù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rob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ản phẩ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už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ịch v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rob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à sản xuấ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voz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à nhập khẩ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dava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à cung ứ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ratný ob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o bì trả lại đượ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4. Vzta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16000" y="1773360"/>
          <a:ext cx="7488360" cy="384012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smlou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ợp đồng thương mạ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podle občanského záko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theo Bộ luật dân s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podle obchodního záko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theo Bộ luật thương mạ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ối tá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azní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ách hà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hledávk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oản phải đò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vaz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oản phải tr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lu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oản n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ruk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ảo hà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5. Obchodní společ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116000" y="1773360"/>
          <a:ext cx="7488360" cy="4267080"/>
        </p:xfrm>
        <a:graphic>
          <a:graphicData uri="http://schemas.openxmlformats.org/drawingml/2006/table">
            <a:tbl>
              <a:tblPr/>
              <a:tblGrid>
                <a:gridCol w="3743280"/>
                <a:gridCol w="37450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ložení a vzni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ành lập và xuất hiệ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klada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thành lậ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enská smlou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ợp đồng thành lập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kladatelská listi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ăn bản thành lập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ářský záp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ăn bản công chứ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ázev společnost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ên công ty / hã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utární org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ơ quan đại diệ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dl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ụ s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ladní kapitál (jmění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ốn pháp đị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rejstří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h bạ thương mạ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6. Formy společností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71640" y="1773360"/>
          <a:ext cx="7777080" cy="3749400"/>
        </p:xfrm>
        <a:graphic>
          <a:graphicData uri="http://schemas.openxmlformats.org/drawingml/2006/table">
            <a:tbl>
              <a:tblPr/>
              <a:tblGrid>
                <a:gridCol w="3963960"/>
                <a:gridCol w="38131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nost s ručením omezený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trách nhiệm hữu h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ní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ành viên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dna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ại diện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ná hrom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thành viê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podí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ần vốn gó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kl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oản góp vố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73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Formy společností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116000" y="1773360"/>
          <a:ext cx="7488360" cy="384012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kciová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cổ phầ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k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ổ phiế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kcioná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ổ đô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ná hrom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cổ đô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stavenst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quản tr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zorčí r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giám sá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iden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ổ tứ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z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àn chứng kho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e akci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át hành cổ phiế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8. Formy společností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116000" y="1773360"/>
          <a:ext cx="7488360" cy="42670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anditní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hợp d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andis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ành viên góp vố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plementá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ành viên hợp d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řejná obchodní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y thương mại công cộ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níc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ác thành viê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ropská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Châu Â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žst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ợp tác x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lenská schů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ọp xã viê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stavenst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 quản tr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trolní komi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kiểm t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13Z</dcterms:modified>
  <cp:revision>103</cp:revision>
  <dc:subject/>
  <dc:title>Snímek 1</dc:title>
</cp:coreProperties>
</file>