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9928225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C0A-C44E-4E5F-BF9B-72E64B6D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A78-6B8D-418A-870C-0FCCAECC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F8B-0EC3-4817-89BA-006494C0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1F0-63DE-4A4F-B57C-55C460D6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F6A-610C-4118-A445-D5A5A285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2DB2-7320-4D83-91DB-84A4F881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6D01-85FB-4E92-BA11-B35E6B64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03BF-5FA6-488B-8CCF-D5BADE82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EA46-DE12-476C-97E6-9AD7866C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E9FD-51D9-403E-B893-E431945E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160-064C-4035-A075-67473D38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B91E-AD90-4CFF-A8D9-50979679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2602-F7E8-4169-B09A-2ADFBDCB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2CC4-B47C-4670-956C-622F9BC3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EC0A-A7F0-4510-9B5D-AC4F21B2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B02F-4D66-4889-BA86-2FF756FB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5D76-944C-4CD8-995D-A02F812C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0AB1-B17C-4A27-8BE1-C7CEFF2E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53D-6031-4CB2-BA23-57097379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278-5B72-4CDF-BA4B-8368B43A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966-9160-4D87-B883-7E2F566F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750-2526-4820-B745-0D73C578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FAB-9A1E-4830-9AF6-B4950557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862-4085-4CB8-AB41-C2649B5D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474D-5C21-42EA-9A01-00489F35C0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E40B-E278-4780-9418-D43C37A8B3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0D53-B045-4C9D-81B2-DDF4C34C5C77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72D3-E0DD-47F8-B5EF-D6D68FFBB56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Daňová problemat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457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Pořízení zboží v rámci E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042920" y="1773360"/>
            <a:ext cx="75614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řízení zboží z jiného členského st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ísto plnění (místo, kde končí přeprava zboží k pořizovateli) -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ísto při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ěřování DIČ pro účely DPH prostřednictvím systému 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 z přidané hodno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042920" y="177336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n z nejdůležitějších příjmů státního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edení daně pouze z rozdílu ceny mezi vstupy a 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ní se vlastně hrubá marže, tj. ta „přidaná hodnot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Sazba D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042920" y="177336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(EU – minimálně 1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2011 v ČR: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á (EU – minimálně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2011 v ČR: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ánované sazby v Č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1.2012 - 31.12.2012: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20%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1.1.2013: jednotná sazba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17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Plátce DP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042920" y="177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átcem daně z přidané hodnoty je každý subjekt se sídlem, provozovnou či místem podnikání registrovaný jako plátce D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Česku se plátcem musí povinně stát subjekt, jehož obrat přesáhl za 12 po sobě jdoucích kalendářních měsíců částku 1 000 000 K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Plátce DP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hlášku k registraci musí podat do 15 dnů po skončení termínu, v němž subjekt překročil stanovený limit a plátcem se stává prvního dne třetího měsíce následujícího po měsíci, ve kterém překročil stanovený obr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ta 10 % ze všech příjmů za období, v němž subjekt měl být plátcem daně a neby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ovolná registrace k 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PH - zdaňovací obdob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042920" y="1773360"/>
            <a:ext cx="756144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§ 99 zák. č. 235/2004 Sb. o dani z přidané hodno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tvrtletní (obrat za předcházející kalendářní rok nedosáhl 10 000 000 K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íční (obrat za předcházející kalendářní rok přesáhl 10 000 000 K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íční (obrat za předcházející kalendářní rok dosáhl aspoň 2 000 000 Kč a plátce si zvolí tuto zdan. období – oznámit správci nejpozději do 31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a zdan. období: oznámit správci do 31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PH - pokračo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042920" y="1773360"/>
            <a:ext cx="7561440" cy="24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: jako jeden subjekt. Zdaňovací období se stanoví ze součtu obratu dosaženého všemi účastníky v rámci sdružení a obratu plátce dosaženého mimo sdruž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příjmy nepodléhají DPH, například nájem nemovit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PH při dovozu a vývoz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042920" y="177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aplatit ihned nebo až při podávání při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od DPH osvobo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a: že kupující nemá v tuzemsku sídlo, místo podnikání, místo pobytu ani provozov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Vrácení DPH při vývoz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042920" y="1773360"/>
            <a:ext cx="756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yzická osoba nemá v ČR trvalý pobyt ani přechodné bydlišt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mětný nákup je uskutečněn v jenom dni u jednoho prodej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zakoupeného zboží včetně DPH je vyšší než 1000 K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z zboží je uskutečněn do 30 dnů od doby nákup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k na vrácení DPH lze uplatnit nejpozději do 3 měsíců od datumu nákupu zbož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4:36Z</dcterms:modified>
  <cp:revision>104</cp:revision>
  <dc:subject/>
  <dc:title>Snímek 1</dc:title>
</cp:coreProperties>
</file>