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8A1-5127-41D2-BDEE-0DA8B90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856-A7A0-4312-990B-863CDE36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446-21E5-4EC2-AF85-56AD06F3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7E9-324D-412B-BAB5-915298D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3A5-C4EB-4696-BBA2-F1991BCE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CBDC-8C9B-4191-AEB2-2026236A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25D-88DC-4DE0-A5ED-D282CA63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8E3B-DB1C-4F4E-BB72-4443A2A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0667-F689-42A7-BAB6-BCDA944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3391-A907-483A-ABE8-313188D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D45-B08C-49EE-8B98-A308092D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5B39-402D-4916-8DE2-241983B9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96DD-4680-4797-A44C-7DAF795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C83-457A-420F-A1CB-DD14F66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869-41BA-448A-A047-30214D6E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8C5A-5E79-4CDD-A915-E1E1C4A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67B9-B87F-4CC9-B846-68187646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18F-49E6-4890-8EB8-DA5D21ED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4CA-E783-4347-B0D8-1444B60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BF5-1750-4DAA-943F-5FD8A88A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3EE-709A-4AE6-AC91-9B79C76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A24-CDBC-4306-B187-D0F9F30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5C2-5E01-4C51-ACB2-C94D50C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497-F5A1-4481-8494-E4177E1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5DBE-5879-4B14-A3AF-70BC37699B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88D6-BD8E-47E3-8DDB-15777EE179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E1F-67DB-45C2-A382-15DA63E4AC8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8A1A-2C32-4395-8A2D-060F60CD2DC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ý řá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80/200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b., daňový ř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ce daně – finanční úř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přísluš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ový su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zákon č. 531/1990 Sb., o územních finančních orgán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loha 1 -  Názvy, sídla a územní působnost finančních úř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Činnost finančních úřad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konávají správu daní, odvodů a záloh na tyto příj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ějí řízení o přestupcích v oblasti své pů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bírají poplatky, odvody, úhrady, pokuty a pená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ravují dot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kládají poku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hodují o výši pohledávky na daních, a jimi spravovaných příjm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 základě pověření Ministerstvem financí finanční úřady poskytují mezinárodní pomoc při správě daní a provádějí vymáhání peněžitých pohledáv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Úřední dny F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Usnesení vlády České republiky ke zjednodušení a zlepšení výkonu státní správy ve vztahu k občanům pro všechny finanční úřady i finanční ředitelství platí jednotné úřední dny: Vždy v pondělí a ve středu s úředními hodinami od 8 do 17 hodin, pokud není den pracovního kl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je platb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obrovolnou, povinnou, vynutitelnou – placení daní je nařízeno zákon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ávratnou – zaplacenou daň nelze požadovat zpě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ekvivalentní – neexistuje nárok na adekvátní plnění za da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čelovou – plátce daně nemůže ovlivnit, na co budou daně použ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prospěch veřejného rozpoč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opakova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í poplatník sám na vlast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latí plátce daně na účet poplat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42920" y="1773360"/>
            <a:ext cx="7561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FO - Thuế thu nhập cá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PO - Thuế thu nhập pháp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nemovitosti - Thuế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evodu nemovitosti - Thuế chuyển nhượng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arovací - Thuế quà tặ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ědická - Thuế thừa k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 přidané hodnoty - thuế giá trị gia tă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spotřební - thuế tiêu dùng (tiêu thụ đặc biệ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é přizn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hůta pro daňové přiz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íjmů: do 1.4. (prodloužená lhůta do 1.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idané hodnoty: do 25. dne po skončení zdanitelného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nemovitosti: do 31.5. nebo ve dvou splátkách, do 31.5. a 30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ce k da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Č – daňové identifikační číslo: jednoznačná identifikace plátce daně (daňového poplatní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spotřební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353/2003 Sb., o spotřebních dan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ák, alkohol (líh), pohonné hm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roku 2004 její správu vykonává Celní úřad, do konce roku 2003 Finanční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jí zdanění: DPH se vypočítává z ceny včetně spotřební da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19Z</dcterms:modified>
  <cp:revision>101</cp:revision>
  <dc:subject/>
  <dc:title>Snímek 1</dc:title>
</cp:coreProperties>
</file>