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B26-A8A4-4050-BA1F-04C08E5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602-D01F-4BAE-93C7-7DEF2E32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37F-B0F3-4641-AFF1-C44D983B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681-F05D-486A-A476-EB6B778F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6F4-8C6A-4B0F-B71B-8C044D1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88E-AF0C-4E12-A1D9-36642F7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3C7-4505-4A42-9DDE-0C13611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F0AE-A74C-4FB1-83A6-5C1B01C1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911-BC8C-4085-9668-B039E000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46A7-AB82-45C0-9B1A-A7B86132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E4C-E1E6-4942-B24A-EBE6799A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E0F8-F3F1-4195-97E2-4C62DCF2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32C-7BDE-4F55-A9F5-1E146970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E547-FD5D-4702-B16E-BB4A30A8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1330-5C48-4132-9CCE-F00E99C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EE3A-A168-41C5-90A5-25272B0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085-035A-421A-BCD3-2390026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4ADF-6135-431C-96BF-6680DFD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4BA-B70B-4575-AB1E-8B98C0FA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6DA-A943-458A-88BC-C5DDE73B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2F43-0D47-4C78-AB5E-5B449188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388-E57E-4EB7-82B7-715CB62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B2A-2A74-468D-8729-400DB34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D2B-5962-47F2-8116-DE73132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D749-6037-40F4-96E9-02D2F3D5C7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1793-09D0-4FB6-ADA2-A3EE719D6D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B466-50FF-4996-BB3F-53004B59DFF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3A4-47A9-4C03-8298-B172C307608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270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6. Výd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ăng lư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ř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iệ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í đố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áp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ư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iệt sư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é a stoč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ước dùng và th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7. Okol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1773360"/>
          <a:ext cx="7488360" cy="40543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ovní řá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ội quy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ovy družst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iều lệ hợp tác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àng xó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tví vlastníků jednotek (SV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ệp hội các chủ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ný pro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ông gian ch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o ch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quản l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8. Odp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16000" y="1773360"/>
          <a:ext cx="7488360" cy="5995800"/>
        </p:xfrm>
        <a:graphic>
          <a:graphicData uri="http://schemas.openxmlformats.org/drawingml/2006/table">
            <a:tbl>
              <a:tblPr/>
              <a:tblGrid>
                <a:gridCol w="3960720"/>
                <a:gridCol w="3527640"/>
              </a:tblGrid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unální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sinh hoạt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ební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xây dựng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m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kích thước lớ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elnic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ùng rác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koobjemový kontejner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ng chứa rác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řídě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phân loạ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doby na třídě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ùng chứa rác thải phân loạ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9. Tříděný odp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116000" y="177336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í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ấ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ủy t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ất dẻ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odp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sinh h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ojové kart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ộp giấy đựng đồ uố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dej a koupě nemovit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0.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6000" y="1557360"/>
          <a:ext cx="7488360" cy="5059440"/>
        </p:xfrm>
        <a:graphic>
          <a:graphicData uri="http://schemas.openxmlformats.org/drawingml/2006/table">
            <a:tbl>
              <a:tblPr/>
              <a:tblGrid>
                <a:gridCol w="3600360"/>
                <a:gridCol w="3888000"/>
              </a:tblGrid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ní smlouv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mu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ávajíc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ên bá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ujíc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ên mu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astr nemovitost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h bạ bất động sả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alecký posudek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ánh giá chuyên viê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vrh na vkl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ề nghị ghi tê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is do katastru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i danh bạ bất động sả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chov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ửi tiền giữ hộ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0000"/>
                </a:solidFill>
                <a:latin typeface="Verdana"/>
              </a:rPr>
              <a:t>BYDLEN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2340000" y="59511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alibri"/>
              </a:rPr>
              <a:t>nájemní smlouva, výpovědní lhůta, jednotlivé poplatky, úklid, domovní řá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ležitosti nájemní a kupní smlouv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dentifikace subjektů ve smlouv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působ platby a komunik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resa a právní důsledky registrace adresy trvalého bydliště či místa podnikání či provozov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klad adres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blémy se smlouvami a hlášením trvalého bydlišt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76360" y="1773360"/>
          <a:ext cx="6767640" cy="414468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d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ng cấp chỗ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ý pro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ông gian để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á 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ơn vị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inný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riê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ový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lắp ghé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nžovní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 căn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ídlišt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 chung c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Subj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116000" y="1773360"/>
          <a:ext cx="7273800" cy="414468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 by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itel, vlast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ủ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vlast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ồng chủ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é druž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tác xã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žstevní b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 hợp tác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 v osobním vlastnic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 sở hữu cá th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Vzta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áj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ê l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ájem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thuê l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použí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yền sử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a nák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a và b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Náležitosti smlou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1773360"/>
          <a:ext cx="7488360" cy="466380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ajím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mět náj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ối tượng 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a náj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ời gian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nájemné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ức tiền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stina, kau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đặt c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 úhr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ình thức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kvence úhr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ần số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Náležitosti (pokr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a a povin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yền và nghĩa v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ế tà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ově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áo hủy hợp đồ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ovědní lhů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ời hạn hủy hợp đồ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ávací protok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ên bản bàn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5. Plat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dịch v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st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đặt c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l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ác lệ ph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latek za odp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ệ phí đổ rá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k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ét dọ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06Z</dcterms:modified>
  <cp:revision>98</cp:revision>
  <dc:subject/>
  <dc:title>Snímek 1</dc:title>
</cp:coreProperties>
</file>