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A50-9151-4899-8080-11B084AC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912-8919-4D02-A995-D21424CE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EF3-1117-4A5B-9563-6562EC69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AE3-9292-40BF-B33F-23CD8210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11B-9A54-4ECC-9928-7AA8725D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F12-577B-44D1-92F5-8D8EDDA2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269-E92A-4677-AC3E-B6329678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5957-1EAA-4979-9AD9-6A33BE97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445-D293-4C4F-A9F2-0680B0CC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FA2F-1931-4DA9-836E-1BCB433B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BBF6-87CB-46E9-96DD-C8C6877C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5722-E9AA-4D3A-9046-5FC99CEC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E41E-055D-4093-B71E-672EB05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ADD5-540C-40B1-B1AA-879C3CA8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CB66-1CE0-4066-B372-76821224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2896-433D-4DC0-94A3-CC2935DD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9969-AE2A-47D4-8340-FB542C8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1340-D8CD-4CC3-9A48-F37696B9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3A58-0B85-417E-AB6B-9CAB503B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5AF-E2E3-47F8-8176-CBAD35C2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668D-E624-481B-B4D4-40A25F84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40A-C1D4-42C8-9026-A91BB5D7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17C-B549-42C0-BCD4-8D63F26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D08-C946-4813-9959-C76C1DCA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C9C8-BBBC-4140-8666-1206E7CF65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4E1D-FFDD-44D4-899F-B921D34C19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D960-F6DA-4F48-A8B5-95A68F0B7AE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BA54-CC44-45D1-B2D3-246164A9131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270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400" spc="-1" strike="noStrike">
                <a:solidFill>
                  <a:srgbClr val="990033"/>
                </a:solidFill>
                <a:latin typeface="Verdana"/>
              </a:rPr>
              <a:t>3</a:t>
            </a: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16000" y="1628640"/>
          <a:ext cx="7488360" cy="4464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é čís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khai s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chứng minh th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naro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ày s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ův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ê quá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yê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nc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̉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žší administrativní jednotky ob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ôn, xóm, đô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116000" y="1628640"/>
          <a:ext cx="7488360" cy="457200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žší jedn. obce pro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ná m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ủy quyề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stné prohláš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c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đo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ítn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̀ chố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jm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ấp nhâ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hodn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yết đị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š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hị đị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ěř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ng chứ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400" spc="-1" strike="noStrike">
                <a:solidFill>
                  <a:srgbClr val="990033"/>
                </a:solidFill>
                <a:latin typeface="Verdana"/>
              </a:rPr>
              <a:t>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16000" y="177336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ữ liệu cá nhâ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nhâ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nhâ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esíla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gử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poruče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đả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ír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nhận trả tiề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ưu phẩm\bưu kiệ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6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42920" y="171468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ăng ky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ưu điê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ů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ời ha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aná c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́ được n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ạn thanh to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in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ệu lư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́ tri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7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042920" y="171468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z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ị na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ací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đăng ký kết hô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ý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khai s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jstřík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h bạ tội phạ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hodní rejstř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h bạ thương ma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ivnostenský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ấy phép kinh doa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ská republika, Če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̣ng hoà Sé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8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42920" y="1700280"/>
          <a:ext cx="7488360" cy="388944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ový výbor ob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Ủy ban nhân dân xa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o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̉ tịch x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seda lidového výbo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̉ tịch Ủy ban nhân dâ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tupitelst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i đồng, đại diê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tị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á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ng chứng viê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Ministerstva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042920" y="1628640"/>
          <a:ext cx="7488360" cy="4321440"/>
        </p:xfrm>
        <a:graphic>
          <a:graphicData uri="http://schemas.openxmlformats.org/drawingml/2006/table">
            <a:tbl>
              <a:tblPr/>
              <a:tblGrid>
                <a:gridCol w="3600360"/>
                <a:gridCol w="3888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ộ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ê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Nội vu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Tư phá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S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Lao động và xã hô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Công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ươ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Tài chí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Ministerstva 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42920" y="1628640"/>
          <a:ext cx="7488360" cy="3816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Văn hoa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Ngoại gi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Š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Giáo du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ộ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ông nghiệ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ương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Công nghiệ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Obrázek 3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AŽDODENNÍ ŽIVOT A ADMINISTRATI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2340000" y="5567040"/>
            <a:ext cx="56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dné číslo, řidičský průkaz, matriční úřady, sjednání pojištění, banky, finanční transakce, půjčky,úmrtí, sňatek, vyplnění formuláře, orgány státní správy a samospráv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42560" y="1699920"/>
            <a:ext cx="7743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č a jazy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Interkulturní rozdíly v jazy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Identifikace osoby a interkulturní rozdí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zh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méno a příjmení – způsoby překl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tum naro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dre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lší úd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byt z hlediska občanskéh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 cizineckého zák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Verdana"/>
              </a:rPr>
              <a:t>ÚVOD – pokrač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42560" y="1773360"/>
            <a:ext cx="7743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ystém státní správy ve VSR a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ákladní územní a organizační jednot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vincie - Statutární město – Město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ěstečko/městys – Obec – Vesnice/děd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ázvy vybraných institu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1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47640" y="1557360"/>
          <a:ext cx="6767640" cy="457200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é čís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khai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idičský průka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ằng lái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iční úř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òng 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tị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ště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hiể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ální pojiště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hiểm xã hộ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otní pojiště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hiểm y tê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ân hàng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hà b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̀i chí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tb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cướ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mří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ết, mấ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2. Platby a pošta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16000" y="1773360"/>
          <a:ext cx="7273800" cy="365760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à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kho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ả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žen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ếu trả tiề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ací líst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́u gửi bảo đả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otov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̉ tiền mặ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vod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yển 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oả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itel úč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̉ tài khoả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úč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tài khoả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ba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̃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à b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6264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2. Platby a pošta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ilní 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ã tham chiế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l plat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̣c đích trả tiề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ůlkové pí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ữ in h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vě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́n dụng, vay tiề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r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ền lã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st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ế ch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ấ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ợp đồ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̀n tră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168720"/>
                <a:gridCol w="431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čanský prů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ứng minh th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t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ka pojišt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̉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̉o hiểm sức khỏ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ytová kníž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khẩ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chiế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z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̣ thư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ộc\đợt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ểm 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e Č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ảnh sát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 Sé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í polic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ảnh sát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̃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địa phươ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0000" y="1773360"/>
          <a:ext cx="7704360" cy="4144680"/>
        </p:xfrm>
        <a:graphic>
          <a:graphicData uri="http://schemas.openxmlformats.org/drawingml/2006/table">
            <a:tbl>
              <a:tblPr/>
              <a:tblGrid>
                <a:gridCol w="3333960"/>
                <a:gridCol w="4370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ní sprá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̉i q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ivnostenský úř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̀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kinh doa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gi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ệ sinh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ịch t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mulá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ờ khai/tờ mẫ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ávací protok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ên bản bàn gi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stave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oả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dní tlumoč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ên dịch quốc g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ách\đối tượng\thân ch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49Z</dcterms:modified>
  <cp:revision>117</cp:revision>
  <dc:subject/>
  <dc:title>Snímek 1</dc:title>
</cp:coreProperties>
</file>