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0172-FA22-45A6-8E4C-8AACB10929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AEDA-12A0-4C18-AB0A-D9DCA64F76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677E-32DC-4D72-8A15-AF99E10C03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ECB9-27E6-4C4A-ADC8-5BF55A834D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DC02-9C2C-406E-BAEF-BD0A6A0EEA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4810-227E-424A-BF10-C37F66773B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4DE1-160F-4B13-A727-063E52AAC9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1B61-E769-4355-A212-2BD2FED2B5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FB5A-62FE-4486-A0C2-80B629522C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68DB-4EA5-4B35-A102-868D6B39A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A679-324E-4FFD-9BBA-76EC46FA1E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D2D8D7-C510-4BD7-988A-1DB841708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59494E-BD9F-4301-BE13-37A6424122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C6374-BC4B-4E6B-8C78-64B51C51FC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52FA9D-6DA3-4DC0-BFA1-7702310B43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4B048-9178-4881-872E-9D766942A1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62409-B204-4F5A-8003-CA9DD2DC12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4CF1B-7CBF-4DAB-A783-84D94081EB7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D3FF8-5C9F-4C8E-B972-4461C8D2F9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13683-A5B1-4A5B-BE8E-B1EC505B55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362452-F6FE-4F2C-81A9-224CE7D6504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17A4B1-F81A-4260-A9F2-DF71BA84B3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77DE106-A0BE-4208-AB73-BDC3CF8812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84B72F-7931-4A78-B245-0E492BFAEEE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476E77B-A689-4EE5-984B-FC46C6179C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A964A32-C736-4C53-AC3C-57702B026B4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7B63B1-BE86-45BE-B4FC-AEC8B3BF1E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4308B8-4FC1-4111-8EEA-693265EB3DE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9F4C401-27EC-45C4-8CAD-0A1703C84FE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0517D0-DBA6-4225-9D3E-4BECC91A5CE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2149E8-6E8E-407A-9479-87932345553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5A7070-005E-421C-BCBF-51AF04AC7A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82736DC-15A8-40CF-87FC-F585AEB365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03F7D35-81E6-46F2-A608-B03AECB1E2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D8A680-898A-45B0-9D10-50A7C729D6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2EBFC97-1E17-4F1A-853A-77EB2F7012E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0A6DFC0-EE03-4B42-B3FA-B757C60D2D7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12C7E2-7E30-4DBA-9ACF-60E98D0A3C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2B5FE18-8733-456B-9BC7-711BB1278F8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A2154D9-6F3E-47FE-B231-5311AD059AF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45E4D1-37B0-4CFD-BB4C-00EC5913BE5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8CDFB25-2FB5-4786-9D0D-59C6DBB654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60309AB-F647-4FEC-82F9-AFC31E931A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20C8D0-0631-42F4-95DD-2AA511F26D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8FF1EE-98AD-43E3-A1F7-D04A5ECE7E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208A9C-ED7B-4EEC-8EB5-1E28D4024F0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B80FE5-1E98-4AD9-951E-278D7D5CDA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B54099C-75C1-4AB6-9022-E4D4FA54CC3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BE96287-F9EB-4654-8B35-1416C550E7E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EC9AAA-510A-4C30-9E4E-5E8CBC23ED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4B044C-A23B-4A1B-856E-D759AAC2C8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0B07EF-54D9-4A45-BD7C-0C4F6AFCF6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C08CE4-9F1A-4C90-8603-11DA0820D5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1CA073-4F58-4235-A777-3BD7CC90FD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620E23-656B-4A2F-A994-0F5C85C827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0F2225-70B3-441C-B2B4-88E1D0F3E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A79D25-163B-401B-B07F-F27E3A4325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E5A2AD-0D56-4751-A0BF-D0CC71ECF1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5ECF1C-3F1A-480B-826C-A08DEC5A1F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158B43-92CC-45EA-B355-FD74095CA5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54E7AA7-AB00-4CCC-9DDE-444D870D4F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9D8B1-99BD-42DD-A503-33B7FFD00A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AD9CF-F805-4C67-8682-CD46255A47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62AB4-974D-4DEA-A840-BA9C114633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DDB57-3A93-4F42-89EC-83BB0FFAFC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A5D4C-F91E-407E-8D95-3056BF03F5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F0E567-8D8A-4FC4-B446-1605E7EBCA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35260-A636-456A-8206-98AB9FD95D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33E1F-526C-438C-8709-96ABD5525F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49797-D028-4C07-BC6B-3F9840891E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E0941-F4AC-4F6C-9DBC-FB68A45F48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C7EB3-520B-43D9-A56F-B7BB70782C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3A986-14D9-4B47-BEC7-36934AA738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23669-4990-4F06-8CBF-1210B66D2A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D52BEB-DB32-4220-964A-CD7E1038831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DF67B0-0558-495C-935D-C843782602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03FA50-E23E-4BB4-9C7D-DA3FFAAC62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00D28B-EA9B-4E82-B728-F3AE9AF3E8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AFF389-9771-4AC9-98C1-078916DDBFD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DC7861-70E7-47F7-B5AA-609FB24D49A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806A61-B738-425D-B50A-B76B3BEFBB6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7B35BD-F75E-49FF-A6F0-FF24A721BF3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BD6634-0E15-4BA2-8461-8B75857F6F0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29724D-A0B9-47F9-874E-06FEBCE8395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CB4C44-2A44-4787-BA5A-E4A1A933A5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72326C-7199-44B9-A3DE-574E44950FB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A97202-F6F3-4D2C-BCD5-8D56824898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AA1C3E6-3B15-41C1-8A60-D51C0C556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32DBF3-C192-479F-88C7-478522DB76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077E374-6FDE-480B-A3FC-6144F25978D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74445BB-5803-4E9D-995A-F534994833A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354C5EC-836B-4B9A-B428-FB224D5D5D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D150FE-CCA8-4AF7-8104-D38B83A9601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BA18DF-4EC4-42AB-94D2-36876C6F4D8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C6FE21-4BFA-45CC-8559-46F7668576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6116F8-F074-43EA-82B7-4EA938FB161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94D076-105C-4DA9-8DDD-DD6C9FEF61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ADE531-2622-4B3A-9DCC-7B814DDD452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C88C173-D826-4E04-805B-A0662E90A5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1D19D1-E6EF-48D6-9F74-062F4EF1CA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DACC57D-28A9-45D3-B3AF-2242F0C4095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4DA73D-107C-4732-AA17-66D38E6C478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DE2F0-322D-439F-B0ED-9E8D51A3E9E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3E45E-DD80-4A9E-90BA-ECA2603B43D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6BCFD7-DD00-49DB-8B2E-AFA3C026CF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6BEB0-71B4-40F6-AB3F-C4E67CFBE72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A2818-54ED-480F-84E4-F7EA390E0A4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32923-3884-4EA6-82F1-5C33CBDFDC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8E74C-A446-4BF3-B3A8-93F3FBB566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24E80-7AB1-4D8E-A1BA-E47443986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FED916-7AD1-46D3-A850-B6CFA52341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6609F4-159B-4545-9682-F66D4598453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698780-E48B-4C2C-844E-CAEB8368C65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0262A-CC9B-4CC8-92BC-70CD5C2E779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C1D1B89-5F36-416D-9191-8418F74F169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246B0DE-1282-4C7E-AA84-BCA7068AEAE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89CCCB-1019-4FC9-918D-F1248F04801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EF1896-2622-4237-A878-377CE00104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F713BDF-246D-4210-8952-C26B3EB83A3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8DB7FC2-7128-4E9D-B6D4-7D5BFB44F64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E9D7B8-0374-4BD8-A434-A8FEE55F0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CEB8B4-1C2C-406D-9AAB-25C892AD3D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A343B6-38C9-4207-8B87-5328A861BB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6C00B3-3532-4014-91F5-5EAD6089494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1568DA-F77E-4FF5-BD0C-3BBE1C4FE63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09B55B-9966-4141-A32C-144CD41186C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F3203FC-32F3-4BBF-AD64-C9AACD9AAD9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3232270-4A80-4174-A234-F9E9E99FAB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35F75A-917E-4851-AB08-F97FAAC53B9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CF9C8E-8E67-4ED7-AD00-8E34EFBA0BA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456FFF1-405A-4308-8E85-43A4ED5D95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BB93F11-EA75-401B-AD4E-33BB81B69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156440-0ED7-4EA3-A89B-11489F0B23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F5386DF-CE4F-46B8-BAB6-6B296BFF41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1960FA-E0E5-4071-8B23-1CD3B1320C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DB0CA34-2EC6-4474-827F-F0FF2075B14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6A489A-D4E4-4D0D-BBDF-2ABCCC6730D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C890A87-86C7-475D-B61F-9297BB61EE6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35756D8-CE4C-4224-8B50-E75E9E16F7E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B059320-836F-4C75-89FC-F30BD823919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1383FB-D09D-4164-98A9-EF281F166E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608569-2748-4247-AAD9-33B9EBAD0B0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37901-248B-481F-B792-25E06BDC46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9586-700D-4532-8D52-F4F23B5C3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2CD8-73D3-428E-A2B0-75BF80DBE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F804-67D8-44AD-A672-A0440CFD0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CF1E-8869-49C5-A637-7CA21AE8E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F1EF-36A3-4EF6-B62A-38FDF7403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D769-B28B-4966-9041-B3EBDC722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FC87-4CCD-4DD1-8D19-B63D76A16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6BD1-602B-4FE9-BCBE-91D27495E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251F-2A88-409C-BACB-D0AEB8776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F547-2473-4280-9713-7EC340CB1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2BD5-456E-4241-ABD9-6C5A3996D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ster care system in the UK –</a:t>
            </a:r>
            <a:br>
              <a:rPr sz="2400"/>
            </a:br>
            <a:r>
              <a:rPr b="0" lang="en-GB" sz="2400" spc="-1" strike="noStrike">
                <a:solidFill>
                  <a:srgbClr val="000000"/>
                </a:solidFill>
                <a:latin typeface="Arial"/>
              </a:rPr>
              <a:t>historical context and contemporary trends including different types of foster care, recruitment and support to carers</a:t>
            </a:r>
            <a:br>
              <a:rPr sz="2800"/>
            </a:br>
            <a:r>
              <a:rPr b="0" lang="en-GB" sz="3600" spc="-1" strike="noStrike">
                <a:solidFill>
                  <a:srgbClr val="000000"/>
                </a:solidFill>
                <a:latin typeface="Arial"/>
              </a:rPr>
              <a:t> </a:t>
            </a:r>
            <a:r>
              <a:rPr b="1" lang="en-GB" sz="2000" spc="-1" strike="noStrike">
                <a:solidFill>
                  <a:srgbClr val="000000"/>
                </a:solidFill>
                <a:latin typeface="Arial"/>
              </a:rPr>
              <a:t>International Conference, ‘Fair of Best Practices’</a:t>
            </a:r>
            <a:br>
              <a:rPr sz="2000"/>
            </a:br>
            <a:r>
              <a:rPr b="1" lang="en-GB" sz="2000" spc="-1" strike="noStrike">
                <a:solidFill>
                  <a:srgbClr val="000000"/>
                </a:solidFill>
                <a:latin typeface="Arial"/>
              </a:rPr>
              <a:t>  Prague, 7</a:t>
            </a:r>
            <a:r>
              <a:rPr b="1" lang="en-GB" sz="2000" spc="-1" strike="noStrike" baseline="30000">
                <a:solidFill>
                  <a:srgbClr val="000000"/>
                </a:solidFill>
                <a:latin typeface="Arial"/>
              </a:rPr>
              <a:t>th</a:t>
            </a:r>
            <a:r>
              <a:rPr b="1" lang="en-GB" sz="2000" spc="-1" strike="noStrike">
                <a:solidFill>
                  <a:srgbClr val="000000"/>
                </a:solidFill>
                <a:latin typeface="Arial"/>
              </a:rPr>
              <a:t> December 2012 </a:t>
            </a:r>
            <a:br>
              <a:rPr sz="2000"/>
            </a:br>
            <a:br>
              <a:rPr sz="2000"/>
            </a:br>
            <a:r>
              <a:rPr b="1" lang="en-GB" sz="2000" spc="-1" strike="noStrike">
                <a:solidFill>
                  <a:srgbClr val="000000"/>
                </a:solidFill>
                <a:latin typeface="Arial"/>
              </a:rPr>
              <a:t>  Chris Christophides</a:t>
            </a:r>
            <a:br>
              <a:rPr sz="2000"/>
            </a:br>
            <a:r>
              <a:rPr b="1" lang="en-GB" sz="2000" spc="-1" strike="noStrike">
                <a:solidFill>
                  <a:srgbClr val="000000"/>
                </a:solidFill>
                <a:latin typeface="Arial"/>
              </a:rPr>
              <a:t>  Trainer Consultant</a:t>
            </a:r>
            <a:br>
              <a:rPr sz="2000"/>
            </a:br>
            <a:r>
              <a:rPr b="1" lang="en-GB" sz="2000" spc="-1" strike="noStrike">
                <a:solidFill>
                  <a:srgbClr val="000000"/>
                </a:solidFill>
                <a:latin typeface="Arial"/>
              </a:rPr>
              <a:t>  BAAF Southern England  </a:t>
            </a:r>
            <a:br>
              <a:rPr sz="2000"/>
            </a:b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1"/>
              </a:rPr>
              <a:t>www.baaf.org.uk</a:t>
            </a: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2"/>
              </a:rPr>
              <a:t>chris.christophides@baaf.org.uk</a:t>
            </a:r>
            <a:br>
              <a:rPr sz="2000"/>
            </a:br>
            <a:br>
              <a:rPr sz="2000"/>
            </a:br>
            <a:r>
              <a:rPr b="1" lang="en-GB" sz="2000" spc="-1" strike="noStrike">
                <a:solidFill>
                  <a:srgbClr val="000000"/>
                </a:solidFill>
                <a:latin typeface="Arial"/>
              </a:rPr>
              <a:t>   </a:t>
            </a:r>
            <a:br>
              <a:rPr sz="2000"/>
            </a:b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1 to 3</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87000"/>
          </a:bodyPr>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act your local fostering service - they will send you further information about fostering for them and ask you some questions about </a:t>
            </a:r>
            <a:r>
              <a:rPr b="1" lang="en-GB" sz="2000" spc="-1" strike="noStrike">
                <a:solidFill>
                  <a:srgbClr val="000000"/>
                </a:solidFill>
                <a:latin typeface="Arial"/>
              </a:rPr>
              <a:t>your suitability to foster</a:t>
            </a:r>
            <a:r>
              <a:rPr b="0" lang="en-GB" sz="2000" spc="-1" strike="noStrike">
                <a:solidFill>
                  <a:srgbClr val="000000"/>
                </a:solidFill>
                <a:latin typeface="Arial"/>
              </a:rPr>
              <a:t>.</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will either be invited to attend </a:t>
            </a:r>
            <a:r>
              <a:rPr b="1" lang="en-GB" sz="2000" spc="-1" strike="noStrike">
                <a:solidFill>
                  <a:srgbClr val="000000"/>
                </a:solidFill>
                <a:latin typeface="Arial"/>
              </a:rPr>
              <a:t>an information session </a:t>
            </a:r>
            <a:r>
              <a:rPr b="0" lang="en-GB" sz="2000" spc="-1" strike="noStrike">
                <a:solidFill>
                  <a:srgbClr val="000000"/>
                </a:solidFill>
                <a:latin typeface="Arial"/>
              </a:rPr>
              <a:t>or the fostering service will offer for a member of their team to come out and visit you and any other members of your home </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you have gathered more information you should decide whether or not to make </a:t>
            </a:r>
            <a:r>
              <a:rPr b="1" lang="en-GB" sz="2000" spc="-1" strike="noStrike">
                <a:solidFill>
                  <a:srgbClr val="000000"/>
                </a:solidFill>
                <a:latin typeface="Arial"/>
              </a:rPr>
              <a:t>a formal application </a:t>
            </a:r>
            <a:r>
              <a:rPr b="0" lang="en-GB" sz="2000" spc="-1" strike="noStrike">
                <a:solidFill>
                  <a:srgbClr val="000000"/>
                </a:solidFill>
                <a:latin typeface="Arial"/>
              </a:rPr>
              <a:t>to foster to the fostering service of your choice.</a:t>
            </a:r>
            <a:endParaRPr b="0" lang="en-US" sz="2000" spc="-1" strike="noStrike">
              <a:solidFill>
                <a:srgbClr val="000000"/>
              </a:solidFill>
              <a:latin typeface="Arial"/>
            </a:endParaRPr>
          </a:p>
          <a:p>
            <a:pPr marL="397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9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4 to 6</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The fostering service will now start your application, they will assign you a  social worker who will support you throughout the process and also carry out </a:t>
            </a:r>
            <a:r>
              <a:rPr b="1" lang="en-GB" sz="2000" spc="-1" strike="noStrike">
                <a:solidFill>
                  <a:srgbClr val="000000"/>
                </a:solidFill>
                <a:latin typeface="Arial"/>
              </a:rPr>
              <a:t>a thorough assessment on you and your household.</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Crucial to the process of becoming a foster carer is attending the </a:t>
            </a:r>
            <a:r>
              <a:rPr b="1" lang="en-GB" sz="2000" spc="-1" strike="noStrike">
                <a:solidFill>
                  <a:srgbClr val="000000"/>
                </a:solidFill>
                <a:latin typeface="Arial"/>
              </a:rPr>
              <a:t>pre-approval training</a:t>
            </a:r>
            <a:r>
              <a:rPr b="0" lang="en-GB" sz="2000" spc="-1" strike="noStrike">
                <a:solidFill>
                  <a:srgbClr val="000000"/>
                </a:solidFill>
                <a:latin typeface="Arial"/>
              </a:rPr>
              <a:t>. All foster carers complete a thorough training course, usually The Skills to Foster, which will prepare you and the other members of your household for a career in fostering.</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Your assessment continues including thorough </a:t>
            </a:r>
            <a:r>
              <a:rPr b="1" lang="en-GB" sz="2000" spc="-1" strike="noStrike">
                <a:solidFill>
                  <a:srgbClr val="000000"/>
                </a:solidFill>
                <a:latin typeface="Arial"/>
              </a:rPr>
              <a:t>background checks </a:t>
            </a:r>
            <a:r>
              <a:rPr b="0" lang="en-GB" sz="2000" spc="-1" strike="noStrike">
                <a:solidFill>
                  <a:srgbClr val="000000"/>
                </a:solidFill>
                <a:latin typeface="Arial"/>
              </a:rPr>
              <a:t>from the Criminal Records Bureau, local authority and personal and professional referees.</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7 to 9</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81000"/>
          </a:bodyPr>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en-GB" sz="2000" spc="-1" strike="noStrike">
                <a:solidFill>
                  <a:srgbClr val="000000"/>
                </a:solidFill>
                <a:latin typeface="Arial"/>
              </a:rPr>
              <a:t>Once your assessment is complete your social worker will submit a full report to </a:t>
            </a:r>
            <a:r>
              <a:rPr b="1" lang="en-GB" sz="2000" spc="-1" strike="noStrike">
                <a:solidFill>
                  <a:srgbClr val="000000"/>
                </a:solidFill>
                <a:latin typeface="Arial"/>
              </a:rPr>
              <a:t>the fostering panel </a:t>
            </a:r>
            <a:r>
              <a:rPr b="0" lang="en-GB" sz="2000" spc="-1" strike="noStrike">
                <a:solidFill>
                  <a:srgbClr val="000000"/>
                </a:solidFill>
                <a:latin typeface="Arial"/>
              </a:rPr>
              <a:t>who will consider your suitability to foster. The fostering panel will make a recommendation about your approval to the fostering service.</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0" lang="en-GB" sz="2000" spc="-1" strike="noStrike">
                <a:solidFill>
                  <a:srgbClr val="000000"/>
                </a:solidFill>
                <a:latin typeface="Arial"/>
              </a:rPr>
              <a:t>The </a:t>
            </a:r>
            <a:r>
              <a:rPr b="1" lang="en-GB" sz="2000" spc="-1" strike="noStrike">
                <a:solidFill>
                  <a:srgbClr val="000000"/>
                </a:solidFill>
                <a:latin typeface="Arial"/>
              </a:rPr>
              <a:t>fostering service will make a final decision </a:t>
            </a:r>
            <a:r>
              <a:rPr b="0" lang="en-GB" sz="2000" spc="-1" strike="noStrike">
                <a:solidFill>
                  <a:srgbClr val="000000"/>
                </a:solidFill>
                <a:latin typeface="Arial"/>
              </a:rPr>
              <a:t>about your approval to foster and inform you in writing if you have been successful along with your terms of approval.</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en-GB" sz="2000" spc="-1" strike="noStrike">
                <a:solidFill>
                  <a:srgbClr val="000000"/>
                </a:solidFill>
                <a:latin typeface="Arial"/>
              </a:rPr>
              <a:t>Sometimes it can take a while for a child or children to be fostered by you. It is important that your fostering service makes sure that you are the right foster carer to look after a particular child or children. </a:t>
            </a:r>
            <a:r>
              <a:rPr b="1" lang="en-GB" sz="2000" spc="-1" strike="noStrike">
                <a:solidFill>
                  <a:srgbClr val="000000"/>
                </a:solidFill>
                <a:latin typeface="Arial"/>
              </a:rPr>
              <a:t>Making a good match </a:t>
            </a:r>
            <a:r>
              <a:rPr b="0" lang="en-GB" sz="2000" spc="-1" strike="noStrike">
                <a:solidFill>
                  <a:srgbClr val="000000"/>
                </a:solidFill>
                <a:latin typeface="Arial"/>
              </a:rPr>
              <a:t>is essential for a successful fostering placement.</a:t>
            </a:r>
            <a:endParaRPr b="0" lang="en-US" sz="2000" spc="-1" strike="noStrike">
              <a:solidFill>
                <a:srgbClr val="000000"/>
              </a:solidFill>
              <a:latin typeface="Arial"/>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 10</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Throughout your career as a foster carer you will receive </a:t>
            </a:r>
            <a:r>
              <a:rPr b="1" lang="en-GB" sz="2000" spc="-1" strike="noStrike">
                <a:solidFill>
                  <a:srgbClr val="000000"/>
                </a:solidFill>
                <a:latin typeface="Arial"/>
              </a:rPr>
              <a:t>support and supervision </a:t>
            </a:r>
            <a:r>
              <a:rPr b="0" lang="en-GB" sz="2000" spc="-1" strike="noStrike">
                <a:solidFill>
                  <a:srgbClr val="000000"/>
                </a:solidFill>
                <a:latin typeface="Arial"/>
              </a:rPr>
              <a:t>from your fostering service as well as the opportunity of ongoing learning and development. The fostering service will </a:t>
            </a:r>
            <a:r>
              <a:rPr b="1" lang="en-GB" sz="2000" spc="-1" strike="noStrike">
                <a:solidFill>
                  <a:srgbClr val="000000"/>
                </a:solidFill>
                <a:latin typeface="Arial"/>
              </a:rPr>
              <a:t>review your approval to foster annually</a:t>
            </a:r>
            <a:r>
              <a:rPr b="1"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foster children wan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9000"/>
          </a:bodyPr>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800" spc="-1" strike="noStrike">
                <a:solidFill>
                  <a:srgbClr val="000000"/>
                </a:solidFill>
                <a:latin typeface="Arial"/>
              </a:rPr>
              <a:t>Foster care] is lots of moving about – different sets of rules, never knew where I stood . . . no control over my life – everyone making decisions without me</a:t>
            </a:r>
            <a:r>
              <a:rPr b="0" lang="en-GB" sz="2800" spc="-1" strike="noStrike">
                <a:solidFill>
                  <a:srgbClr val="000000"/>
                </a:solidFill>
                <a:latin typeface="Arial"/>
              </a:rPr>
              <a:t>. (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 love where I am because they are like my real family. I love them with all my heart </a:t>
            </a:r>
            <a:r>
              <a:rPr b="0" lang="en-GB" sz="2800" spc="-1" strike="noStrike">
                <a:solidFill>
                  <a:srgbClr val="000000"/>
                </a:solidFill>
                <a:latin typeface="Arial"/>
              </a:rPr>
              <a:t>(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do foster children wan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rmalit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reated as part of the famil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 that their birth family origins are respected / a lack of conflict of loyalty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rmality: what makes a difference</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ow am I supposed to know what goes on in normal families? It’s just not like a normal family. It’s foster mum, foster dad and foster kid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 love where I am because they are like my real family. I love them with all my hear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y say you are my forever mum, but they  ask me to fill in a form about yo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 reviews? School? GP? Stigma of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eing treated as part of the family- belonging, looked after and loved</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giving needs to combine ‘ordinary good-enough’ and ‘therapeutic’ parenting</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enting in the short and longer term</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Delegated authority’ given to foster carers (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 agreement plan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after leaving foster ca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eling that their birth family origins are respected/ a lack of conflict of loyalty </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ing a conflict of loyalty between foster and birth families - working with mixed feeling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ing the child / young person to have a coherent narrative that makes sense / to resolve the pas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olving foster carers and birth parent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ct – assessed on how it promotes the development / stability of the child?</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ations for records / adults from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3600" spc="-1" strike="noStrike">
                <a:solidFill>
                  <a:srgbClr val="000000"/>
                </a:solidFill>
                <a:latin typeface="Arial"/>
              </a:rPr>
              <a:t>Control (influence /consultation?)</a:t>
            </a:r>
            <a:endParaRPr b="0" lang="en-US" sz="3600" spc="-1" strike="noStrike">
              <a:solidFill>
                <a:srgbClr val="000000"/>
              </a:solidFill>
              <a:latin typeface="Arial"/>
            </a:endParaRPr>
          </a:p>
        </p:txBody>
      </p:sp>
      <p:sp>
        <p:nvSpPr>
          <p:cNvPr id="532" name="PlaceHolder 2"/>
          <p:cNvSpPr>
            <a:spLocks noGrp="1"/>
          </p:cNvSpPr>
          <p:nvPr>
            <p:ph/>
          </p:nvPr>
        </p:nvSpPr>
        <p:spPr>
          <a:xfrm>
            <a:off x="395280" y="1988640"/>
            <a:ext cx="8424720" cy="4364280"/>
          </a:xfrm>
          <a:prstGeom prst="rect">
            <a:avLst/>
          </a:prstGeom>
          <a:noFill/>
          <a:ln w="0">
            <a:noFill/>
          </a:ln>
        </p:spPr>
        <p:txBody>
          <a:bodyPr lIns="0" rIns="0" tIns="0" bIns="0" anchor="t">
            <a:normAutofit/>
          </a:bodyPr>
          <a:p>
            <a:pPr marL="343080" indent="-3430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oice in what happens e.g. placements</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al- children’s righ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ychological – self-esteem and self-effica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al reasons – decisions are more likely to work</a:t>
            </a:r>
            <a:endParaRPr b="0" lang="en-US" sz="24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how? LAC reviews? Role of the IRO?</a:t>
            </a: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not to participa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foster children have a different degree of control over their lives than other children in the commun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53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gland (31</a:t>
            </a:r>
            <a:r>
              <a:rPr b="0" lang="en-GB" sz="3600" spc="-1" strike="noStrike" baseline="30000">
                <a:solidFill>
                  <a:srgbClr val="000000"/>
                </a:solidFill>
                <a:latin typeface="Arial"/>
              </a:rPr>
              <a:t>st</a:t>
            </a:r>
            <a:r>
              <a:rPr b="0" lang="en-GB" sz="3600" spc="-1" strike="noStrike">
                <a:solidFill>
                  <a:srgbClr val="000000"/>
                </a:solidFill>
                <a:latin typeface="Arial"/>
              </a:rPr>
              <a:t> March 2012)</a:t>
            </a:r>
            <a:endParaRPr b="0" lang="en-US" sz="3600" spc="-1" strike="noStrike">
              <a:solidFill>
                <a:srgbClr val="000000"/>
              </a:solidFill>
              <a:latin typeface="Arial"/>
            </a:endParaRPr>
          </a:p>
        </p:txBody>
      </p:sp>
      <p:sp>
        <p:nvSpPr>
          <p:cNvPr id="488" name="PlaceHolder 2"/>
          <p:cNvSpPr>
            <a:spLocks noGrp="1"/>
          </p:cNvSpPr>
          <p:nvPr>
            <p:ph/>
          </p:nvPr>
        </p:nvSpPr>
        <p:spPr>
          <a:xfrm>
            <a:off x="971640" y="1196640"/>
            <a:ext cx="7929360" cy="2738520"/>
          </a:xfrm>
          <a:prstGeom prst="rect">
            <a:avLst/>
          </a:prstGeom>
          <a:noFill/>
          <a:ln w="0">
            <a:noFill/>
          </a:ln>
        </p:spPr>
        <p:txBody>
          <a:bodyPr lIns="0" rIns="0" tIns="0" bIns="0" anchor="t">
            <a:normAutofit fontScale="78000"/>
          </a:bodyPr>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050</a:t>
            </a:r>
            <a:r>
              <a:rPr b="0" lang="en-GB" sz="2800" spc="-1" strike="noStrike">
                <a:solidFill>
                  <a:srgbClr val="000000"/>
                </a:solidFill>
                <a:latin typeface="Arial"/>
              </a:rPr>
              <a:t> children looked after by local authorities </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752 </a:t>
            </a:r>
            <a:r>
              <a:rPr b="0" lang="en-GB" sz="2800" spc="-1" strike="noStrike">
                <a:solidFill>
                  <a:srgbClr val="000000"/>
                </a:solidFill>
                <a:latin typeface="Arial"/>
              </a:rPr>
              <a:t>of children were in a foster placement</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420 </a:t>
            </a:r>
            <a:r>
              <a:rPr b="0" lang="en-GB" sz="2800" spc="-1" strike="noStrike">
                <a:solidFill>
                  <a:srgbClr val="000000"/>
                </a:solidFill>
                <a:latin typeface="Arial"/>
              </a:rPr>
              <a:t>(93%)</a:t>
            </a:r>
            <a:r>
              <a:rPr b="1" lang="en-GB" sz="2800" spc="-1" strike="noStrike">
                <a:solidFill>
                  <a:srgbClr val="000000"/>
                </a:solidFill>
                <a:latin typeface="Arial"/>
              </a:rPr>
              <a:t> </a:t>
            </a:r>
            <a:r>
              <a:rPr b="0" lang="en-GB" sz="2800" spc="-1" strike="noStrike">
                <a:solidFill>
                  <a:srgbClr val="000000"/>
                </a:solidFill>
                <a:latin typeface="Arial"/>
              </a:rPr>
              <a:t>were in a permanent fostering placements and </a:t>
            </a:r>
            <a:r>
              <a:rPr b="1" lang="en-GB" sz="2800" spc="-1" strike="noStrike">
                <a:solidFill>
                  <a:srgbClr val="000000"/>
                </a:solidFill>
                <a:latin typeface="Arial"/>
              </a:rPr>
              <a:t>3,332 </a:t>
            </a:r>
            <a:r>
              <a:rPr b="0" lang="en-GB" sz="2800" spc="-1" strike="noStrike">
                <a:solidFill>
                  <a:srgbClr val="000000"/>
                </a:solidFill>
                <a:latin typeface="Arial"/>
              </a:rPr>
              <a:t>(7%) were in short break or respite placements</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340</a:t>
            </a:r>
            <a:r>
              <a:rPr b="0" lang="en-GB" sz="2800" spc="-1" strike="noStrike">
                <a:solidFill>
                  <a:srgbClr val="000000"/>
                </a:solidFill>
                <a:latin typeface="Arial"/>
              </a:rPr>
              <a:t> approved foster families (LA &amp; IFP)</a:t>
            </a:r>
            <a:endParaRPr b="0" lang="en-US" sz="2800" spc="-1" strike="noStrike">
              <a:solidFill>
                <a:srgbClr val="000000"/>
              </a:solidFill>
              <a:latin typeface="Arial"/>
            </a:endParaRPr>
          </a:p>
          <a:p>
            <a:pPr marL="267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http://www.fostering.net/about-fostering/statistics-looked-after-children 2011/12</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pportunities</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2007) – children fulfilling their potentia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ducation</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ccessful foster families / good outcomes for children in long-term foster family - life full of  activitie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ng resilience - active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 assessment, support, review</a:t>
            </a:r>
            <a:endParaRPr b="0" lang="en-US" sz="36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ies of foster carers are key to outcomes – responsive, child-orient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d, evidence based assessments</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ating expert information-giving, group preparation, educative engagement of carers, and thorough approach to verification </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ing Panel recommendation requir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financial , personal), reviews, training and development (CWDC), inspection</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Part 8 Review</a:t>
            </a:r>
            <a:br>
              <a:rPr sz="3200"/>
            </a:br>
            <a:r>
              <a:rPr b="0" lang="en-GB" sz="3200" spc="-1" strike="noStrike">
                <a:solidFill>
                  <a:srgbClr val="000000"/>
                </a:solidFill>
                <a:latin typeface="Arial"/>
              </a:rPr>
              <a:t>The assessment of prospective adopters</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 .no test is too rigorous and no questioning too intrusive, where the credibility, honesty and reliability of individuals who wish to become adopters are concer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climate and new challenges</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76000"/>
          </a:bodyPr>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al changes (Fostering &amp; Adoption Regulations expected in 2013)</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nomic recess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al demographic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allowances and fee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age of suitable accommodat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lexities in children’s behaviou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cruitment and support to carers</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s need time in which to decide </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jority of foster carers (two-thirds) take a year or more to think about fostering before contacting a particular fostering service. Foster care is not an ‘off the page sell’.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e many people respond to an advertisement, it is more likely that this only represented the ‘tipping point’ which made them contact a particular fostering service for the first time.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remains true to say that people respond to a constant reminder of the need for foster carers, described by those working in the sector as the ‘drip, drip effect’</a:t>
            </a:r>
            <a:endParaRPr b="0" lang="en-US" sz="24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43360" indent="-24336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on’t look for immediate results</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78000"/>
          </a:bodyPr>
          <a:p>
            <a:pPr marL="267480" indent="-2674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r>
              <a:rPr b="0" lang="en-GB" sz="3200" spc="-1" strike="noStrike">
                <a:solidFill>
                  <a:srgbClr val="000000"/>
                </a:solidFill>
                <a:latin typeface="Arial"/>
              </a:rPr>
              <a:t>it is rare that a fostering service will begin to see significant improvements within the first 12 months of implementing a new strategy. A longer view is required, with improvements measured over at least three years to take account of the lengthy approval process’</a:t>
            </a:r>
            <a:endParaRPr b="0" lang="en-US" sz="32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 Helen Clarke, The Fostering Network, (2010)</a:t>
            </a:r>
            <a:endParaRPr b="0" lang="en-US" sz="16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n’t ‘lose’ carers after the initial contact! </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84000"/>
          </a:bodyPr>
          <a:p>
            <a:pPr marL="288000" indent="-2880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general interest in fostering appears to be high, fostering services are finding that very few enquirers progress to become an approved foster family. Worryingly,  recruitment targets are not being met by many fostering services.</a:t>
            </a:r>
            <a:endParaRPr b="0" lang="en-US" sz="32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88000" indent="-2880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will take responsibility for recruitment? Advantages of dedicated post/person/team</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What is really important is that one post takes </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ponsibility for overseeing the recruitment strategy and monitoring and evaluating successes throughout the year, and determining whether or not the fostering service is on track to achieve its set goals and targets…’</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Value of a recruitment specialist </a:t>
            </a:r>
            <a:endParaRPr b="0" lang="en-US" sz="36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2000"/>
          </a:bodyPr>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vailability of time to focus on the needs of the fostering service and fully research and implement a strategic approach to recruitment.</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pportunity to free up time for colleagues to focus on their own roles, such as supervising placements, handling placements of looked-after children and developing other areas of the fostering service. </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essential that this post has links throughout the fostering service and should not be working in isolation.</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ey legislation (England &amp; Wales)</a:t>
            </a:r>
            <a:endParaRPr b="0" lang="en-US" sz="3600" spc="-1" strike="noStrike">
              <a:solidFill>
                <a:srgbClr val="000000"/>
              </a:solidFill>
              <a:latin typeface="Arial"/>
            </a:endParaRPr>
          </a:p>
        </p:txBody>
      </p:sp>
      <p:sp>
        <p:nvSpPr>
          <p:cNvPr id="490" name=""/>
          <p:cNvSpPr txBox="1"/>
          <p:nvPr/>
        </p:nvSpPr>
        <p:spPr>
          <a:xfrm>
            <a:off x="539640" y="1267920"/>
            <a:ext cx="7832880" cy="338004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1989</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2004 (Every Child Matt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mp; Young Persons Act 2008 (Care Planning)</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Services Regulations 2011(National Minimum Standards)</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a:t>
            </a:r>
            <a:endParaRPr b="0" lang="en-US" sz="36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monitoring and evaluating the fostering service’s recruitment strategy.</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Managing the recruitment budget &amp; performance management of all recruitment activity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Developing and producing promotional material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moting the need for foster carers in the local media and area.</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Organising information sessions event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Networking and outreach work with community organisations and groups.</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con’t)</a:t>
            </a:r>
            <a:endParaRPr b="0" lang="en-US" sz="3600" spc="-1" strike="noStrike">
              <a:solidFill>
                <a:srgbClr val="000000"/>
              </a:solidFill>
              <a:latin typeface="Arial"/>
            </a:endParaRPr>
          </a:p>
        </p:txBody>
      </p:sp>
      <p:sp>
        <p:nvSpPr>
          <p:cNvPr id="565" name=""/>
          <p:cNvSpPr txBox="1"/>
          <p:nvPr/>
        </p:nvSpPr>
        <p:spPr>
          <a:xfrm>
            <a:off x="356760" y="1143000"/>
            <a:ext cx="8001000" cy="2666880"/>
          </a:xfrm>
          <a:prstGeom prst="rect">
            <a:avLst/>
          </a:prstGeom>
          <a:noFill/>
          <a:ln w="0">
            <a:noFill/>
          </a:ln>
        </p:spPr>
        <p:txBody>
          <a:bodyPr lIns="0" rIns="0" tIns="0" bIns="0" anchor="t">
            <a:normAutofit fontScale="64000"/>
          </a:bodyPr>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Analysis of quantity and types of people recruited against target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valuation of service provided and quality of servic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 and supervision of the pre-approval training.</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racking enquiries throughout the proces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riting and editing newslett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packages, strategies and practices to retain foster car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websit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nagement of relationships with external suppliers such as PR and marketing agencies.</a:t>
            </a:r>
            <a:endParaRPr b="0" lang="en-US" sz="2400" spc="-1" strike="noStrike">
              <a:solidFill>
                <a:srgbClr val="000000"/>
              </a:solidFill>
              <a:latin typeface="Arial"/>
            </a:endParaRPr>
          </a:p>
          <a:p>
            <a:pPr marL="21924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 we know the types of carers wanted?</a:t>
            </a:r>
            <a:br>
              <a:rPr sz="2800"/>
            </a:br>
            <a:r>
              <a:rPr b="1" lang="en-GB" sz="2800" spc="-1" strike="noStrike">
                <a:solidFill>
                  <a:srgbClr val="000000"/>
                </a:solidFill>
                <a:latin typeface="Arial"/>
              </a:rPr>
              <a:t>Who are the children?</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a:t>
            </a:r>
            <a:r>
              <a:rPr b="0" lang="en-GB" sz="2400" spc="-1" strike="noStrike">
                <a:solidFill>
                  <a:srgbClr val="000000"/>
                </a:solidFill>
                <a:latin typeface="Arial"/>
              </a:rPr>
              <a:t>eed for a realistic profile of the looked-after population of children and young people which enables identification of needs and  trends and likely significant changes by:</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der</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egory of need – abuse, neglect, disability, family dysfunction, socially unacceptable behaviour, absent parenting and so on</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nicit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n and other cultural needs</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of foster care required</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s of future trends and changes</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number of teenagers or number of children needing foster care from a particular minority ethnic group</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the number of children in need of ‘upbringing’, i.e. long-term therapeutic parenting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n number of under twos requiring emergency foster care.</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the type of foster placements that has been particularly difficult to find.</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national influences  - funding, policy shifts,  ‘moral panics’ – that will affect level of need</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methods work bes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the most potent recruitment methods was by ‘word of mouth’</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is, however, works best if the message that is spread is a positive one</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satisfied carers can recommend fostering to their relatives, friends, neighbours and to people at work</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tunately for retention, most carers find their experience life –enhancing and can play an influential role in recruitment </a:t>
            </a:r>
            <a:endParaRPr b="0" lang="en-US" sz="2800" spc="-1" strike="noStrike">
              <a:solidFill>
                <a:srgbClr val="000000"/>
              </a:solidFill>
              <a:latin typeface="Arial"/>
            </a:endParaRPr>
          </a:p>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46960" indent="-24696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tilising experienced carers </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encouraging foster carers to promote the need for new families, fostering services should seek inspiring stories for local and regional pres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services can support their foster carers to ‘spread the word’ by keeping carers up to date with recruitment needs, promotional materials, involving them in information sessions via newsletters, encouraging carers to hold information sessions in their homes or at community organisations and faith group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viding an incentive for recruiting new carer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edia and advertising</a:t>
            </a:r>
            <a:br>
              <a:rPr sz="3600"/>
            </a:br>
            <a:endParaRPr b="0" lang="en-US" sz="3600" spc="-1" strike="noStrike">
              <a:solidFill>
                <a:srgbClr val="000000"/>
              </a:solidFill>
              <a:latin typeface="Arial"/>
            </a:endParaRPr>
          </a:p>
        </p:txBody>
      </p:sp>
      <p:sp>
        <p:nvSpPr>
          <p:cNvPr id="580" name=""/>
          <p:cNvSpPr txBox="1"/>
          <p:nvPr/>
        </p:nvSpPr>
        <p:spPr>
          <a:xfrm>
            <a:off x="371160" y="1980720"/>
            <a:ext cx="8001000" cy="266724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nd regional press is an ideal way to gain free coverage about the need for foster care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tising in local media</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door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loyment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y links and outreach work</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o else should be involved?</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nd PR team</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suppor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ildren and young people</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R skills to ensure clear job description and person specification </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cillo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ior director-level officials in children’s services</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actical implications: first contacts </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have a structured way of recording and progressing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welcoming and positiv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recording of initial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giving (not assessment at this stage, i.e. you don’t try and do both at once), in groups or  1-to-1</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will have to be discounted at the outset</a:t>
            </a:r>
            <a:endParaRPr b="0" lang="en-US" sz="28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a good experience of a first enquiry?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800" spc="-1" strike="noStrike">
                <a:solidFill>
                  <a:srgbClr val="000000"/>
                </a:solidFill>
                <a:latin typeface="Arial"/>
              </a:rPr>
              <a:t>Being able to speak to a well-informed and friendly person – not an automated answerphoneservice.</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old what happens next, receiving an information pack, being offered an invitation to an information session or a date set for an initial home visit.</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Knowing the enquiry has been valued and that the fostering service will contact them again</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are they looked after and how long do they stay?</a:t>
            </a:r>
            <a:endParaRPr b="0" lang="en-US" sz="2800" spc="-1" strike="noStrike">
              <a:solidFill>
                <a:srgbClr val="000000"/>
              </a:solidFill>
              <a:latin typeface="Arial"/>
            </a:endParaRPr>
          </a:p>
        </p:txBody>
      </p:sp>
      <p:sp>
        <p:nvSpPr>
          <p:cNvPr id="493" name=""/>
          <p:cNvSpPr txBox="1"/>
          <p:nvPr/>
        </p:nvSpPr>
        <p:spPr>
          <a:xfrm>
            <a:off x="499680" y="1356840"/>
            <a:ext cx="8001000" cy="266724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ust under two-thirds of the children in the system on any one day are looked after because they are at risk of serious emotional, physical or sexual abuse or of neglect.</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children who enter the care system return home quickly – just under half leave within a year of arrival and usually to go home </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Ch7 in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questions – before visit</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st way  is obtaining basic minimum information at first encounter (phone, or  in person), i.e.</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ough room?</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composi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arrangements?</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criminal record check and any involvement with local services–also quick check</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nt on being informal/having encouraging conversa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initial visit – fairly quickl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initial visit</a:t>
            </a:r>
            <a:endParaRPr b="0" lang="en-US" sz="3600" spc="-1" strike="noStrike">
              <a:solidFill>
                <a:srgbClr val="000000"/>
              </a:solidFill>
              <a:latin typeface="Arial"/>
            </a:endParaRPr>
          </a:p>
        </p:txBody>
      </p:sp>
      <p:sp>
        <p:nvSpPr>
          <p:cNvPr id="595" name=""/>
          <p:cNvSpPr txBox="1"/>
          <p:nvPr/>
        </p:nvSpPr>
        <p:spPr>
          <a:xfrm>
            <a:off x="499680" y="1143000"/>
            <a:ext cx="8001000" cy="2666880"/>
          </a:xfrm>
          <a:prstGeom prst="rect">
            <a:avLst/>
          </a:prstGeom>
          <a:noFill/>
          <a:ln w="0">
            <a:noFill/>
          </a:ln>
        </p:spPr>
        <p:txBody>
          <a:bodyPr lIns="0" rIns="0" tIns="0" bIns="0" anchor="t">
            <a:normAutofit fontScale="82000"/>
          </a:bodyPr>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you looking for at this stage? - assessing potential rather than ‘the finished article’</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tering out abusers</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ve they understanding of children’s’ needs and development?</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rmth, natural  responsiveness?</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visit</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4000"/>
          </a:bodyPr>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notion of contact a real struggle for them?</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s better to say: this is an area where you don’t meet the criteria</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ask them to do  a training course first or gain more hands-on experience: robust but flexible approach</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fter initial visit </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initial visit , key step then is manager either signing off to go ahead with assessment,  or need to resolve issues then</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preparation  groups , then full assessmen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a strong application, do both at onc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sues to resolve , preparation  training firs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spreadsheet/database completed as you go</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viewing recruitment  strategy </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66000"/>
          </a:bodyPr>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questionnaire for people who  drop out  (not people you’ve already fed back to)</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out why people chose not to foster for your servic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ntacting people who have enquired in the last one to two years to find out about their experiences, why they chose not to progress with their application and whether they are still thinking of fostering can be very worthwhil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review strategy in the light of this feedback</a:t>
            </a:r>
            <a:endParaRPr b="0" lang="en-US" sz="2800" spc="-1" strike="noStrike">
              <a:solidFill>
                <a:srgbClr val="000000"/>
              </a:solidFill>
              <a:latin typeface="Arial"/>
            </a:endParaRPr>
          </a:p>
          <a:p>
            <a:pPr marL="22608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roving the placement-making  process</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rse of a fostering placement is influenced by </a:t>
            </a:r>
            <a:r>
              <a:rPr b="0" i="1" lang="en-GB" sz="2800" spc="-1" strike="noStrike">
                <a:solidFill>
                  <a:srgbClr val="000000"/>
                </a:solidFill>
                <a:latin typeface="Arial"/>
              </a:rPr>
              <a:t>how</a:t>
            </a:r>
            <a:r>
              <a:rPr b="0" lang="en-GB" sz="2800" spc="-1" strike="noStrike">
                <a:solidFill>
                  <a:srgbClr val="000000"/>
                </a:solidFill>
                <a:latin typeface="Arial"/>
              </a:rPr>
              <a:t>  placements are made in i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allow time for consultation with children and carers before placemen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made in a rush, without provision of full information to the  carer, are more likely to disrup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where the carers’ preference (i.e. for a  girl) is overridden are more likely to break down</a:t>
            </a: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nsus on high quality foster carer support </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sonable pay</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quality supervis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communicat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dicated psycholog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educational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respite and out of hours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Training</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pract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arrangements for dealing with allegations.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upport Services for Foster Carers</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90000"/>
          </a:bodyPr>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Supervising Social Worker </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upervisory visits</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ocial Worker for each child</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dependent reviews for children</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pecialised foster carer training programmes</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g. Secure base attachment, Webster Stratton Parent Training, Fostering Changes, Multi Disciplinary Foster Care, KEEP</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 &amp; Adolescent Mental Health Service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 carer support group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groups for male car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s for children who foster</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elebration and ‘thank you’ events</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uture challenge - ‘An impending crisis’</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 care workforce is ageing, with two-thirds approaching retirement, and the number of children in foster care is rising and has been for the past two year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ages of carers  means that more children may have to move a long way from their family, friends,  school and sibling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lso means that too many children may be placed with foster carers who may not be right for them and who may not have the skills and experience required to meet their needs.</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ypes of foster car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70000"/>
          </a:bodyPr>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ort-term: </a:t>
            </a:r>
            <a:r>
              <a:rPr b="0" lang="en-GB" sz="2800" spc="-1" strike="noStrike">
                <a:solidFill>
                  <a:srgbClr val="000000"/>
                </a:solidFill>
                <a:latin typeface="Arial"/>
              </a:rPr>
              <a:t>emergency, assessment, remand, ‘roof over head’;</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ared care: </a:t>
            </a:r>
            <a:r>
              <a:rPr b="0" lang="en-GB" sz="2800" spc="-1" strike="noStrike">
                <a:solidFill>
                  <a:srgbClr val="000000"/>
                </a:solidFill>
                <a:latin typeface="Arial"/>
              </a:rPr>
              <a:t>regular ‘short break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termediate/medium-term (task-centred): </a:t>
            </a:r>
            <a:r>
              <a:rPr b="0" lang="en-GB" sz="2800" spc="-1" strike="noStrike">
                <a:solidFill>
                  <a:srgbClr val="000000"/>
                </a:solidFill>
                <a:latin typeface="Arial"/>
              </a:rPr>
              <a:t>treatment, bridging placements, preparation for supported lodgings, independence or adoption;</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ng-term: </a:t>
            </a:r>
            <a:r>
              <a:rPr b="0" lang="en-GB" sz="2800" spc="-1" strike="noStrike">
                <a:solidFill>
                  <a:srgbClr val="000000"/>
                </a:solidFill>
                <a:latin typeface="Arial"/>
              </a:rPr>
              <a:t>upbringing</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riends and family care</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arent and child foster placement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reatment foster care</a:t>
            </a:r>
            <a:r>
              <a:rPr b="0" lang="en-GB" sz="2800" spc="-1" strike="noStrike">
                <a:solidFill>
                  <a:srgbClr val="000000"/>
                </a:solidFill>
                <a:latin typeface="Arial"/>
              </a:rPr>
              <a:t> </a:t>
            </a:r>
            <a:endParaRPr b="0" lang="en-US" sz="2800" spc="-1" strike="noStrike">
              <a:solidFill>
                <a:srgbClr val="000000"/>
              </a:solidFill>
              <a:latin typeface="Arial"/>
            </a:endParaRPr>
          </a:p>
          <a:p>
            <a:pPr marL="240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89000"/>
          </a:bodyPr>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equate payment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fficient and specialised professional support</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proportion of carers from black and minority ethnic background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lusion of male carers in research studies and the vital role they play</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eful resources</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5000"/>
          </a:bodyPr>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ish Association Adoption &amp; Fostering</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ostering Network</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Information Exchange</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partment for Education (Englan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ste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Rights Group</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hood Wellbeing Research Centre</a:t>
            </a:r>
            <a:endParaRPr b="0" lang="en-US" sz="32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ANK YOU</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adual professionalisation of foster care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are no longer expected as the norm to ‘bring up children as their own’  - this has heightened the expectations of social workers and the aspirations of carers.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in general see themselves as important partners in a shared professional endeavour.  They  are carrying out a demanding professional role that has implications for remuneration, training and status.</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ive relationships between social workers and carers based on mutual respect, consultation and training are key factors in the provision of a committed and effective service</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stering – formerly like voluntary work, now like a demanding career choice </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87000"/>
          </a:bodyPr>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has moved on from largely a voluntary role to rapidly becoming a viable career option</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develop broad range of skills for children who experience traumatic start to life or challenging behaviour</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uniquely bridges family and professional life – all the carer’s family are involved, but carer needs to work alongside a multidisciplinary professional team</a:t>
            </a:r>
            <a:endParaRPr b="0" lang="en-US" sz="2400" spc="-1" strike="noStrike">
              <a:solidFill>
                <a:srgbClr val="000000"/>
              </a:solidFill>
              <a:latin typeface="Arial"/>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a:t>
            </a:r>
            <a:r>
              <a:rPr b="0" lang="en-GB" sz="1800" spc="-1" strike="noStrike">
                <a:solidFill>
                  <a:srgbClr val="000000"/>
                </a:solidFill>
                <a:latin typeface="Arial"/>
              </a:rPr>
              <a:t>May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face of foster care</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challenging children- behaviour, physical and mental health need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circumstances and ethnicities e.g. unaccompanied asylum seeking children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specialist tasks e.g.  ‘intensive treatment’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structures e.g. commissioning IFP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lternatives e.g. kinship care, special guardianship</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wareness of international differences /models e.g. social pedagogy, Fostering Changes, KEEP</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engths of the UK foster care  system</a:t>
            </a:r>
            <a:endParaRPr b="0" lang="en-US" sz="36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83000"/>
          </a:bodyPr>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 care is an impressive form of provision</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looks after a wide variety of children, some of whom display very challenging behaviour</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hildren speak very highly of their foster carers</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arers are very committed to their children</a:t>
            </a:r>
            <a:endParaRPr b="0" lang="en-US" sz="2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Mgr. Marta Miklušáková</cp:lastModifiedBy>
  <dcterms:modified xsi:type="dcterms:W3CDTF">2012-11-29T12:59:46Z</dcterms:modified>
  <cp:revision>201</cp:revision>
  <dc:subject/>
  <dc:title>No Slide Title</dc:title>
</cp:coreProperties>
</file>