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A11-5102-44DE-8431-937A80A2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F76-28B2-419A-A6CF-2589C3D5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57A-48C8-402D-B206-F447EB08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CA5-3478-449D-B48B-CCC0B458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5AD-40AA-4313-9954-2CC41F4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F87-DC62-415E-A002-EEFABE4E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908-B61B-4A80-BAB5-C52FD100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FF0B-E2DC-49EC-A113-5B4DF6F2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AA4-2A73-440F-87BB-9F9B7701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E651-FFA2-40D1-B9B7-41FE5BD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E646-FDAB-4993-99DC-34E722CD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F9E3-08EF-4B5D-9DF1-A5F44881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F9D5-378A-4EFF-B96C-831FA22D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D408-71E5-4A2A-8698-0543F61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3989-FF79-4215-A057-997685B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227A-C394-48E2-8D2E-E2C150C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A676-4111-4ACE-8552-2249255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7EA2-D386-4E02-A9E7-3D1D3EEF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2F45-DB62-49D6-A938-09D81374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FCD-268C-463A-AC01-C14DE8CB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A0D0-1447-45FB-8E7E-867A8BE7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114A-95A6-4606-B94E-7161EF85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DC0A-D6E6-488B-9330-285268BC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EE3F-E811-4ED4-A8F9-76BA191E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0A51-CA97-43D6-A1BB-AAFD2B9C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88A5-D941-4C06-8B15-8E5288D2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ABE3-0CE5-40D3-925F-7B740C3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1BF1-EE7F-422D-B726-9BFFE8C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B3D9-9CD2-436E-A384-FC1ED6E8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9326-F2ED-4CF8-A1C1-7003C67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79D-96D1-4650-ACDB-C22F499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6EBA-CC3D-495B-99D1-1BC74391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DC9F-8D95-40B7-92DD-9A1EBCE1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6D74-7D34-4EC9-883A-8DD18365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71A70-24B0-4FF0-A51D-D15983D1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1469-927A-4BC0-946C-3FB04D0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F10C-D722-4674-805D-4973D8FA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DC49-B3D9-4AC6-90A3-AF6CCC7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1C11-C714-44E9-854C-2A713FC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B5F87-6518-4C92-A93B-CB609D4F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2DB3-BC6F-4AF3-B5DF-FEE3926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65F-5B20-426D-85AD-A01F26E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73DA-15C9-417C-A8DB-C7C06BE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3344-73EC-4DCD-A866-DD35403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9382-A250-4258-B0EA-ED5DD582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A074-A56A-4AC1-904D-6618C025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E72F-D80A-4D42-8FB1-C551809F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F6CC2-48C5-4F40-8E3F-D9686992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B2E9-6B04-451A-9136-C5C2BAD8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AB25E-CE40-4C7E-A7EF-DBD9446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76566-D617-4BD3-BF58-1451E6B4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CEC3-41B5-4A87-9831-CD31E581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DEB-DDAF-44AC-A90A-26FB242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D2E9-A103-4953-8F48-30B7133F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C57D-7EDC-4DF7-AFDE-A890D3A5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E347-2EC6-4363-BD04-D552EC29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B946-CAF2-442D-9C15-2E6F3EA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54F12-34C9-4717-BDB7-481378B5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F007-268C-4243-8F4C-3CE1B1B7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2560-62FC-4E2C-BA95-C32F1699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88F-A867-410B-A245-EA8BF23815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9C96-8392-4903-BFEC-113E53FB94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FF03-19D0-4B05-8190-8F49A19A41A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D48D-B8FD-4189-84BD-2E5AE995A37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23D4-CDBF-4696-9144-4E4EF0746AF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D5B1-6EF5-41D5-B2CA-4EC1509337F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AAE4-AEAD-4983-8285-AD39812C236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C4A-4CD5-4DEB-B623-524C216A06F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FE2B-310B-47F6-9731-583402B377B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757E-323F-4653-91C5-58CD722B07A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Etika a etiketa  tlumočení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Odpovědnost tlumoční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atý úkol musí odpoví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jazykovým znalo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stávajícím fyzickým a psychickým schopno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kvalifik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příprav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dmítnutí úkol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. Pokud má pracovat pro členy své rodiny nebo osoby blízké nebo kde existuje zjevný konflikt zájm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. Prostředí fyzicky nebo psychicky nepřijatelné (důl, lešení, pitevna …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. Prostředí nepřijatelné z morálně-etických důvodů (erotická lin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.  Nedostatečná jazyková vybavenost v oboru a nedostatečný čas na přípr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azyková přes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320"/>
            <a:ext cx="785808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netlumočí doslova, tlumočení je analýza smyslu, doslovný překlad se používá ve zvláštní situaci s upozorně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 tlumočení by měla interpretace textu trvat 2/3 doby trvání původního tex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se musí naučit techniky, které umožní interpretovat dostatečně přesně obsah text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smí ale hádat významy sl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rávo si ověřit význam slova, pokud si není jist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utral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ění způsob vyjád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ic nepřidává, ani nic nezkrac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ní odpovědný za obsah slov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tázky neutrality jsou velmi složité, zejména  v komunitním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ácvik neutrality trvá dlouho a komplikova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nkrétní cvičení k dodržení neutral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stran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racuje pro osoby blízk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ůže při tlumočení uplatňovat své osobní politické, náboženské, společenské názo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rojevuje sympatie nebo antipatie ke komunikačnímu partnerovi klienta ani ke klient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oskytuje rady při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ní povinen tlumočit „ve prospěch“ osoby, která ho pla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ůže být zaměstnán jinými úkoly než tlumoče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 právo vystoupit z tlumočnické role, aby objasnil tlumočnickou situaci klientovi i jeho komunikačnímu partnerovi  - tohle platí jen při komunitním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Mlčenliv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zveřejňuje informace, které se dozvěděl při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použije získané informace ani nepřímo, například pro obchodní úč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icméně některé informace tlumočník ze zákona zveřejnit musí, jedná se o výjimečné trestné činy a jejich přípr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Dodržení profesní etik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tiketa – pravidla zdvořilého ch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žení těla, hlas, ge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lečení (jednobarevné, tmavé, nenápadné, šperky, kosmetika, čistota, upraven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zdrav při příchodu a odcho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vořilost (takt, skromnost, nezbytný odst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chvilnost, adekvátní oml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lidarita s kolegy  a potřeba vzdělá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kritizuje kole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hajuje společné záj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dílí nové znalosti a poznatky s kole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se celý život vzděláv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vyšuje si jazykovou kvalifik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šiřuje si kulturní přehled, všeobecné znal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056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Soudní tlumočení – některé rozdíly s komunitním tlumočení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soká kvalifikace soudního tlumoč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is do seznamu tlumoční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nalost právnického jazyka a právního systé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nalost právního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ální přesnost tlumoče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espektování pokynů soudce  - vystoupit z role jen na pokyn státního orgá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je to tlumočení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stní zprostředkování informace z jednoho jazyka do druhého -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ísemné zprostředkování informace z jednoho jazyka do druhého - pře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iační dovednost – sekundární řečová  doved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omunitní tlumočení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prostředkování cizího jazyka při  osobním jednání, vedle čistě jazykových otázek musí tlumočník řešit náležitým způsob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) roli zprostředkovatele kult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) sociální problémy klienta spojené s neznalostí jazyka (uplatnění práv v zemi, jejíž jazyk nezn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) psychologické problémy spojené s  adaptací v cizí z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lze vždy aplikovat postoj nezúčastněného prostředníka, není to tzv. soudní tlumo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vztah účastníků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yzická přítom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lient                      Komunikační part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= Mediátor jazyka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řístupy k tlumočnické prof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 Tlumočník pomáh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. Tlumočník je stro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3. Tlumočník usnadňuje situ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4. Tlumočník pomáhá tím, že interpretuje správně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rostředí komunitního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. Úřady – imigrační orgány, policejní řízení, úřady práce, daňové úřady, místní samosprá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. Lékařské prostředí – jednotliví lékaři, nemocnice, laboratoř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. Psycholog – různá psychologická vyšet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. Škola – komunikace mezi učiteli a žáky, autoš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. Mimořádné události – přírodní a civilizační katastrofy, vál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Et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isciplína, která zkoumá a popisuje lidské chování a normy tohoto ch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ická etika – deontologická (stanoví povinnosti) a aplikovaná (vyjadřuje se ke konkrétním problémům obor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tický kodex tlumočníka – konkrétní pravidla prof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rincipy etického kodex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etí odpovídajícího úko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zyková přesnost a neutra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strannost a nezávis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lčenlivost a diskrét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držení profesní etik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lidarita s kol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třeba celoživotního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ijetí úkol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dy nesmíme odmítnout úk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Důvodem odmítnutí nesmí bý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národnost, rasa, náboženské vyznání,  politická příslušnost, sociální postavení, sexuální orientace, věk, fyzické a rozumové schopnosti, pově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1:02Z</dcterms:modified>
  <cp:revision>101</cp:revision>
  <dc:subject/>
  <dc:title>Snímek 1</dc:title>
</cp:coreProperties>
</file>