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5F22-9CD6-4654-97E0-C936B697B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A8CB-D341-407B-AB43-80248943B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6AA-A468-4679-9692-0D13AF8D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B9B-0B68-4389-A686-73A084C4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37B-355C-425B-839C-345FE745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352-F762-4FF7-9DEC-9A1591E7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F63-8706-40E2-84BB-79ED313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AAB-76D6-4011-90A6-144AC4A5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D7A-8637-4702-A244-A47C03F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20D3-9CDF-473F-872B-AD47A291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C3B-9057-4DDC-B4EA-137AA4E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DCEB-3251-4FBF-BB12-B5947EC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487-B368-4E29-97CB-3083068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D21-1E85-4327-8714-40853D3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7FD-0101-4284-81EC-2B9E7826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655A-8CC9-4D30-AE28-EEA9BAEF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BF1F-9B37-4999-B8D8-6E4B4B2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F10-7F8C-4069-BF5C-FC45F2F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8611-97D8-4E88-9DA4-90A69F1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E5A0-7603-481B-A860-ED4EBF5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40A-0DCB-40C8-8EB3-56A08F2D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DCD-C043-4F0A-BA55-E41FA1C7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0E7C-293F-4360-91EA-8A837B90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FC31-EF39-414F-B5C2-153B98C1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94C8-A7C7-48BB-806C-AFF1775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8290-6070-4603-9163-828E5BF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5CFC-2313-4F8E-A2BC-4F995A3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400A-12E2-4192-A873-DB065005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3567-684B-4C56-A7F1-7814C70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3D8D-E794-40AB-8DBF-DDA9939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8D52-28BA-428E-8BF3-A8773BB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59FD-BDCE-4400-9F3D-6AB0A52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9C0-DFF7-496C-AE9E-B937DF5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2004-E0F1-4543-81BE-A55DABC0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5AF3-BC07-4923-BEE5-CE456344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35F4-6761-48AA-A777-EE020577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0F45-4415-47ED-B2AB-B0E95B8B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A906-E167-43C8-BD00-90E7D13D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97D4-D75D-4835-9439-39FF5C7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A7E55-D0B8-4DC4-8F4C-8EFFDBDC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00EC-468D-47ED-AD47-828D62D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8404-5FE7-40A3-AEC0-DA43A52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1870F-4F84-4877-942A-88C0740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049-C2B9-456A-8CDC-8EB3ED3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F191-89DD-4AEE-A5AC-CF5E079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3877-641B-4472-A4B8-0D5DE08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CEA1-430D-495F-B8DF-A02BE17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2755-7735-42F1-ACED-B3A2F2EF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30ED-0DDF-4601-8BF1-D7F7811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2193D-EFDD-4DAD-89ED-28F43D03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99FDD-9A32-4C4A-A088-186A656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9B1C-0145-4975-8460-818A6AFA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C13D-5576-43FB-BAB4-7D70905F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3051-497E-42BC-AFE8-14BCA51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DBF-45F3-430D-94F4-30AFA0F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14F9-F1E9-40B9-BA37-227A30C2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194DC-25F8-4C6A-9382-D9863B7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BA9A-44DA-4266-9048-93F462A9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82C7-98A2-40FB-A5B0-AA5C375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E42B-7D5F-4C3A-8333-31B747A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1913-4EF8-4916-90B2-9C42E14A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878E9-7ED9-4BC9-BFF4-94629003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25C-6773-4B32-8948-9B203B2798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856-0237-42AF-87C3-ED0E3BAAAB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DC8-B630-4710-82BC-7D06F82785A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C0F4-CBC9-4FC1-AF0E-F4B0CBBD0A4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EF74-0E72-4022-B5BB-A6FDB0D8B22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ECB0-E83F-46E3-8E71-13B169F94F9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95C-16DD-4D27-AF6E-09184980102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4D37-8E5F-4FA3-8C25-1FEF7596361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97D-1EB5-46BF-8646-360975A5F23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D17A-C862-4B27-AFF0-F8AAC280FCC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 do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do může v ČR tlumoč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á živnost dle živnostenského zá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č. 455/1991 o živnostenském podnik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Situace,v nichž je přibrán tlumočník, se vyskytují jak v oblasti civilního práva (dopravní a jiné nehody, občanskoprávní spory, nejčastěji v otázkách plateb) tak v oblasti práva trestního (krádeže, vloupání, podvody, převaděčství aj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díl soudní tlumočník x přibraný tlumočník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ovinnosti tlumočník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ba daní, sociálního a zdravotního pojišt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ba DPH – příjem, práce pro každého zahraničního klient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i Slovensk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acovní jazyk tlumoč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A – mateřský jazy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B – pracovní jazy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C – pasivní znalost jazy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trategie tlumo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asový posu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vojená pozornost – dominan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gnózování výpovědi – gramatické, sémantické, pragmatic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konomie – obsahová, gramatick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konkrétním tex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echniky tlumo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ekutivní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imultánní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ucho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provodné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umar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lovné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lumočení z lis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Aktivní posle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aktivní posl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rávějte každý, co jste dělal/a vč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ruktura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produkce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amě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átkodobá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louhodobá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krátkodobou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dlouhodobou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656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kuji Vám za pozo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0:43Z</dcterms:modified>
  <cp:revision>101</cp:revision>
  <dc:subject/>
  <dc:title>Snímek 1</dc:title>
</cp:coreProperties>
</file>