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3757-8300-46CA-A5C5-73D3B4940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852D-C1DF-4E01-A8A4-D01D40938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AD2-7152-4BC3-8EA4-BAAA23EBC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7DB-378E-48B4-B64B-01C50C7A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BBA-EF84-49EB-AD46-E19DEFC2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0CB-2363-4A31-91FC-43B2EEC2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8FD-93ED-4A27-BEB2-201CAE08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202-FF72-45BB-9070-F2A8C9B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A05-91AB-4C66-B634-3AD9D314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22B-B939-4B7F-AE1F-C513F57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26A0-3C42-4D5C-854A-4888E71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EF8-B8AC-463D-9358-5F7D230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3C3-C9CD-43BC-A0AA-27DF0EC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A18B-9C26-4950-B1F8-3AF7E20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2E72-07BC-4859-AE8F-A863ABD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177-52CD-4C9C-A25A-EEABF25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7ED-0255-4EFB-9EBF-54A60D5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E32D-07DB-4908-9419-ED3AEA3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143-346E-4903-A6AB-0F8AA7A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1861-9D95-4641-BB2A-D2BFC6A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103-BAFE-47D6-81E8-5A6DCAD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3FC-446D-4CCD-A524-19BCF50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322-4F37-4C26-B9F0-E0356B4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EAC6-A4E8-485B-A6C9-7096418C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61EC-4BE1-4E5D-AD59-E5E26166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369F-38DB-417D-ABF9-5A11CB40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C484-53D9-4760-AC1E-B67B36E3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F49D-ED6C-4A87-9C5D-35B5171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0E8F-2C1C-4E4F-9FC2-F580431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9E79-6EEC-40AC-9F3E-1B2BE4DF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4F9E-A640-4464-A033-7A7FFF3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2CFE-A66D-417C-B3F4-447D803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140F-F8C5-4CDA-9204-F65111C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9FA-4F68-454B-9230-9DCADA0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0D92-6CFE-40C9-B2DA-F527854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2BEA-4DF5-4970-A945-0AC6C72E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4D79-AB11-4380-B5F9-518D9ECE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CF36-F7A6-474C-9547-027CBDEB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0936-0748-492F-A0B2-1FD2B40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822C-86DD-47FA-85CB-155B2FD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56AD-07BE-4AAF-848E-4794EBA1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D4FF-4372-4795-AB1E-9125AF7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3E25-D174-412C-B9F5-179E63E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3286-B051-4E6C-995F-7AFC1A4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0F4-BF99-4A2E-8C7D-7B73B06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925E-CA0D-4FFC-B3F3-C3D4657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774E-0194-428B-A7A2-2EDD46D1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0615-34AF-4E8B-A508-F793CA5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AB55-C8D9-4AB5-8444-F1C1764F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D102-879A-41CB-A607-390FF014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4B01-F446-45D1-8DCF-40DECEAE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5BA7-7729-4133-9D4D-75A4C01E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DB88-6681-4D7E-914B-CDE35C72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1FB8-1906-4507-8FEB-D46DAB9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C522-A5F4-457F-AF2B-754A3647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735-006A-4AC4-89A5-244ACC6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49B6-EF5E-4728-B0D7-0D61BD6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2555-502E-4DD3-8603-143C628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4D26-6063-459B-877B-13E8EDB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7FD9-A266-440A-8E64-8FB98FF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8207-EE59-4D34-B774-421DD37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6F3F-9889-4A40-8DD5-FB93C95F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AAF1-8444-4631-BA3E-335692F5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237-F27F-4D45-B845-D17DC88129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7B3-461C-4F0D-9D7B-500AF7F353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43B0-599A-46A4-8B35-6C7631EE25C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71E1-A5B3-4821-874A-85BF634CC4D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3A2-A7B7-427B-850E-20BDEB3E0D4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5B2-46CE-497B-A0EB-2C776FAFDDD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4994-53C2-42B4-955E-ED0F71326D3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0D89-B2AC-4D49-947C-8E1F6CB791E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8ED-88D0-4B2C-94A8-00B17D9E4D5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A40-BD84-413A-84E5-EBEF9391EBD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nická not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 slo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uje – 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oval – prac-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ude pracovat – x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pracovat – 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racuje – x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krétní cvi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042560" y="624960"/>
            <a:ext cx="771516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oč si děl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lze spoléhat na paměť, brzká únava pamě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pší soustředění na obsah sdělení, protože zapisujeme čísla, jména, 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nutné tolik přerušovat tlumočení, umožňuje klientovi se lépe vyjádř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sdělovat čísla, jména a další fakta ve stejném pořadí jako u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ověřit pravdivost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mají obsahov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čís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mén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olitelně fakta, popisy a detailní informace, které Vaši paměť zatěžuj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V roce 1999 245 členů mé skupiny odjelo do pěti různých zemí. Většině z nich bylo mezi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a 25 lety, i když mezi nimi bylo i zhruba třicet sedmdesátník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99 – 5 z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45 --------&gt; 20-25r &lt; (30=70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Ideální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utnost si vybudovat vlastní systé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nám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or nepoužívá se těsnopis, ani jiná písma podobného typ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iný příklad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, MÍS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VES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ačátku roku 2007 jsem se přestěhoval do hlavního města, kde jsem žil potom dva roky v malém by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7  já          hl. m.   2r m. byt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Šipka doprava 5"/>
          <p:cNvSpPr/>
          <p:nvPr/>
        </p:nvSpPr>
        <p:spPr>
          <a:xfrm>
            <a:off x="2700360" y="3357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Diagonální postup shora d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yšlenky oddělit čarou, věty vykřičn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můžeme podtrhn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škrtáváme odtlumoče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oká konsekutiva až 10 min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 = lid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 = pení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 = poli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c  = polic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2O = voda, vod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zí-vz = mezinárodní vzta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-b = bankovní účet v b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-s-o= politická strana opoz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asociacem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16Z</dcterms:modified>
  <cp:revision>111</cp:revision>
  <dc:subject/>
  <dc:title>Snímek 1</dc:title>
</cp:coreProperties>
</file>