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8999-1659-45E0-A9DF-6A067A4D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3D7-76BE-4D44-B8BC-304A00A6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1182-E137-47F9-B4D7-D8784DBA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91AF-3D33-4C49-8264-3595DDAE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210-2BAD-474C-AE77-4849E1A6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B770-5062-493A-9838-C93EF98E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F883-6940-4578-9DCA-BC799DFA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9130-1106-4969-AFD6-CA1FFD08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45B-B07A-45D7-B965-92A01352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3563-1625-4C60-BE5D-5E807090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87A9-2212-4B5C-BE74-49A88E5C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6404-52D6-4F12-AC3B-EA42D2C6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156C-7DEB-4591-8094-32E72419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636D-686D-49F4-A631-D0B1B7C3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744D-023B-409B-8035-BE334EF5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6A93-8CFF-4EF7-874D-FDDD1A47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0DFB-83E8-470E-ABA2-33DE0A77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F5A8-4701-4211-986C-4712C27A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4127-476F-4749-B61B-20DAEF7D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9A7-B8CD-4CA6-8FD4-C1A972B8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FA18-9ABE-4991-8E62-9608BD46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8C43E-B7AC-4930-85EF-76A851D8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78607-F21C-4730-A36D-E9118E84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8B470-42F7-4EC0-8B56-3AA93688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277DD-0D10-4AD8-A646-198E8C9E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086FD-6406-418E-A4EA-0358547B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97482-F4F7-4954-9D20-8D7D0272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99678-5DB6-4F85-B949-D0B9AE7A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74530-571A-4F8C-B969-06938802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88FD9-44E2-4569-ABE1-0F76E08D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7A7-243C-4FFA-AEE0-DC2EABF0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C8805-D821-4215-8FCA-3290ACBB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32EAA-4336-4889-A8FA-D436FB57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A7E63-75FE-4ED8-8C83-1B6A7954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52065-D5A5-4F07-ADC4-87550AAD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C87D9-C5FA-430C-8490-07B2EC02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71284-EBB3-4A35-96E7-C2F0D92C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42616-5892-413C-98A6-29B54EB2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51679-2202-4EC9-BA8B-C3414C66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49A40-BC34-462C-8F34-6CC2F20A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2099D-2DF5-4CD2-ACCE-4DEB1C47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EDA7-C76D-4C8B-B3FF-78F296AD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CF893-7A29-4DA0-8803-87D59B25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B14BA-8C91-4A32-85F0-5E419588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86272-239A-4B61-86A7-15657DB8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63C38-06F9-4C9F-9A78-42489C26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7F6F8-0D09-4BBC-AA19-EE4A826E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7B35D-21C4-4A76-9285-1E55ACBA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C99A9-B6F3-4175-8676-4F8EECEA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1D9E7-5BC5-4D9D-84C8-4AA76137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8BE4B-9C6F-4252-B2FB-4D6C1ADC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623B7-58E3-4070-95D8-C0EB163A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4480-77BC-4073-A680-7CBED022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59700-5A04-4F9D-884A-10F9C825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BB9DD-7B7F-406E-A0DE-1569087F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4BC12-DA28-472B-8F84-3BDC7229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1BF27-89B6-4BBB-BD07-0CA736FE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AE3AB-797E-42D5-B29B-FBE0F259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40E81-579F-406B-9837-6E870E1C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4587E-F845-44A4-95BE-4B9505F1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05E0-0443-4543-8C0E-46C9645FACB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9503-04C7-42C8-892E-6CBBD7FE66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A4BC-6F44-4AEB-AB31-4C4C4C2B7A60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3F03-98D5-4D63-8A25-614D91CED1D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1B9C-AB29-4382-A825-97ECB6EBDB6D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F2DB-9DD2-4731-8B11-98AC09C3423B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0877-EB3D-4490-B426-2F9F85394FB2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D582-3508-4510-98BE-AAFC5320314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BE5B-8A9C-4766-BD7B-F5A3902A1AEA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48D8-687E-4B7C-97B8-AF67B4389C3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Kulturní specifik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hDr. Jitka Cvejnov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Fráze a idio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svojení si základních fráz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vedení tématu, ukončení téma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áce s idiomy při překlád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ervený  jako ra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 poctivostí nejdál dojde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ti gustu žádný dišputá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liník se přestěhoval do Humpol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Co je to význam slov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lova v jednom jazyku nemusejí odpovídat slovům v jiném jazy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aždá jazyková skupina vidí „skutečnost“ různým způsobem (barvy, vůně, ale i abstraktní pojm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znam slova se buduje většinou kontextem, významy neexistují izolova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lova mohou mít různý význam slovníkový, ale jiný v různých kontext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Příklad hledání význam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ětný příkla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dyž jsem prchla z díry, jela jsem za sestřičkou. Jela jsem tam stopem. Cesta byla fakt hrozná. Ty vogo, měla jsem v kalhote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 můžeme říci větu jinak? Jak můžeme zůstat jazykově neutrální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Emoční reakce na význ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ětný příkla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dnu jsem mu střelil, no a co? Tobě bych taky střelil, kdybych mohl. A tobě, holčičko (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obrací se k tlumočnici)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konec ta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 správně přeložit a potlačit emoční reakci na význa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Co jsou kulturní specifik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sou kulturní specifik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se člověk musí musí naučit, aby se stal platným členem své společnost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sám většinou nevytváří, nýbrž přejímá od jiných lid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je spíše kolektivním a často anonymním, dílem mnoha generac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se udržuje tím, že se o to lidé starají a pečují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dané společenství spojuje a zároveň odlišuje od jiný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Kulturní specifi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lumočník musí vždy vědět, že každý člověk má svou vlastní „kulturu“ danou jeho osobní a rodinnou historií a danou jeho příslušností k určitému společenství (komunitě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azyk je prostředkem, jak se tato kulturní specifičnost projevu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azyk má zároveň také vlastní specif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Jazyková kulturní specifika v češti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ykání x vykání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slovení oso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žívání titul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ladení otázek v češtin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 žádáme v češtin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 navrhujeme v češtin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Mluvená a psaná češti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češtině je velký rozdíl mezi mluveným a psaným jazyk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istorické příči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pisovná a standardní češti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andardní a obecná češti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Regionální rozrůznění češti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ecná češt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Čechy a Morava, menší specifika východní a jižní Čec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ředomoravské dialek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Brno, Haná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chodomoravské dialekty (jv. Mora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everomoravské pohraničí (Ostravsk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lezská nářečí (Opavsk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ociální varianty češti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zyk profesní - lékaři, právní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lang – vojáci, horní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rgot – snaha o utajení význ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rněnský hantec, ostravská chacharšti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kové skupiny – jazyk mladých líd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hlaví –jazyk ž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tyly spisovného jazy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kticky odborn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deck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pulárně naučn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dministrativ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formuláře, žádosti, zápis, životopi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ublicistick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ravidla společenského styk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zdravy, upoutání pozornos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vázání kontak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idla podávání rukou v češtin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idla představ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lou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lahopř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ndole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3:02Z</dcterms:modified>
  <cp:revision>116</cp:revision>
  <dc:subject/>
  <dc:title>Snímek 1</dc:title>
</cp:coreProperties>
</file>