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E4BE-39B8-4760-86C3-C92CB61A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0C6-7E4B-421D-A75E-5073797C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A60-93DB-4366-9477-0BD0D3F7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A5DD-BAD4-4A3C-896E-7B2E18A0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63A-048E-4A0E-BF76-C518CF6B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C199-D8A0-4A03-B55D-D20365B5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51A-71BD-4E45-AD15-7A613016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AFDC-FC41-4B79-9774-BAB186BB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14F2-24F8-4159-8BE3-B5E6A40A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D565-BFEC-4B23-A6F6-5AFF322C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6104-032D-4B1E-B6C6-CA034DCF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7AB7-08D4-432C-A002-D7C6325F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44DC-CD24-4C01-B18B-6D91E6FE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979F-ECB4-4B95-8742-8E0DC9BB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0C80-2C7E-4EF0-8B65-ADB48A55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05CD-5E74-4216-BF1A-FF61E510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05EC-7ACB-41CC-8A13-7100E2CF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58BF-EF93-44BD-BDE8-B5BD8284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0560-DCB3-42D4-9491-F56DFA45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5A6-B6FC-484D-9AE2-ABE7F39B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3AFF-AEA3-41DF-813D-D8CEB5E5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63511-5811-435C-93C4-AE0FABDE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C3E62-63D9-4AC9-82FC-2F8CB27D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3385D-89F6-4432-964E-F022FE83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EB9CA-645D-4670-91E0-B11EB977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C8B5E-CB3E-4D92-8DA3-2505A2CF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9CA5B-BE6E-4301-97E4-18D6BEEB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C7EAE-D101-4FD1-8BC1-3A03BB2D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AF8B8-088F-4213-824F-043BC70C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C740B-AE64-4C45-8D76-52CF160A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3D29-195B-4CE5-B013-56F5363E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08FCC-022C-4474-88D6-EEB6B998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AD441-5D5B-4825-97E6-24B15735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82FC3-B9CC-4695-A0E1-B6AC5B3B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A6B7D-AC3C-4D41-BF59-41A5AC78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BDEBF-6BD9-4ADC-9072-F0C91348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F166E-0C59-4DD3-A344-88791ECE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15D17-897B-43AB-A7C0-7463A2EA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40BEE-F3CB-4C4C-A5CC-D48FCF64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6CBDE-5C1D-4CFD-ABA8-CBF27B8B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1806D-08B7-4552-9997-4E3FFE09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5047-A4FC-4933-815A-5ADA90C6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20CAD-B15B-4012-A464-0DCF2905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37AB0-B5B4-4A1D-A916-2C9B30A7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76F60-21CB-4938-AAC1-90CBB2CE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822C0-9531-4458-BA2D-46A03359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46B53-3A68-48B1-8406-3C9591EF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F6FCC-E42B-42AA-98EC-9D47E24D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13ED5-2391-4B03-9174-1AC72939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AA02B-6BA7-420C-8F96-8DD215B7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097C2-F546-4467-BF85-6A9BB357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AE2F3-F3FB-4155-B772-D1797E1D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B69F-5F3E-4A5A-8986-30815F0E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A8A66-1105-4B93-9298-BF51C258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EB4A2-81F2-4592-BA5F-F2359AB2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A06D2-D32E-4CB2-B306-547E4084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CAA77-0B2B-4B5A-BFA1-3DC5F34F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95E12-818A-4838-AE42-DC081BC6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55B72-7EF1-4F67-A7EE-06689779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FB140-24F5-417E-A711-5F90D6DF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C47A-E9D9-4C9F-AE57-F51EC1FB079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9437-D3AD-4711-B712-801EB8B2AA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889D-9F19-41AD-BD4E-AE71A8310868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A2E5-3E46-4968-B25B-EE5D1FB47B7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86B3-2C9B-4181-9B3A-77DC9B78C3A4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1370-01CB-4A41-ABDB-05B75DC1EB0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88DF-FAB5-4A0F-8C7F-04041D37ACA0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5018-CF9A-4818-8065-D713FD1C437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405B-144A-4FAC-A113-7D5EAE2BAF98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E9BA-69ED-4B68-A840-0530B5A7519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771280" y="3789000"/>
            <a:ext cx="6264360" cy="18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munikativní doved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hDr. Jitka Cvejnov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386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Strategie řešení konflikt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hra x prohra (konkuren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yhýbání se konfli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způsobení 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operace – společné řešení problém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mpromis  hled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24204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Formy řešení konflikt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. Útěk                        8. Reaktivní jedn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. Rezignace                9. Projek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3. Přesun konfliktu      10. Somatiz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4. Kompenzace           11. Racionaliz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5. Sublim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6. Potlač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7. Regre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Asertivi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Schopnost říci 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Umění požádat o laskav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. Vznést svůj oprávněný požadave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. Vyjádřit kladné a záporné emo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. Začínat, udržovat a končit konverza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457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Zásady asertivity – I. čá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928800" y="1714320"/>
            <a:ext cx="785808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š právo sám posuzovat své vlastní chování, myšlenky a emo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š právo nenabízet žádné výmluvy či omluv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š právo posoudit, jak můžeš řešit problémy ostatních lid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š právo změnit svůj náz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š právo dělat chyby a být za ně odpovědn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Zásady asertivity – II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áš právo říct,  že neví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áš právo být nebýt oblíbený všem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áš právo udělat nelogická rozhodnu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áš právo říct já nerozumí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áš právo nejednat asertivně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echniky aser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kažená gramofonov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tevřené dveř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ebeotevř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olné inform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jetí chy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gativní dotazo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elektivní igno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jatelný komprom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676944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Odpověď na praktické otáz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928800" y="1557000"/>
            <a:ext cx="78580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Špatně jste pochopil mluvčího a zjistíte to pozdě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rozumíte, co mluvčí řekl (Tlumočník nerozumí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luvčímu rozumíte, ale nechápete obsa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luvčí se obrací na vás místo, aby mluvili sp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luvčí mluví nevhodně (vulgarism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luvčí se uráží vzájemně, nebo jeden mluvčí urá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azyk mluvčího je primitivní, gramaticky nesprávn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luvčí mluví nesouvis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luvčí pláč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12944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Stres a potřeba psychohygie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lashback – analýza emo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res – emoční re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enos emoce na se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yhoř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ěkteré psychohygienické techni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Předpoklady tlumoč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edpoklady komunikativních doved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ezpečné ovládnutí fonologického systému (zvukové stránky jazy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automatizování jazykových prostřed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olné využívání jazykových prostředků ke komunikačním cílům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Obtíž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928800" y="1484280"/>
            <a:ext cx="7858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ady řeči (šišlání, koktavost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azykově psychologické – omezenost jaz. prostředků – větší náma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ualita obsahu a fo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sobnostní psychologické – ostych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trach z chyb, rigidita myš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4.   Čistě jazykové obtíže – interference s mateřským jazyk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24204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Základní typy komunik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trapersonální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terpersonální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kupinová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stitucionální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rganizační (byrokratická)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eřejná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ediální komunika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386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Kódy v rámci komunik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zykový kó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ynsémantické kódy – intonace, slovní a větný přízvuk,  tempo řeči, hlasová kvalita, pau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utosémantické kódy – oční kontakt, úsměv, gesta, vzdálenost (75 cm – 1 m), postoj při komunikaci, pohyby při komunikaci, doteky, vůně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18920" y="333360"/>
            <a:ext cx="684036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Tématická struktura dialog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lavní téma – základní přípr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ílčí téma – postupné rozvíjení hlavního tém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edlejší téma  ‒ odbočení od tém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nverzační vzor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Griceovy maxi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incipy koope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xim kvantity: Sděl informace tak akorá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xim kvality: Říkej prav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xim relevantnosti: Mluv k vě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xim způsobu: Mluv jasně a správ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Leechovy maximy zdvořil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Tak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 „Mohl bych vás na okamžik přerušit?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Velkorysos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 „Posaďte se a já to zařídím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Ocenění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 „Paní A byla výborná a i pan B byl – hm – zajímavý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Skromnos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 „Jsem to ale hlupák! To by se vám jistě nestalo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Souhla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 A:“To se mi nelíbí.“ – B: „Jistě. Ale přece jen..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Souci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 „Měl jste jistě velkou starost.“</a:t>
            </a:r>
            <a:r>
              <a:rPr b="0" lang="cs-CZ" sz="2400" spc="-1" strike="noStrike" u="sng" baseline="30000">
                <a:solidFill>
                  <a:srgbClr val="eb8803"/>
                </a:solidFill>
                <a:uFillTx/>
                <a:latin typeface="Verdana"/>
                <a:hlinkClick r:id="rId1" action="ppaction://hlinksldjump"/>
              </a:rPr>
              <a:t>[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Konflik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●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Vzniká z rozdíl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Dynamický prvek společenského vývo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Negativní důsledky konfliktu – nejistota, strach, agr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3 druhy konflik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Konflikt kladných s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Konflikt záporných s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Konflikt kladné a záporné sí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2:49Z</dcterms:modified>
  <cp:revision>106</cp:revision>
  <dc:subject/>
  <dc:title>Snímek 1</dc:title>
</cp:coreProperties>
</file>