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png" ContentType="image/png"/>
  <Override PartName="/ppt/media/image23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8EB-7608-4911-B63B-0F17CF5D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015-600C-4479-9B0F-8CC027C5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E6D-DB2D-4123-B214-06D0B506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777-D173-43A6-AFC7-A7D3B82E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AD73-3F0B-4FC2-B120-815B0351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4684-E483-4928-92CE-81EB9ADA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ACB0-4BAF-426D-B96D-19B0E75A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7A35-4A5C-4E7A-A2FF-3AAE6607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72FD-92E2-4246-BA1C-A944BDC5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612B-64AC-42D8-AB4E-9AB71319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9C9E-C66B-436B-AE65-DD2FFD7A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9A58-DADE-4D4D-B1C0-B6A2933B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C9EA-03B2-4DD7-94A2-CC03FD7D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04A7-999E-4235-A80B-646C0005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1F1F-D1B8-47B4-95C5-EC7B7CA6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3EB1-95DC-48C7-A8E4-708940F7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2346-D8EA-435E-8BB1-63B5AC0F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C3CD1-049E-4274-8AE9-FEE48FFD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E196-86F5-40FB-8BD4-3340FC81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C5BD1-07F2-4F65-B96F-5DF9D7AF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F53C3-C264-4516-95D6-9C6BF88E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BBF4-0832-4EFB-8EE7-3E8AE050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9B2-3574-4363-951A-19621B17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AEC2-C967-4B37-9F4F-189F5873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25F12-FBA9-438F-9C79-02FE0180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0941-9048-40CB-9882-9C4CBB6C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58A1A-04B9-4684-AE5E-FB7DBE7C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5E8CA-7B26-4025-A5E9-56311EE1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33F51-A946-432C-BD40-F323A154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35453-5A9D-4EC3-9B36-8777628E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DCC96-E25E-4DEB-A8FD-6DDF4B19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CF335-AAEE-4420-815A-952A975B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76FAD-C7CE-45B0-8D53-14D29A51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521-12DA-44A0-9C1A-9FA84B98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8F4DA-9784-4771-894A-CADA171A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35F7B-D0D2-4A8C-82E6-7E79F296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B6450-2948-482C-925C-84E10056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3CB25-F193-4DE3-AE14-87F9797E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4CA2A-175C-4395-98B9-C934B4B1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D0352-43B2-4FA5-AA86-70DF3CA4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2A3E9-EF08-4B16-8A0A-99A1201F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CFE4E-0D95-4ABC-B826-E2E17C5A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33607-79AE-440B-9586-16E21E7A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641AD-9CB3-4736-9B07-F24F6905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22D-1FCC-41DB-BDD9-4708E0D4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067A7-1B77-4A9F-8E14-C77A8BEA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8D2A2-3D6F-45E0-9216-9EDE1077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018AB-0C27-46BE-8094-4E5F8373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C2B61-3FD3-477E-BACF-0E1DEE13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0D136-6719-4B15-A001-1429E928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14889-9508-40F0-9EC4-91173DBA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8944F-4E21-49F6-B53D-771F2505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80AD3-3437-4A9D-AC22-22B5EA41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012CA-31E8-4694-828C-E2900935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F7D54-2F12-468B-8B12-6969A833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659-87D1-40E4-AB1B-AEFEEC16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7A605-5328-4245-A67D-96786432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A95A9-4D92-46B6-A523-0398DF2E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02283-B342-44F3-9FB8-B341DE5D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3A364-42E8-425C-9EE6-9BC0CB10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16191-E7BE-4D6F-97F1-EE59542E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C4AAE-C65D-4E42-B68B-7163A6BC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10C23-E02B-4B52-A96E-E333C733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701F0-E1CC-4188-B090-D72295BE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D7C81-F9DC-4B5C-83A2-73FB09BD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2AA7D-F9EB-4820-A202-4AF9768D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5BF-23F1-40ED-ACCD-E6668FC9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5DF0D-7ACA-4E30-8420-638D7D8C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CE2E3-6750-4A5B-A48A-0BD015EC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0EB52-2B51-4743-99ED-0B381FD2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45172-D727-4A8F-8195-4B77CF36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006C0-189D-461C-A66C-4CE99B72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1129E-F4F4-4DF6-A442-35D09740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86F58-3DD4-4AE6-8713-6E42A87C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50B77-8C30-4CE3-9029-097CEE0B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C6C6B-A633-433F-B854-9EC0725D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9914B-4A02-456D-8119-13037C3A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A4B-6929-45F4-847B-42166527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7CAFD-5A34-4B19-A739-A1F84958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C4E6B-A6A0-4C0D-A5C8-B005126D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D8076-EDA2-4E59-B10F-964B5A88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603DA-4C13-4B5D-9B2B-9F382CD4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796CD-BBB3-4BEB-B330-52EF5EBD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CD3E2-9099-48EC-9A81-97C1489B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C4548-8D56-4354-9C16-305854F2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3F2BA-F8D0-4A8E-81BD-F1D33FAE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033A1-BF11-4E15-B133-1A768BAC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BB923-25DB-46CA-A421-0AC33B7D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143-9CC6-4ED2-B8A1-5A011DA7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E4F31-24FB-4799-9185-4EC17EB4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658A0-0D59-44C2-BC91-BAE1E875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0B0F6-64AD-4556-866B-BDAA1B54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37D9D-6203-4CEA-B66F-56DF33D4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49F23-A355-49C8-9F07-93EDE776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D7FD1-88B1-4B00-A45E-BBFD0186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3FF13-3E78-4A43-8C34-4E2761F6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4668-D392-4F28-BF76-816FF176F6B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6A59-5763-49E4-A5DA-BCACC1BD128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1B9A-72DB-4EFF-B9A8-9A5345BBDFC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6BA3-B71F-45E8-B3DF-A8705510635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EFA0-DCBB-4F82-9E32-C71EE45B7F2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0D99-A48B-4487-994E-12C3BEC84D1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8819-AEAC-42D6-B5EB-405125DA812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6E55-DD66-40EF-A1AF-777849113ED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mailto:bepvansloten@ziggo.nl" TargetMode="External"/><Relationship Id="rId3" Type="http://schemas.openxmlformats.org/officeDocument/2006/relationships/hyperlink" Target="http://www.bestcareforchildren.com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82058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464646"/>
                </a:solidFill>
                <a:latin typeface="Lucida Sans Unicode"/>
              </a:rPr>
              <a:t>Bep van Slot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464646"/>
                </a:solidFill>
                <a:latin typeface="Lucida Sans Unicode"/>
              </a:rPr>
              <a:t>Independent Consultant, The Netherland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464646"/>
                </a:solidFill>
                <a:latin typeface="Lucida Sans Unicode"/>
              </a:rPr>
              <a:t>6 December 2012; Pragu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152280" y="1262160"/>
            <a:ext cx="8564760" cy="2676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pagina 13 contact"/>
          <p:cNvPicPr/>
          <p:nvPr/>
        </p:nvPicPr>
        <p:blipFill>
          <a:blip r:embed="rId2"/>
          <a:stretch/>
        </p:blipFill>
        <p:spPr>
          <a:xfrm>
            <a:off x="5219640" y="4365720"/>
            <a:ext cx="3024360" cy="2011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pagina 2 voorpagina"/>
          <p:cNvPicPr/>
          <p:nvPr/>
        </p:nvPicPr>
        <p:blipFill>
          <a:blip r:embed="rId3"/>
          <a:stretch/>
        </p:blipFill>
        <p:spPr>
          <a:xfrm>
            <a:off x="826920" y="47628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394" name="Afbeelding 6" descr="girl.jpg"/>
          <p:cNvPicPr/>
          <p:nvPr/>
        </p:nvPicPr>
        <p:blipFill>
          <a:blip r:embed="rId4"/>
          <a:stretch/>
        </p:blipFill>
        <p:spPr>
          <a:xfrm>
            <a:off x="6516720" y="620640"/>
            <a:ext cx="1450800" cy="1941480"/>
          </a:xfrm>
          <a:prstGeom prst="rect">
            <a:avLst/>
          </a:prstGeom>
          <a:ln w="0">
            <a:noFill/>
          </a:ln>
        </p:spPr>
      </p:pic>
      <p:pic>
        <p:nvPicPr>
          <p:cNvPr id="395" name="Afbeelding 7" descr="boy.jpg"/>
          <p:cNvPicPr/>
          <p:nvPr/>
        </p:nvPicPr>
        <p:blipFill>
          <a:blip r:embed="rId5"/>
          <a:stretch/>
        </p:blipFill>
        <p:spPr>
          <a:xfrm>
            <a:off x="826920" y="3933720"/>
            <a:ext cx="201168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keep from failing or sinking; to assist; to encourage; to defend; to support the courage or spirits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ct of overseeing; inspection; oversight; superintendence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Rechthoek 3"/>
          <p:cNvSpPr/>
          <p:nvPr/>
        </p:nvSpPr>
        <p:spPr>
          <a:xfrm>
            <a:off x="1476360" y="436572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like watching where you are going while riding a bicycle; you can adjust as you go along and ensure that you are on the right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tract or Court Or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dividual Care Pla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pport Plans to famili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06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ining of Foster carers: Family history book: families describe their history and family situation and test of compet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tching based on family pro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amily support folder describing what they can expect from their foster care organisation; where to turn to for assistance; rights and responsibil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amily support plan based on competences family and needs for support with particular chi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p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tact with social worker at least once in six weeks: phone, email, home vis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ideo interaction Support (VIB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pervi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me visits and questionnaires to follow developments of child in the fami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up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dividual Care Plan: aims of placement and objectives for suppor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-Box: information of the foster family, their home, animals, food, school et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fe books for each chi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dividual meetings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upervi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dividual meetings with child to discuss place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hildren at the moment and first period in foster care are feeling al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nsition and how this is done is extremely import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uilding an emotional bonding with the new family is crucial for the development of the child in the long run and the success of the plac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paration of the placement cruc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etting up in the mor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o “calls” who?  How? (ie knocking on bedroom door; physically shaking)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en are beds made, who makes them? 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el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el 1" descr=""/>
          <p:cNvPicPr/>
          <p:nvPr/>
        </p:nvPicPr>
        <p:blipFill>
          <a:blip r:embed="rId1"/>
          <a:stretch/>
        </p:blipFill>
        <p:spPr>
          <a:xfrm>
            <a:off x="291960" y="268200"/>
            <a:ext cx="8401320" cy="10065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620640"/>
            <a:ext cx="404028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sees whom off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w do you say goodby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w do you get ther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4720" y="836640"/>
            <a:ext cx="404172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eat lunch togeth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Light snack or main mea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chooses the menu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makes school lunch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goes firs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use the bathroom individually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lock the doo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use bathrob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get dressed in the bathroom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insist on privacy when you use the toile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makes i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at’s on off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es your family all sit togeth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ere do you ea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Are you all washed and dresse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71360" y="-6480"/>
            <a:ext cx="8979120" cy="3110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http://www.rtvoost.nl/images/T3/Origineel/43931.jpg"/>
          <p:cNvPicPr/>
          <p:nvPr/>
        </p:nvPicPr>
        <p:blipFill>
          <a:blip r:embed="rId2"/>
          <a:stretch/>
        </p:blipFill>
        <p:spPr>
          <a:xfrm>
            <a:off x="1979640" y="2276640"/>
            <a:ext cx="5049720" cy="42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el 1" descr=""/>
          <p:cNvPicPr/>
          <p:nvPr/>
        </p:nvPicPr>
        <p:blipFill>
          <a:blip r:embed="rId1"/>
          <a:stretch/>
        </p:blipFill>
        <p:spPr>
          <a:xfrm>
            <a:off x="304920" y="549360"/>
            <a:ext cx="8400960" cy="8715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w much telly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chooses channe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Other activiti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have times set aside for chatting/discussion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mework routin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have supp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Playing out – what age, wher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0" y="1444320"/>
            <a:ext cx="4176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w do you say goodnigh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en and where do you undres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es your family use nightwear, pyjama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Bedtime drinks?  Stories/reading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leave lights o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Bedroom doors op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Titel 6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428" name="Afbeelding 8" descr="girl.jpg"/>
          <p:cNvPicPr/>
          <p:nvPr/>
        </p:nvPicPr>
        <p:blipFill>
          <a:blip r:embed="rId2"/>
          <a:stretch/>
        </p:blipFill>
        <p:spPr>
          <a:xfrm>
            <a:off x="2843280" y="1424160"/>
            <a:ext cx="352908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bepvansloten@ziggo.n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www.bestcareforchildren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ypes of foster care in The Netherla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hat do we want for our child when placed in foster car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pport and supervision: the International Guidel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ools: Family Support Plans based on family mapping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Questions: whenever you have a question, ask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amily being the fundamental group of society and the natural environment for the growth, well-being and protection of children, efforts should primarily be directed to enabling the child to remain in or return to the care of his/her parents, or when appropriate, other close family members. The State should ensur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at families have access to forms of support in the caregiving ro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From: Guidelines for the Alternative Care for Children (UN 2009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20. Special preparation, support and counselling services for foster carers should be developed and made available to carers at regular intervals, before, during and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ter the place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21. Carers should have, within fostering agencies and other systems involved with children without parental care, the opportunity to make their voice heard and to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fluence poli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01600" y="60480"/>
            <a:ext cx="8491680" cy="14508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Around 20.000 placements a yea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Specialised foster care organisations (NGO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rained foster care work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rained kinship care work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Recruitment, assessment, support, supervision and evaluation of foster parents and children in foster ca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ontact with biological families and reunification services and suppor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xtended family first but not always the preferred option: depends on needs of chil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risis intervention: 6 weeks (2 x extension possible)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mporary Care: treatment and return home or to other permanent solution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ermanent Care: child stays with foster family until 18 +: permanent family member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spite care: weekend/ holiday foster c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6920" cy="115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th consent of parents/ caregiv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rphans (mainly kinship car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ducational or behavioural reasons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thout consent of parents/ caregiv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buse and negl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Family viol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lcoholism, drug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 Unicode"/>
              </a:rPr>
              <a:t>Support and Supervi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 Unicode"/>
              </a:rPr>
              <a:t>Support and Supervi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ith cons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Foster Care Contract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are Plan Chil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Support Plan Fami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Foster Care Gra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ithout cons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Court Order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are Plan Chil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Support Plan Fami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Foster Care Gra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9:13:07Z</dcterms:created>
  <dc:creator>Bep van Sloten</dc:creator>
  <dc:description/>
  <dc:language>en-US</dc:language>
  <cp:lastModifiedBy>Bep van Sloten</cp:lastModifiedBy>
  <dcterms:modified xsi:type="dcterms:W3CDTF">2012-12-03T13:51:45Z</dcterms:modified>
  <cp:revision>27</cp:revision>
  <dc:subject/>
  <dc:title>Dia 1</dc:title>
</cp:coreProperties>
</file>