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wmf" ContentType="image/x-wmf"/>
  <Override PartName="/ppt/media/image36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6B2-2F85-4C48-8F25-3BF300A9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4DA-27E2-47A8-B4BF-7C218096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E97-4630-43DA-8A3E-F752D647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E2E-072A-4A6C-9B6A-A0F7C316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FDD2-1D4E-4A36-BEBD-9227C37D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A4D6-D32C-4F1D-8194-AF0457C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E43A-43C9-42CA-AE87-F306CD1D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64D1-9753-4C3D-A679-90886DB6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C10C-FBF5-42C0-A05A-C136CAD2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1190-66B1-4838-B5A8-990FDFAF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937-A774-47A5-8F24-9BF55F0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A98-4A1B-4AD5-9267-D4CA245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61CC-53FF-4D69-B94C-5762487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7A53-F23A-4762-8F41-04998512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66C5-3124-4F96-9BE8-F06AF860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BA3-4E7C-410B-BFF4-D5274420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A9F5-CEA0-4F90-B7EB-E877B0EA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7BEE-65E0-40AA-8B15-D2D5F453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6932-9961-4C15-83D8-4A56E559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610E-B4E8-4571-8B5A-A0F7FE2A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C9CD-3366-4B91-9895-75A3D898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FBD6-6003-42FD-BC95-D86D404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F09-597E-44FB-A0F8-1C6F587E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764E-18A1-418B-807F-87A2D436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AC82-ABFB-4C7B-9896-D759C14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5C87-70DC-418A-9520-9C56FB51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4D72-DB4F-45EE-9E1E-0D273F8D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2427-E078-4449-A478-E9D2CE2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7537-C317-433C-A412-7F7E9E81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1BAA-2B90-4133-A5BC-B83C3865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1BB7-9BE2-47FC-8689-360E768E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346E-684E-490C-8C57-BFA7ACBC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0735-5AE8-47F7-B9E6-9F3807C9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F42-EEE5-4806-A6D8-D2279935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98E7-2689-47F9-B6BB-2A8CCED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9A3FE-E114-4569-9B92-AEA5B4FF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E8C2-F2F6-4DE6-833C-16E2A7E4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9574-48E6-44DA-B425-2D6A379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5A61-6AB7-4105-B238-A6A8834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E79B-E692-4FC2-ACC5-8821FC1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E88B-8338-49BF-9A45-A51EFBF5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0239-3437-4BF4-8D60-2893E4F1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D8CC-E99B-4F9D-860F-5F90146C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D31A-02BA-428B-9676-6DDA575A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159-8662-4845-AC90-D3B3802D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9437-9065-4F12-AB68-6159CDBF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C208-8DD8-43F8-AFE5-50D1D18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165D5-C20B-4457-9308-C2586E0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9FFB2-8CB0-4F5A-9AEC-8E581F89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861F-58DD-4E0D-BFF3-938D91B5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2762-689A-4C45-860B-DD9520CB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C01C-C07E-47D2-AF76-9122CE6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AB9CA-7E0A-475D-BEB1-756B43A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386E-2AEF-44D5-9D99-90143B49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1E2EA-A266-49F8-A213-303C0C75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3B0-8ACA-4873-894C-C9A032DE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986B-4CC9-4E9C-940E-7CFF5206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F8C-D710-4514-B31A-4B85230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EB9-0FDA-420A-BB58-DE02324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570-926E-40AF-9916-7ED0F75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2CA2-6D23-4EF7-8E8B-18CDB0D016DD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A3B2-520B-4B62-8F92-B5C7CA4E6288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A21D-9552-4B74-9E61-AFB2954F0756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E77E-5E98-42F2-8386-CD2638B611CD}" type="slidenum">
              <a:rPr b="0" lang="nl-NL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510-E18E-4A24-8789-07DEE82D8036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6"/>
          </p:nvPr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7"/>
          </p:nvPr>
        </p:nvSpPr>
        <p:spPr>
          <a:xfrm>
            <a:off x="899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48DC-152E-4365-94F3-D5078982135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Franklin Gothic Medium"/>
              </a:rPr>
              <a:t>FOSTER CARE IN THE NETHERLAND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RENE DE BOT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DECEMBER 2012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Tijdelijke aanduiding voor afbeelding 5" descr="C:\Users\Rene de Bot\Documents\Scan0005 - kopie.jpg"/>
          <p:cNvPicPr/>
          <p:nvPr/>
        </p:nvPicPr>
        <p:blipFill>
          <a:blip r:embed="rId1"/>
          <a:srcRect l="0" t="23612" r="0" b="23612"/>
          <a:stretch/>
        </p:blipFill>
        <p:spPr>
          <a:xfrm>
            <a:off x="-684360" y="0"/>
            <a:ext cx="52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57160" y="260280"/>
            <a:ext cx="79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BABY HATCH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Picture 3" descr="C:\Users\Rene de Bot\Pictures\italie\DSC00045.JPG"/>
          <p:cNvPicPr/>
          <p:nvPr/>
        </p:nvPicPr>
        <p:blipFill>
          <a:blip r:embed="rId1"/>
          <a:stretch/>
        </p:blipFill>
        <p:spPr>
          <a:xfrm>
            <a:off x="1547640" y="1557360"/>
            <a:ext cx="3587760" cy="4784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Rene de Bot\Pictures\powerpoint materiaal\babywiege.jpg"/>
          <p:cNvPicPr/>
          <p:nvPr/>
        </p:nvPicPr>
        <p:blipFill>
          <a:blip r:embed="rId2"/>
          <a:stretch/>
        </p:blipFill>
        <p:spPr>
          <a:xfrm>
            <a:off x="6443640" y="5229360"/>
            <a:ext cx="247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8389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Rene de Bot\Mijn documenten\0.1. Mijn afbeeldingen\weeshuis brielle.jpg"/>
          <p:cNvPicPr/>
          <p:nvPr/>
        </p:nvPicPr>
        <p:blipFill>
          <a:blip r:embed="rId1"/>
          <a:stretch/>
        </p:blipFill>
        <p:spPr>
          <a:xfrm>
            <a:off x="457200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Documents and Settings\Rene de Bot\Mijn documenten\0.1. Mijn afbeeldingen\catharijnekerk.png"/>
          <p:cNvPicPr/>
          <p:nvPr/>
        </p:nvPicPr>
        <p:blipFill>
          <a:blip r:embed="rId2"/>
          <a:stretch/>
        </p:blipFill>
        <p:spPr>
          <a:xfrm>
            <a:off x="179280" y="476280"/>
            <a:ext cx="3811680" cy="5081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C:\Users\Rene de Bot\Pictures\powerpoint materiaal\oliver twist.jpg"/>
          <p:cNvPicPr/>
          <p:nvPr/>
        </p:nvPicPr>
        <p:blipFill>
          <a:blip r:embed="rId3"/>
          <a:stretch/>
        </p:blipFill>
        <p:spPr>
          <a:xfrm>
            <a:off x="6591240" y="1125360"/>
            <a:ext cx="2551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958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8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8" name="Picture 4" descr="weeshuis"/>
          <p:cNvPicPr/>
          <p:nvPr/>
        </p:nvPicPr>
        <p:blipFill>
          <a:blip r:embed="rId1"/>
          <a:stretch/>
        </p:blipFill>
        <p:spPr>
          <a:xfrm>
            <a:off x="-324000" y="1628640"/>
            <a:ext cx="982836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96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0" name="Picture 4" descr="ifco2013"/>
          <p:cNvPicPr/>
          <p:nvPr/>
        </p:nvPicPr>
        <p:blipFill>
          <a:blip r:embed="rId1"/>
          <a:stretch/>
        </p:blipFill>
        <p:spPr>
          <a:xfrm>
            <a:off x="2197080" y="1100160"/>
            <a:ext cx="47721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2" name="Picture 9" descr="vsl"/>
          <p:cNvPicPr/>
          <p:nvPr/>
        </p:nvPicPr>
        <p:blipFill>
          <a:blip r:embed="rId1"/>
          <a:stretch/>
        </p:blipFill>
        <p:spPr>
          <a:xfrm>
            <a:off x="3414600" y="98100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juul"/>
          <p:cNvPicPr/>
          <p:nvPr/>
        </p:nvPicPr>
        <p:blipFill>
          <a:blip r:embed="rId2"/>
          <a:stretch/>
        </p:blipFill>
        <p:spPr>
          <a:xfrm>
            <a:off x="6443640" y="184464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dijk"/>
          <p:cNvPicPr/>
          <p:nvPr/>
        </p:nvPicPr>
        <p:blipFill>
          <a:blip r:embed="rId3"/>
          <a:stretch/>
        </p:blipFill>
        <p:spPr>
          <a:xfrm>
            <a:off x="900000" y="2428920"/>
            <a:ext cx="2362320" cy="2012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sita"/>
          <p:cNvPicPr/>
          <p:nvPr/>
        </p:nvPicPr>
        <p:blipFill>
          <a:blip r:embed="rId4"/>
          <a:stretch/>
        </p:blipFill>
        <p:spPr>
          <a:xfrm>
            <a:off x="4788000" y="4005360"/>
            <a:ext cx="2857320" cy="2136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malmo"/>
          <p:cNvPicPr/>
          <p:nvPr/>
        </p:nvPicPr>
        <p:blipFill>
          <a:blip r:embed="rId5"/>
          <a:stretch/>
        </p:blipFill>
        <p:spPr>
          <a:xfrm>
            <a:off x="1547640" y="4708440"/>
            <a:ext cx="28576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FLEXUSJEUGDPLEI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700 employe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One organisation fo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ily coach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 social wor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sidential car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9" name="Picture 6" descr="FlexusJeugdplein_logo_PMS klein"/>
          <p:cNvPicPr/>
          <p:nvPr/>
        </p:nvPicPr>
        <p:blipFill>
          <a:blip r:embed="rId1"/>
          <a:stretch/>
        </p:blipFill>
        <p:spPr>
          <a:xfrm>
            <a:off x="7740720" y="115920"/>
            <a:ext cx="13190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ifco2006"/>
          <p:cNvPicPr/>
          <p:nvPr/>
        </p:nvPicPr>
        <p:blipFill>
          <a:blip r:embed="rId1"/>
          <a:stretch/>
        </p:blipFill>
        <p:spPr>
          <a:xfrm>
            <a:off x="900000" y="1741320"/>
            <a:ext cx="7704360" cy="511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ifco2010"/>
          <p:cNvPicPr/>
          <p:nvPr/>
        </p:nvPicPr>
        <p:blipFill>
          <a:blip r:embed="rId2"/>
          <a:stretch/>
        </p:blipFill>
        <p:spPr>
          <a:xfrm>
            <a:off x="7093080" y="-4140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AMILY AND YOUTH CENT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3" name="Picture 2" descr="C:\Users\Rene de Bot\Pictures\powerpoint materiaal\cjg 1.jpg"/>
          <p:cNvPicPr/>
          <p:nvPr/>
        </p:nvPicPr>
        <p:blipFill>
          <a:blip r:embed="rId1"/>
          <a:stretch/>
        </p:blipFill>
        <p:spPr>
          <a:xfrm>
            <a:off x="4067280" y="2193840"/>
            <a:ext cx="3028680" cy="173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Rene de Bot\Pictures\powerpoint materiaal\cjg 2.jpg"/>
          <p:cNvPicPr/>
          <p:nvPr/>
        </p:nvPicPr>
        <p:blipFill>
          <a:blip r:embed="rId2"/>
          <a:stretch/>
        </p:blipFill>
        <p:spPr>
          <a:xfrm>
            <a:off x="1332000" y="217188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Rene de Bot\Pictures\powerpoint materiaal\cjg 4.jpg"/>
          <p:cNvPicPr/>
          <p:nvPr/>
        </p:nvPicPr>
        <p:blipFill>
          <a:blip r:embed="rId3"/>
          <a:stretch/>
        </p:blipFill>
        <p:spPr>
          <a:xfrm>
            <a:off x="5724360" y="5160960"/>
            <a:ext cx="2733840" cy="167652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6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4"/>
          <a:stretch/>
        </p:blipFill>
        <p:spPr>
          <a:xfrm>
            <a:off x="6804000" y="168120"/>
            <a:ext cx="19098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532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OUTPLACEMENT BECAUSE OF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problems  ( psychiatry, drugs/alcohol addiction, domestic violence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problems (problematic behavior, low intelligence, psychiatry, handicap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mbination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(poverty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OUR MISSION STAT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1922400" y="1100160"/>
            <a:ext cx="53215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1" name="Picture 2" descr="C:\Users\Rene de Bot\Pictures\powerpoint materiaal\sint 1.png"/>
          <p:cNvPicPr/>
          <p:nvPr/>
        </p:nvPicPr>
        <p:blipFill>
          <a:blip r:embed="rId1"/>
          <a:stretch/>
        </p:blipFill>
        <p:spPr>
          <a:xfrm>
            <a:off x="1116000" y="1184400"/>
            <a:ext cx="3384720" cy="22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Rene de Bot\Pictures\powerpoint materiaal\sint 2.jpg"/>
          <p:cNvPicPr/>
          <p:nvPr/>
        </p:nvPicPr>
        <p:blipFill>
          <a:blip r:embed="rId2"/>
          <a:stretch/>
        </p:blipFill>
        <p:spPr>
          <a:xfrm>
            <a:off x="550872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Rene de Bot\Pictures\powerpoint materiaal\sint 3.jpg"/>
          <p:cNvPicPr/>
          <p:nvPr/>
        </p:nvPicPr>
        <p:blipFill>
          <a:blip r:embed="rId3"/>
          <a:stretch/>
        </p:blipFill>
        <p:spPr>
          <a:xfrm>
            <a:off x="3352680" y="3903840"/>
            <a:ext cx="3389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6998" r="0" b="0"/>
          <a:stretch/>
        </p:blipFill>
        <p:spPr>
          <a:xfrm>
            <a:off x="2228760" y="2548080"/>
            <a:ext cx="46864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rcRect l="0" t="15455" r="0" b="18170"/>
          <a:stretch/>
        </p:blipFill>
        <p:spPr>
          <a:xfrm>
            <a:off x="1547640" y="1557360"/>
            <a:ext cx="8218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YPES OF FOSTER CARE</a:t>
            </a: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crisis intervention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4weeks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temporary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treatment and return home or other permanent solu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permanent care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stays with foster family until 18 +: permanent family member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short break foster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weekend/ holiday 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57160" y="-459000"/>
            <a:ext cx="79581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GE OF THE DUTCH FOSTER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1% are girls , 49% boy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afiek 5" descr=""/>
          <p:cNvPicPr/>
          <p:nvPr/>
        </p:nvPicPr>
        <p:blipFill>
          <a:blip r:embed="rId1"/>
          <a:stretch/>
        </p:blipFill>
        <p:spPr>
          <a:xfrm>
            <a:off x="1523880" y="1857240"/>
            <a:ext cx="72630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57160" y="189000"/>
            <a:ext cx="7958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URATION OF THE PLAC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880" y="2071800"/>
            <a:ext cx="7672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0 -   3 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34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 –   6 months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3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6 – 12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7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 – 2   years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5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onger than 2 year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1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 PROTEC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Voluntary placement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limited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withdrawn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WHO MAKES THE DECISION FOR OUTPLACEMEN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r social workers residential care is easier  than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al educators: their opinion about foster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are   ( their experiences with  break dow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ack and quality of foster parents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40" name="Picture 2" descr="C:\Users\Rene de Bot\Pictures\montenegro\P1020373.JPG"/>
          <p:cNvPicPr/>
          <p:nvPr/>
        </p:nvPicPr>
        <p:blipFill>
          <a:blip r:embed="rId1"/>
          <a:stretch/>
        </p:blipFill>
        <p:spPr>
          <a:xfrm>
            <a:off x="2197080" y="1100160"/>
            <a:ext cx="6561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GATE KEEP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More knowledge for social workers about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eal care:  negative long term effec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When institutions are available, they will be used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So recruiting new foster families is only part of the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dea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EVERY CHILD: STELA GRIGORAS AND HER COLLEAGUES ARE HONOURE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6000" spc="-1" strike="noStrike">
                <a:solidFill>
                  <a:srgbClr val="000000"/>
                </a:solidFill>
                <a:latin typeface="Franklin Gothic Medium"/>
              </a:rPr>
              <a:t>YES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OSTER CARE IS POSSIBLE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EAP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ND IN THE INTEREST OF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1100" spc="-1" strike="noStrike">
                <a:solidFill>
                  <a:srgbClr val="000000"/>
                </a:solidFill>
                <a:latin typeface="Franklin Gothic Medium"/>
              </a:rPr>
              <a:t>(ROTTERDAM: 1.000.000 INHABITANTS, 1200 FOSTER FAMILIES).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LOSING INSTITUTIONS: MOLDOVA EXAMP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build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employee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HANDOU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Give me your businesscard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r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E mail adres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9" name="Picture 2" descr="C:\Users\Rene de Bot\Pictures\powerpoint materiaal\bollenvelden.jpg"/>
          <p:cNvPicPr/>
          <p:nvPr/>
        </p:nvPicPr>
        <p:blipFill>
          <a:blip r:embed="rId1"/>
          <a:stretch/>
        </p:blipFill>
        <p:spPr>
          <a:xfrm>
            <a:off x="4289400" y="1878120"/>
            <a:ext cx="4491000" cy="335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Users\Rene de Bot\Pictures\powerpoint materiaal\molens.jpg"/>
          <p:cNvPicPr/>
          <p:nvPr/>
        </p:nvPicPr>
        <p:blipFill>
          <a:blip r:embed="rId2"/>
          <a:stretch/>
        </p:blipFill>
        <p:spPr>
          <a:xfrm>
            <a:off x="0" y="2182680"/>
            <a:ext cx="34923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9581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ROTTERDAM: 170 NATIONALITI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2" name="Picture 5" descr="C:\Documents and Settings\Rene de Bot\Mijn documenten\0.1. Mijn afbeeldingen\aboutaleb 2.jpg"/>
          <p:cNvPicPr/>
          <p:nvPr/>
        </p:nvPicPr>
        <p:blipFill>
          <a:blip r:embed="rId1"/>
          <a:stretch/>
        </p:blipFill>
        <p:spPr>
          <a:xfrm>
            <a:off x="3855960" y="1860480"/>
            <a:ext cx="2657520" cy="1724040"/>
          </a:xfrm>
          <a:prstGeom prst="rect">
            <a:avLst/>
          </a:prstGeom>
          <a:ln w="0">
            <a:noFill/>
          </a:ln>
        </p:spPr>
      </p:pic>
      <p:sp>
        <p:nvSpPr>
          <p:cNvPr id="273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ocuments and Settings\Rene de Bot\Mijn documenten\0.1. Mijn afbeeldingen\rotterdam achterbuurt 1.jpg"/>
          <p:cNvPicPr/>
          <p:nvPr/>
        </p:nvPicPr>
        <p:blipFill>
          <a:blip r:embed="rId2"/>
          <a:stretch/>
        </p:blipFill>
        <p:spPr>
          <a:xfrm>
            <a:off x="4716360" y="4259160"/>
            <a:ext cx="3665520" cy="2092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Documents and Settings\Rene de Bot\Mijn documenten\0.1. Mijn afbeeldingen\moderne flat.jpg"/>
          <p:cNvPicPr/>
          <p:nvPr/>
        </p:nvPicPr>
        <p:blipFill>
          <a:blip r:embed="rId3"/>
          <a:stretch/>
        </p:blipFill>
        <p:spPr>
          <a:xfrm>
            <a:off x="284040" y="1125360"/>
            <a:ext cx="3387960" cy="316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C:\Documents and Settings\Rene de Bot\Mijn documenten\0.1. Mijn afbeeldingen\hooligans.jpg"/>
          <p:cNvPicPr/>
          <p:nvPr/>
        </p:nvPicPr>
        <p:blipFill>
          <a:blip r:embed="rId4"/>
          <a:stretch/>
        </p:blipFill>
        <p:spPr>
          <a:xfrm>
            <a:off x="826920" y="4581360"/>
            <a:ext cx="2441880" cy="1584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Rene de Bot\Pictures\powerpoint materiaal\orthodoxe kerk.jpg"/>
          <p:cNvPicPr/>
          <p:nvPr/>
        </p:nvPicPr>
        <p:blipFill>
          <a:blip r:embed="rId5"/>
          <a:stretch/>
        </p:blipFill>
        <p:spPr>
          <a:xfrm>
            <a:off x="7020000" y="111744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OME DEMOGRAPHIC INFORM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12720" y="2060280"/>
            <a:ext cx="8153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6.000.000 inhabitan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.600.000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50.000 childcare clients ( 4,5%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( 7 %).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41320" y="-15840"/>
            <a:ext cx="7958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MOZES IN THE WOODEN BASKE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2" name="Picture 2" descr="C:\Users\Rene de Bot\Pictures\powerpoint materiaal\rembrandt_mozes_mandje.jpg"/>
          <p:cNvPicPr/>
          <p:nvPr/>
        </p:nvPicPr>
        <p:blipFill>
          <a:blip r:embed="rId1"/>
          <a:stretch/>
        </p:blipFill>
        <p:spPr>
          <a:xfrm>
            <a:off x="1692360" y="1844640"/>
            <a:ext cx="62578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7160" y="333000"/>
            <a:ext cx="79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LORENCE 15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2" descr="C:\Users\Rene de Bot\Pictures\powerpoint materiaal\Spedale_degli_Innocenti 1.jpg"/>
          <p:cNvPicPr/>
          <p:nvPr/>
        </p:nvPicPr>
        <p:blipFill>
          <a:blip r:embed="rId1"/>
          <a:stretch/>
        </p:blipFill>
        <p:spPr>
          <a:xfrm>
            <a:off x="1476360" y="17082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Rene de Bot</cp:lastModifiedBy>
  <dcterms:modified xsi:type="dcterms:W3CDTF">2013-01-10T15:57:42Z</dcterms:modified>
  <cp:revision>304</cp:revision>
  <dc:subject/>
  <dc:title>Dia 1</dc:title>
</cp:coreProperties>
</file>