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EDF-254E-4CD5-BC83-0CB3AD4E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04E-5242-423C-ACEA-CAF4883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C8-B745-44DD-8469-A14D8B4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DE5-A713-4D37-84EF-1BD0E641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B03-933B-4057-BA1A-1D3F9AE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E5D-C4CB-400D-81E4-3B862018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138-CE61-4CF6-84DE-EFEF2E58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537-F98D-4FC0-AEA3-77BC130E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AA3-EBAD-4FDD-BD07-779DD8A9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D31-D498-40BA-A727-A72ED03D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55B5-1804-4CE1-A103-5F8D6285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39C7-9A24-4275-83D4-04F98FF2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42DA-DCFF-4D20-9D4B-661519B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822C-73CE-49C5-8924-27E79462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1C42-D760-41D6-831D-72F95D4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8F3F-D75E-4F08-BAF5-17F6999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DF26-802A-40B3-A018-12F4879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335-864B-4DFF-A324-18C3625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977F-E21C-4835-A0AC-A8EE1FE0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AB8-F0FB-45AF-AA77-A810E7C8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02E-2CE1-4FC2-9EDA-A91A82D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2E64-7105-41C7-9928-D967BAD9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945E-4381-45C7-A1C4-AF69750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DC59-3993-4C15-AD40-8B24DD0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D0B3-DB26-4E48-9F11-CC3DFCA0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0856-F861-4B42-92B4-BB9EFAE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28AA-1ACD-46F6-A1C5-3AF01AB3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94C5-F5CF-4C87-9A3F-F8EF11A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D74C-6992-42F3-83EC-AD573A7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ABCC-8CFA-4827-9C01-EE47E1C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B35-849A-49E0-9157-69FE932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4DFB-CFCA-4AB2-88A1-FE490C6C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1858-7B6B-4B12-9903-0E8F7BA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EAC8-E08C-467C-BC70-DEE11F92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0FB5-B93D-42FC-9F6C-A9DB4244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D87E-CE87-49BF-AE50-2EA89DD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28AB-ED2C-46B5-BE28-2EA3D0B8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4F35-DA4A-42D1-81EC-D62CEC3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1B592-F458-410F-9173-10A6C2A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1644-FCEF-4A71-A6E1-D2B85FA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48D3-12D0-428F-A103-7896634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FC5-465E-4428-A221-FC89A11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3162-E6D8-4EC9-8EBA-2C017F8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EB72-468F-4ADC-BD30-7AA9CB7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8B45-3527-496A-ABD7-87DF339E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7452-8E86-4C22-B26C-2D8966CE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900C-C57B-4D70-84E2-12A8673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D5F9-BE74-4022-84E0-08C4D5C0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BA8C-920B-4164-B932-DF01F6E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4F5C-D8E5-4000-A4BA-C15442F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3EE2D-8C89-4F07-A9CE-70FA50DC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539E-4C35-43AE-858F-12DFDFB8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AEF-DBCE-4C81-B6BF-86EDCFC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228C-132A-41F2-A7AE-D73A716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B8B6-1F62-4F21-A37C-522ED5F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A118-C874-4336-923A-BA667F2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CC45-E8F2-4193-8221-B4BD3FA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45B0-BCDC-4F71-B186-89E53B07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A8214-BAD9-4474-8DF7-FF316603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1CDB-1A72-4D6E-A75F-802091C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05F0-C9FB-416A-B567-5BDFBF49C4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DAD-166E-4508-BA4E-7F77E0EB6E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607-696E-43D5-B8C3-71EDB8E4A88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E7D4-3802-4C37-AA80-940B377ECD1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22B-7B80-401B-90ED-537EDFB529E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872-737C-4C12-8010-AAB4D2F15FD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2B2-9143-4B9B-A3B4-2D647761F5E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4082-45B1-48DA-B505-EB355E51ECA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052A-4DE4-4D21-A986-FF9F1D6D535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A08D-8AC8-49AC-B6B9-AA564A3950D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byty cizinců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33"/>
                </a:solidFill>
                <a:latin typeface="Verdana"/>
              </a:rPr>
              <a:t>Typy pobytu cizinců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844640"/>
            <a:ext cx="7858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EU a jejich rodinní příslušníci : přechodný x trvalý pobyt (viz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č. 326/1999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„zákon o pobytu cizinců“ – novela od 1.1. 201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čané z tzv. třetích zemí: přechodný x trvalý pobyt (viz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o pobytu cizinců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datelé o udělení mezinárodní ochrany x azylanti x osoby požívající doplňkové ochrany (zákon č. 325/1999  Sb. - „zákon o azylu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680"/>
            <a:ext cx="69721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byt občanů tzv. třetích zemí na území ČR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00000" y="1773000"/>
            <a:ext cx="7886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řechodný poby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Krátkodobý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bez víz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průjezdní, letištní,výjezdní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do 90dnů (krátkodobé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Times New Roman"/>
              </a:rPr>
              <a:t>Dlouhodobý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vízum zvláštní, diplomatické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ízum nad 90dnů (dlouhodobé)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volení k dlouhodobému pobytu.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rvalý pobyt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…povolení k trvalému poby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* status dlouhodobě pobývajícího rezidenta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dělávání na státní škole je bezplatné, platíme pouze za stravování ve školní jídelně, za školní družiny, kroužky a na středních školách za ubytová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 škola pro cizince zdarma, pokud studují v češti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kolné se plat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uz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v soukromých školá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echodný poby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6560" y="1699920"/>
            <a:ext cx="7959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) Krátkodobý poby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bez víz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seznam tzv. třetích zemí bez vízové povinnosti (nařízení Rady č.539/2001 – tzv. „pozitivní seznam“) http://www.mvcr.cz/clanek/podminky-vstupu-a-pobytu-cizincu-na-uzemi-ceske-republiky-701621.aspx?q=Y2hudW09NQ%3d%3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s vízem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seznam států, které mají vízovou povinnost viz. Nařízení Rady (ES) č. 539/2001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Krátkodobé vízum (vízum do 90 dnů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) 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– žádost se podává zpravidla na zastupitelském úřadu, nutné doložit účel pobytu, zpravidla 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Verdana"/>
              </a:rPr>
              <a:t>Jednotné schengenské vízum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ádost o prodloužení na území se podává na cizinecké poli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00280"/>
            <a:ext cx="77439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) Dlouhodobý poby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ízum k pobytu nad 90 dnů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(dlouhodobé vízum) žádost na zastupitelském úřadě místně příslušné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yp C+D i pro Schengenský prostor, typ D jen pro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- restri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ttp://www.mzv.cz/jnp/cz/informace_pro_cizince/mistni_prislusnost_zu_v_rizeni_o_vizum_a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628280"/>
            <a:ext cx="774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hoduje ministerstvo vnitra, povinnost doložit účel pobytu (§33 výjimk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Od 1.1. 2011 doba platnosti na 6 měsíců (§30 ods.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Účel podnikání – vždy povinné interview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3 ods.4: ZÚ písemně informuje cizince o důvodech nepřípustnosti žádosti a vrátí správní poplate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§56 ods.4: ministerstvo písemně cizince informuje o důvodech neudělení dlouhodobého víza a jeho právu podat žádost o nové posouzení důvodů neudělení DV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o 15 dnů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od doručení rozhodnut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 povolení k dlouhodobému pobytu – žádá cizinec na území ČR pro pobyt delší než 6 měsíců navazující na dlouhodobé vízum (tzv. prodloužení pobyt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utné zachovat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l pobytu (§42 ods.1), rozhoduje MV, lhůta podání nejdříve 90 -nejpozději 14 dn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dlužování D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té již lze měnit účel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§4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účelu na podnikání až po 2 letech pobytu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71280" y="1628280"/>
            <a:ext cx="7848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ýjimky: žádost o DP bez předchozího pobytu na vízum na ZÚ: účel společného soužití rodiny, studium, vědecký výzkum (§42, ods.3). http://www.mzv.cz/jnp/cz/informace_pro_cizince/mistni_prislusnost_zu_v_rizeni_o_vizum_a/index.htm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yhláška č.462/2008 Sb. Místní příslušnost zastupitelských úřadů – restrikc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Lhůta k vyřízení 60 dnů (společné soužití rodiny – 270 dnů ode dne podání žád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ovinka!!! žádost o nové povolení nutno podat osobně (§169 ods.14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Zelené kart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915920"/>
            <a:ext cx="77439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d 1.1. 2009 zaveden systém zelených karet („2 in 1“ – povolení k pobytu a k zaměstnání dohroma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 kategor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Š kvalifikace, klíčový personál, až 3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inimálně SOU, až 2 ro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arenR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tatní – bez kvalifikace, až 2 roky – bez možnosti prodlouž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entrální evidence volných pracovních míst pro držitele zelené karty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portal.mpsv.cz/sz/zahr_zam/zel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uze pro příslušníky 12 zemí </a:t>
            </a:r>
            <a:r>
              <a:rPr b="0" lang="cs-CZ" sz="2400" spc="-1" strike="noStrike">
                <a:solidFill>
                  <a:srgbClr val="ccccff"/>
                </a:solidFill>
                <a:latin typeface="Verdana"/>
              </a:rPr>
              <a:t>http://www.mvcr.cz/clanek/zelene-karty.aspx?q=Y2hudW09Ng%3D%3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konce roku 2010 vydáno 51 karet (78% zamítnuto – důvod: neodpovídající vzdělání, nesplnění podmínek), 80% žadatelů z Ukraji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fektivita projektu spekulativ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4800" indent="-60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71280" y="1844280"/>
            <a:ext cx="7815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rátkodobý pobyt (krátkodobý vízum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do 90 dnů – typ C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хугацаагаар оршин суу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louhodobé vízum (nad 90 dnů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Удаа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čel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шин суухын зорилого ( гэр бүлийн, оюутны гэх мэт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Trvalý pobyt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айнгын хугацаагаар оршин суу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Dlouhodobý pobyt typ „Modrá kart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71280" y="1714680"/>
            <a:ext cx="781524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vysoce kvalifikované migranty (ukončené VŠ vzdělání, nebo VoŠ min.doba studia 3 rok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ádost se podává na ZÚ, i na území Č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mínk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acovní smlouva na dobu min. 1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še hrubé roční mzdy min. 1,5 násobku průměrné hrubé roční mzdy stanovené vyhláškou MPS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ba platnosti max.2 roky, lze prodlouž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měna zaměstnavatele během prvních 2 let jen se souhlasem M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 5 letech pobytu v EU možnost získat trvalý pobyt/postavení dlouhodobě pobývající residenta v Evropském společenství, přičemž poslední 2 roky musí pobývat  jako držitel modré karty na území České republi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 doby 5 let se započítávají pobyty na modrou kartu z různých členských států Evropské unie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ožněno sloučení rodiny ih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droj informac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gr. Eva Dohnalová, InBáze BERKAT o.s – přednáška o pobytu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mvcr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ww.cizinci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etištní vízum (typ A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Нисэх онгоцны буудал дээр дамжин өнгөрө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jezdní vízum (typ B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Дамжин өнгөрөх виз - 5 хоногийн хүчинтэ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C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Шенгений нутаг дэвсгэр дээр зорчих в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ízum typu D –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Зөвхөн БНЧУ-ын нутаг дэвсгэрт зорчих виз, 5 хоногийн Шенгений  дамжин өнгөрөх ви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oučení rodin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эр бүли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městn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ажил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nik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изнес эрхлэ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tudium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су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zku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 эрдэм шинжилгээний ажил хий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bčanství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 – Иргэнши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Povolení k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dlouhodobému/trvalému pobytu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огино / байнгын хугацааны оршин суухын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volení k zaměstnán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 эрхлэх зөвшөөр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Úřad práce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Хөдөлмөрийн товчоо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izinecký zákon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Гадаад иргэдийн зохион байгуулах хуу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 Европын Холбооны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čany mimo E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tátní příslušníky třetích zemí) – Европын Холбооны бус (гуравдагч орнуудын) ирг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chegenský prosto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chegen) – Шенгений нутаг дэвсгэ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Volné pracovní místo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жилын сул орон т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stupitelský úřad ČR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БНЧУ-ын элчин сайдын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jezdní příkaz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Гарч явах тушаа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400" spc="-1" strike="noStrike">
                <a:solidFill>
                  <a:srgbClr val="000000"/>
                </a:solidFill>
                <a:latin typeface="Verdana"/>
              </a:rPr>
              <a:t>VZ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(veřejné zdravotní pojišťovna)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Бүх нийтийн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Улсын бүртгэлтэй нийт 13 эрүүл мэндийн даатгалын газар байдгаас хамгийн өргөн дэлгэр тархсан эрүүл мэндийн даатгал нь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ZP (všeobecná zdravotní pojišťovna) -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рөнхий эрүүл мэндийн даатгал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Хөдөлмөр эрхлэх (ногоон эрүүл мэндийн карт), байнгын оршин суух зөвшөөрөлтөй (цэнхэр эрүүл мэндийн карт) үед энэ төрлийн даатгалд хамаарагд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Komerční zdravotní pojišťovn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арилжааны эрүүл мэндийн даатг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Cizinecká policie – oddělení pobytových agen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Гадаад иргэдийг хариуцсан цагдаагийн байгуул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Ministerstva vnitra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Дотоод я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or azylové a migrační politiky  </a:t>
            </a:r>
            <a:r>
              <a:rPr b="0" lang="mn-Cyrl-MN" sz="2400" spc="-1" strike="noStrike">
                <a:solidFill>
                  <a:srgbClr val="000000"/>
                </a:solidFill>
                <a:latin typeface="Verdana"/>
              </a:rPr>
              <a:t>– орогнол ба шилжин суурьших бодлогын хэлтэс (дотоод яамны цагаачилалын алб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8:19Z</dcterms:modified>
  <cp:revision>223</cp:revision>
  <dc:subject/>
  <dc:title>Snímek 1</dc:title>
</cp:coreProperties>
</file>