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A44C-3390-4A7D-8C06-69AA5651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27C4-31CF-402B-859B-1BA1042C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19B7-3648-4999-ACE9-236BB1F07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8B3E-B05B-47E0-811A-517FEEC75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4D67-FAD0-4546-9001-E6852375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4B78-38DB-4B6B-8C6D-C5CE6E1D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8B7F-98EC-4351-BB7A-1E001616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9B79-775B-4634-8052-BF60FEDF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D27E-9C24-407C-AB7E-1A16F767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39AD-FABC-44CE-B075-6DC48A84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8DFF-E81B-4B03-9FE5-676C1455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22E9-62CA-4B6F-A399-8A6CD6AC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52EF-D373-4D81-BFF2-E733D25C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362C-5292-4BAB-9AEF-0150E0BE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72F7-34F1-495D-9774-3B13FD66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466C-6542-424B-BDD9-3AA438DE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0483-C224-4C55-B382-9E5344C1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45AB-9C42-4BDD-B0B8-BFD647FF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DF4E-B917-474B-8D8E-E2F10758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6026-C1FA-4FBF-92A2-A021DB67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E74C-6DB8-4FA2-8160-EB55C222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8D4AC-0EB6-4777-A34A-192E94385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26CDF-CDC0-4AFB-B2FB-0CD2B5DD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35832-4F03-4CEC-84AF-2F31BE44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22F0B-CB9E-481F-B873-FCFAD0EF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C68CB-4EB7-4302-AED9-1D16E3A1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90E98-2C69-4431-A32A-C3779B74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3D756-3B67-4F20-92BA-DCA813A5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FB043-067E-4285-AB4E-483E5D15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A3B54-1124-459A-BAF4-4E7F9CC5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A732-6F6B-4337-A537-38021EC9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E6084-00E0-466D-8237-C218BAA4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97928-4E3C-4A06-9121-743AB3F54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6C891-6FD7-4E2B-9B7C-B2E21C78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07D8F-147D-4FA8-84BC-1BC202EAB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A121E-8E62-44A2-8D03-3BA9C22B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A76B3-647F-4047-AAC0-FA06016C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F25CD-DE93-4E2B-AD55-FBC08221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9A3F8-0671-4F50-919A-41C2CB22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EE2E6-3F94-4E67-B45A-CD67FB2C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E7F00-B3A6-4E1A-B8D9-4D5644F6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0580-40AF-4F8F-A18E-11D07B06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B682D-96A0-4259-AC9D-C9DC757A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904AA-829C-465C-B1FF-922CDC6B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BEDF8-BEF3-4567-BBFB-9D58058B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8B3A2-42C2-4E58-A25D-8102762F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086EF-B647-4C40-A32F-EB7E8DA9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3ED95-AEFA-4767-A54F-2C54D87C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54936-2F52-4A88-A450-D740CD0F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1A99C-A1DE-4403-B7B9-F678779E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0CE98-6FB0-4A09-884B-4C0F07B6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6276D-15DD-4753-860B-1280281F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AF96-0B7B-4495-8A6F-33D49CEA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13307-9B3C-4578-B9D7-C4BC3264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7E1F5-41D0-4CAA-A908-C725A196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4882F-C5A5-4111-B51D-F0EF8086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84FAE-FA62-4BC3-8A85-61C83DDF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8F109-CF24-4FFF-92AB-316FE049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FAD4F-C6C3-4EB5-9E19-C5C5E7982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8A00C-B10E-47D3-A605-78A85C6FE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8C29-C915-4C37-BCD2-6015A334743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93A4-E1D1-433A-8E86-A7B8AFFCBF3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2545-4BD5-415C-991E-00F07001D61E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B3BB-9F4D-4F29-BA47-85E8C964D81D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6002-E166-426A-A09B-AD5B7ECE4FBA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5A73-9547-4282-9F33-E80E1B0E6FCA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F6A4-F37E-48E9-906D-BD5665FB6E8E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4D6F-AFA6-4C18-A106-DF0D0072F419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9171-F706-4D50-98C6-AD253E2E4A54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C70E-120B-4CFD-8073-BFB76E1C3C4B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meta-os.cz/" TargetMode="External"/><Relationship Id="rId2" Type="http://schemas.openxmlformats.org/officeDocument/2006/relationships/hyperlink" Target="http://www.inkluzivniskola.cz/" TargetMode="External"/><Relationship Id="rId3" Type="http://schemas.openxmlformats.org/officeDocument/2006/relationships/hyperlink" Target="http://www.cizinci.cz/" TargetMode="External"/><Relationship Id="rId4" Type="http://schemas.openxmlformats.org/officeDocument/2006/relationships/hyperlink" Target="http://www.icm.cz/" TargetMode="External"/><Relationship Id="rId5" Type="http://schemas.openxmlformats.org/officeDocument/2006/relationships/hyperlink" Target="http://www.nvf.cz/" TargetMode="External"/><Relationship Id="rId6" Type="http://schemas.openxmlformats.org/officeDocument/2006/relationships/hyperlink" Target="http://www.zdroj.cz/vzdelani/materske-skoly/" TargetMode="External"/><Relationship Id="rId7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928960" y="4436640"/>
            <a:ext cx="585792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,,</a:t>
            </a: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Sociální tlumočení ve styku s cizinci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- školství a vzdělává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ALTANGEREL Ochger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042560" y="1915920"/>
            <a:ext cx="77439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ateřská škola je určena pro dětí od 3 -6 let věk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 předškolnímu vzdělávání se přednostně přijímají děti v posledním roce před zahájením povinné školní docházk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o mateřské školy se děti přijímají na žádost rodičů (zákonných zástupců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ítě může být přijato k předškolnímu vzdělávání i v průběhu školního rok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Цэцэрлэгийн эрхлэгч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xүүхдийг цэцэрлэгт хүлээж авахыг шийдвэрлэнэ, зарим тохиолдолд хүүхдийг туршилтын хугацаагаар хүлээж авахаар тогтоодог бөгөөд энэ хугацаа 3 сар бай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ичээлийн шинэ жилд хүүхдүүдийг хүлээж авах тухай өргөдөл гаргах газар, огноо ба хугацааг цэцэрлэгийн эрхлэгч тогтоодо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826560" y="1773000"/>
            <a:ext cx="79599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Ředitel mateřské školy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rozhoduje o přijetí dítěte do mateřské školy, popřípadě o stanovení zkušebního pobytu dítěte, jehož délka nesmí přesáhnout 3 měsí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tanoví místo, termín a dobu pro podání žádostí o přijetí dětí k předškolnímu vzdělávání pro následující školní ro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042560" y="1628280"/>
            <a:ext cx="77439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үүхэд суурь боловсролд орохоос өмнө </a:t>
            </a:r>
            <a:r>
              <a:rPr b="0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хүүхдийн жигд биш хөгжлийн тэнцүүлэхэд туслах ба боловсролын тусгай хэрэгцээтэй хүүхдүүдэд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сургуулийн өмнөх боловсрол нь  сурган хүмүүжүүлэх тусгай халамж олгодо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edškolní vzdělávání napomáhá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vyrovnávat nerovnoměrnosti vývoje dětí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před vstupem do základního vzdělávání a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poskytuje speciálně pedagogickou péči dětem se speciálními vzdělávacími potřebam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042560" y="1628280"/>
            <a:ext cx="77439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Цэцэрлэгийн боловсрол, ажиллах нөхцлүүд, хооллолт, эрүүл мэнд ба аюулгүйг анхаарч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айгаа байдал,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үнэ хөлсийн тогтоомжийн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тухай дэлгэрэнгүй мэдээллийг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ŠMT-</a:t>
            </a:r>
            <a:r>
              <a:rPr b="0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ийн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č. 14/2005 Sb </a:t>
            </a:r>
            <a:r>
              <a:rPr b="0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тоот тогтоол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č. 43/2006 Sb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тогтоолд тусгагдсанаар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үүхэд залуучуудад боловсрол олгох ба хүмүүжүүлэх газрын ба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төвийн байр болон байр талбайн эрүүл ахуйн шаардлагуудын тухай 410/2005 тоот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тогтоолоор зохицуулда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042560" y="1628280"/>
            <a:ext cx="77439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Bližší podrobnosti o vzdělávání v mateřských školách, podmínkách provozu, stravování, o péči o zdraví a bezpečnost a o stanovení výše úplaty za předškolní vzdělávání, upravuje vyhláška MŠMT č.14/2005 Sb., o předškolním vzdělávání, ve znění vyhlášky č. 43/2006 Sb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yhláška 410/2005 o hygienických požadavcích na prostory a provoz zařízení a provozoven pro výchovu a vzdělávání dětí a mladistvý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Verdana"/>
              </a:rPr>
              <a:t>Бүртгүүлэхэд шаардлагатай баримтууд :</a:t>
            </a:r>
            <a:br>
              <a:rPr sz="2400"/>
            </a:br>
            <a:r>
              <a:rPr b="0" lang="cs-CZ" sz="2400" spc="-1" strike="noStrike">
                <a:solidFill>
                  <a:srgbClr val="990033"/>
                </a:solidFill>
                <a:latin typeface="Verdana"/>
              </a:rPr>
              <a:t>Potřebné dokumenty při zápis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928800" y="1197000"/>
            <a:ext cx="7858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Цэцэрлэгт орох хүсэлтийн өргөдө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Хүүхэддээ урьдчилан сэргийлэх болон хугацаат бакцин хийлгүүлсэн тухай барим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Хүүхдийн эмчийн дүгнэлт, эрүүл мэндий даатга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Эцэг эхийн (хуул ёсны төлөөлөгч) гадаад паспор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Цэцэрлэгийн эрхлэгчээс гадаад иргэдэд зориулсан нэмэлт мэдээлэлийг авч бол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900000" y="1628280"/>
            <a:ext cx="78868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dání žádostí od rodičů (zákonných zástupců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oklad k potvrzení o povinném očkování dítě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tvrzení dětského lékaře o zdravotní způsobilosti dítěte (evidenční list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otožnosti průkazu rodiče a dítět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jistit si u ředitele materské školy, jestli jsou výjimky pro rodiče-cizinc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386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990033"/>
                </a:solidFill>
                <a:latin typeface="Verdana"/>
              </a:rPr>
              <a:t>Боловсролын төлбөр</a:t>
            </a:r>
            <a:br>
              <a:rPr sz="2800"/>
            </a:br>
            <a:r>
              <a:rPr b="0" lang="mn-Cyrl-MN" sz="2800" spc="-1" strike="noStrike">
                <a:solidFill>
                  <a:srgbClr val="990033"/>
                </a:solidFill>
                <a:latin typeface="Verdana"/>
              </a:rPr>
              <a:t>Úplata za předškolní vzdělávání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928800" y="1628280"/>
            <a:ext cx="78580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Цэцэрлэгийн боловсролын үнэ хөлсийг цэцэрлэгийн эрхлэгч тогтооно, 6 нас хүрсэн сүүлчийн жилд төлбөргүй байна(боловсролын хуулийн § 123 догол мөр 2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цэцэрлэгт сард 500 – 800 Kč төлбөр төлнө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хоолтойго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Úplatu za předškolní vzdělávání stanovuje ředitel mateřské školy, poslední ročník, ve kterém dítě dovrší 6ti let věku, se poskytuje bezúplatně (§ 123, odst.2 školského záko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o děti cena školné se pohybuje mezi 500-800Kč s jídlem za měsí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14320" y="333000"/>
            <a:ext cx="65293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үн бүр боловсрол эзэмших </a:t>
            </a:r>
            <a:r>
              <a:rPr b="1" lang="mn-Cyrl-MN" sz="2400" spc="-1" strike="noStrike">
                <a:solidFill>
                  <a:srgbClr val="000000"/>
                </a:solidFill>
                <a:latin typeface="Verdana"/>
              </a:rPr>
              <a:t>эрхтэй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уулиар тогтоосон хугацаагаар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ургуульд суралцах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үүрэг болно.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Үндсэн эрх ба эрх чөлөөний тухай тунхаглал бүлэг 33 догол мөр 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, Každý má právo na vzdělání.  Školní docházka je povinná po dobu, kterou stanoví zákon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(čl. 33 odst. 1. Listiny základních práv a svobo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14320" y="549360"/>
            <a:ext cx="68180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400" spc="-1" strike="noStrike">
                <a:solidFill>
                  <a:srgbClr val="990033"/>
                </a:solidFill>
                <a:latin typeface="Verdana"/>
              </a:rPr>
              <a:t>Заавал эзэмших Ерөнхий боловсролын сургууль-ЕБ</a:t>
            </a:r>
            <a:br>
              <a:rPr sz="2400"/>
            </a:br>
            <a:r>
              <a:rPr b="0" lang="cs-CZ" sz="2400" spc="-1" strike="noStrike">
                <a:solidFill>
                  <a:srgbClr val="990033"/>
                </a:solidFill>
                <a:latin typeface="Verdana"/>
              </a:rPr>
              <a:t>Povinné a základní vzdělávání.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Чех улсын нутаг дэвсгэрт амьдарч байгаа </a:t>
            </a:r>
            <a:r>
              <a:rPr b="1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бүх гадаадын иргэдийн хүүхдүүд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сургуульд суралцах хуулиар тогтоосон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үүрэгтэй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. Энэхүү үүргийг биелүүлээгүй тохиолдолд хүүхдүүдийн хууль ёсны төлөөлөгчдөд хариуцлага хүлээлгэнэ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Děti všech cizinců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, žijící na území ČR, mají ze zákona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povinnost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chodit do školy. Při porušování této povinnosti hrozí zákonným zástupcům dětí sank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3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928800" y="1268280"/>
            <a:ext cx="785808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Заавал эзэмших ЕБ -ын сургалт нь зургаан нас хүрснээс хойш 9 жил бай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авал эзэмших боловсрол нь суурь боловсролын үндэ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эрэв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ЕБ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ургуульд орох бол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ех улсын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нутаг дэвсгэрт оршин суух эрхтэйг харуулах шаардлагагү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улсын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ЕБ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ургууль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үнэ төлбөргүй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увийн сургуулиудад суурь боловсрол (ЕБ) үнэ төлбөртэй олгогдож бол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1042560" y="1628280"/>
            <a:ext cx="77439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vinné základní vzdělávání trvá 9 let, vztahuje se na děti po dosažení šestého roku věku, pokud jim není povolen odkl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vinné vzdělávání vede zpravidla k dosažení základního vzdělá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ávo na bezplatné vzdělání v základních a středních školách je deklarováno v Listině základních práv a svob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 soukromých školách lze vzdělávání poskytovat za úplat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714680" y="259920"/>
            <a:ext cx="66024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Verdana"/>
              </a:rPr>
              <a:t>ЕБ </a:t>
            </a: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c</a:t>
            </a:r>
            <a:r>
              <a:rPr b="1" lang="mn-Cyrl-MN" sz="3200" spc="-1" strike="noStrike">
                <a:solidFill>
                  <a:srgbClr val="990033"/>
                </a:solidFill>
                <a:latin typeface="Verdana"/>
              </a:rPr>
              <a:t>ургуулийн бүртгэл</a:t>
            </a:r>
            <a:br>
              <a:rPr sz="3200"/>
            </a:br>
            <a:r>
              <a:rPr b="0" lang="cs-CZ" sz="3200" spc="-1" strike="noStrike">
                <a:solidFill>
                  <a:srgbClr val="990033"/>
                </a:solidFill>
                <a:latin typeface="Verdana"/>
              </a:rPr>
              <a:t>Zápis do základní ško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928800" y="1628640"/>
            <a:ext cx="7858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Хүүхдүүдийг сургуульд түүний эцэг эх эсвэл бусад хууль ёсны төлөөлөгчид бүртгүүлдэ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Суурь сургуулийн </a:t>
            </a:r>
            <a:r>
              <a:rPr b="0" lang="mn-Cyrl-MN" sz="2400" spc="-1" strike="noStrike" u="sng">
                <a:solidFill>
                  <a:srgbClr val="000000"/>
                </a:solidFill>
                <a:uFillTx/>
                <a:latin typeface="Verdana"/>
              </a:rPr>
              <a:t>нэгдүгээр ангийн бүртгэл 1-р сарын 15-аас 2-р сарын 15-ныг хүртэл явагддаг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Эцэг эх хүүхдийн ЕБС-д суралцах хугацааг хойшлуулах талаар хүсэлт гаргах үед хүсэлтийн хүснэгт бөглөнө (1-р ангид бүртгүүлэх үед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Сургуулиаас завсардаж буй шалтгааныг нотлох эмчийн тодорхойлт хэрэгтэй - тодорхойлт  2 сараас хуучин байж болохгүй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e školní docházce přihlašují dítě jeho rodiče nebo jiní zákonní zástupc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Zápis do prvního ročníku základní školy probíhá od 15. ledna do 15. února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Rodiče nebo zákonné zástupce může požádat o odklad při nástupu do první třídy. Musí psát žádo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 žádosti musí odkládat potvrzení o zdrav.stavu od lékaře – nesmí být starší než 2 měsíců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үүхдийн төрсөний гэрчилгээ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Эцэг эхийн гадаад паспо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Xүүхдийн эрүүл мэндийн даатгалын баримтууд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өглөсөн бүртгэлийн хуудас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zápisní lístek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арин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дунд анги буюу 6-9 ангид хичээлийн жилийн явцад бүртгүүлж болно. Урьд жилийн дүнгийн хуудас хэрэгтэ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714320" y="0"/>
            <a:ext cx="69721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Verdana"/>
              </a:rPr>
              <a:t>Бүртгэлд шаардлагатай баримтууд</a:t>
            </a: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:</a:t>
            </a:r>
            <a:br>
              <a:rPr sz="2800"/>
            </a:b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Potřebné dokumenty při zápis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Rodinný li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ůkaz totožnosti rodiče nebo zákonných zástup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oklady o zdravotní pojišťě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pisní líste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ůběhu školního roku dítě může nastoupit do 6.-9. třídy. Ale mít vysvědčení dosažitelné tříd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928800" y="1916280"/>
            <a:ext cx="7858080" cy="41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Нэгдүгээр шат нь 5 жил (1-5 анги хүртэл) бага ан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хоёрдугаар шат нь 4 жил (6-9 анги хүртэл) ахлах ан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амжилттай төгсгөсний дараа нэг ба хоёрдугаар шатлалын хоорондох шилжилт нь шууд хийгдэхээс гадна,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400" spc="-1" strike="noStrike">
                <a:solidFill>
                  <a:srgbClr val="000000"/>
                </a:solidFill>
                <a:latin typeface="Verdana"/>
              </a:rPr>
              <a:t>доод шатны зургаа юмуу найман жилийн </a:t>
            </a:r>
            <a:r>
              <a:rPr b="1" lang="mn-Cyrl-MN" sz="2400" spc="-1" strike="noStrike" u="sng">
                <a:solidFill>
                  <a:srgbClr val="000000"/>
                </a:solidFill>
                <a:uFillTx/>
                <a:latin typeface="Verdana"/>
              </a:rPr>
              <a:t>гимназид </a:t>
            </a:r>
            <a:r>
              <a:rPr b="1" lang="mn-Cyrl-MN" sz="2400" spc="-1" strike="noStrike">
                <a:solidFill>
                  <a:srgbClr val="000000"/>
                </a:solidFill>
                <a:latin typeface="Verdana"/>
              </a:rPr>
              <a:t>үргэлжлүүлэн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400" spc="-1" strike="noStrike">
                <a:solidFill>
                  <a:srgbClr val="000000"/>
                </a:solidFill>
                <a:latin typeface="Verdana"/>
              </a:rPr>
              <a:t>суралцаж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400" spc="-1" strike="noStrike">
                <a:solidFill>
                  <a:srgbClr val="000000"/>
                </a:solidFill>
                <a:latin typeface="Verdana"/>
              </a:rPr>
              <a:t> болно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990033"/>
                </a:solidFill>
                <a:latin typeface="Verdana"/>
              </a:rPr>
              <a:t>ЕБС нь 2 шатлалтай байна</a:t>
            </a:r>
            <a:r>
              <a:rPr b="1" lang="cs-CZ" sz="2800" spc="-1" strike="noStrike">
                <a:solidFill>
                  <a:srgbClr val="990033"/>
                </a:solidFill>
                <a:latin typeface="Verdana"/>
              </a:rPr>
              <a:t>.</a:t>
            </a:r>
            <a:r>
              <a:rPr b="0" lang="mn-Cyrl-MN" sz="3200" spc="-1" strike="noStrike">
                <a:solidFill>
                  <a:srgbClr val="990033"/>
                </a:solidFill>
                <a:latin typeface="Verdana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990033"/>
                </a:solidFill>
                <a:latin typeface="Verdana"/>
              </a:rPr>
              <a:t>ZŠ se člení na první a druhý stupeň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900000" y="1844280"/>
            <a:ext cx="78868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vní stupeň trvá 5 let (od prvního ročníku do pátéh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ruhý stupeň trvá čtyři roky (od šestého do devátého ročníku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 úspěšném ukončení prvního stupně základní školy lze pokračovat v plnění povinné školní docházky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na nižším stupni šestiletého nebo osmiletého gymnázia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990033"/>
                </a:solidFill>
                <a:latin typeface="Verdana"/>
              </a:rPr>
              <a:t>Г</a:t>
            </a:r>
            <a:r>
              <a:rPr b="1" lang="en-US" sz="2800" spc="-1" strike="noStrike">
                <a:solidFill>
                  <a:srgbClr val="990033"/>
                </a:solidFill>
                <a:latin typeface="Verdana"/>
              </a:rPr>
              <a:t>имнази</a:t>
            </a:r>
            <a:br>
              <a:rPr sz="2800"/>
            </a:b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Gymnáz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8 жилийн сургалттай гимнази 5-р анги төгссөн хүүхэд шалгалт өгөн элсэж болн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6 жилийн сургалттай гимназид 7-р анги төгсөөд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4 жилийн сургалттай гимназид 9-р анги төгсөөд элсэнэ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гимназийн элсэлтийн шалгалтыг </a:t>
            </a:r>
            <a:r>
              <a:rPr b="1" lang="mn-Cyrl-MN" sz="2600" spc="-1" strike="noStrike" u="sng">
                <a:solidFill>
                  <a:srgbClr val="000000"/>
                </a:solidFill>
                <a:uFillTx/>
                <a:latin typeface="Verdana"/>
              </a:rPr>
              <a:t>чех хэл, математик, ерөнхий эрдмийн мэдлэгээр авдаг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714320" y="260280"/>
            <a:ext cx="69721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n-US" sz="2600" spc="-1" strike="noStrike">
                <a:solidFill>
                  <a:srgbClr val="990033"/>
                </a:solidFill>
                <a:latin typeface="Verdana"/>
              </a:rPr>
              <a:t>Че</a:t>
            </a:r>
            <a:r>
              <a:rPr b="1" lang="cs-CZ" sz="2600" spc="-1" strike="noStrike">
                <a:solidFill>
                  <a:srgbClr val="990033"/>
                </a:solidFill>
                <a:latin typeface="Verdana"/>
              </a:rPr>
              <a:t>x </a:t>
            </a:r>
            <a:r>
              <a:rPr b="1" lang="mn-Cyrl-MN" sz="2600" spc="-1" strike="noStrike">
                <a:solidFill>
                  <a:srgbClr val="990033"/>
                </a:solidFill>
                <a:latin typeface="Verdana"/>
              </a:rPr>
              <a:t>улсын</a:t>
            </a:r>
            <a:r>
              <a:rPr b="1" lang="en-US" sz="2600" spc="-1" strike="noStrike">
                <a:solidFill>
                  <a:srgbClr val="990033"/>
                </a:solidFill>
                <a:latin typeface="Verdana"/>
              </a:rPr>
              <a:t> боловсролын </a:t>
            </a:r>
            <a:r>
              <a:rPr b="1" lang="mn-Cyrl-MN" sz="2600" spc="-1" strike="noStrike">
                <a:solidFill>
                  <a:srgbClr val="990033"/>
                </a:solidFill>
                <a:latin typeface="Verdana"/>
              </a:rPr>
              <a:t>түвшингүүд</a:t>
            </a:r>
            <a:r>
              <a:rPr b="1" lang="cs-CZ" sz="2600" spc="-1" strike="noStrike">
                <a:solidFill>
                  <a:srgbClr val="990033"/>
                </a:solidFill>
                <a:latin typeface="Verdana"/>
              </a:rPr>
              <a:t>.</a:t>
            </a:r>
            <a:br>
              <a:rPr sz="2600"/>
            </a:br>
            <a:r>
              <a:rPr b="0" lang="cs-CZ" sz="2600" spc="-1" strike="noStrike">
                <a:solidFill>
                  <a:srgbClr val="990033"/>
                </a:solidFill>
                <a:latin typeface="Verdana"/>
              </a:rPr>
              <a:t>Stupeň vzdělání Č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900000" y="1412640"/>
            <a:ext cx="78868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Их, дээд сургуу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, 21-26 věk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vysokoškolské vzdělá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700" spc="-1" strike="noStrike">
                <a:solidFill>
                  <a:srgbClr val="000000"/>
                </a:solidFill>
                <a:latin typeface="Verdana"/>
              </a:rPr>
              <a:t>Мэргэжилийн дээд боловсрол</a:t>
            </a:r>
            <a:r>
              <a:rPr b="1" lang="cs-CZ" sz="2700" spc="-1" strike="noStrike">
                <a:solidFill>
                  <a:srgbClr val="000000"/>
                </a:solidFill>
                <a:latin typeface="Verdana"/>
              </a:rPr>
              <a:t>, 19-21vě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vyšší odborné vzdělání v konzervátoři a vyšší odborné vzdělá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Дунд боловсрол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, 15-19 věk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střední vzdělání – s výučním listem a maturitní zkoušk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1042560" y="1628280"/>
            <a:ext cx="77439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o osmiletého gymnázia se může přihlásit po ukončení 5. ročníku ZŠ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o šestiletého gymnázia se může přihlásit po ukončení 7. ročníku ZŠ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o čtyřletého gymnázia se může přihlásit po ukončení 9. ročníku ZŠ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ijímačky na víceletého gymnázia jsou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českého jazyka, matematiky a všeobecné znalosti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ze základních vzdělávání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042560" y="1714680"/>
            <a:ext cx="77439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өгжилийн бэрхшээлтэй хүүхэдийн ерөнхий боловсролын сургуульд суралцах хугацаа нь нийт арван жил байдаг. Үүнээс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1-6 анги - нэгдүгээр ш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7-10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анги - хоёрдугаар ша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Сурагчийг тусгай сургуульд явуулах үгүйг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мэргэжилийн эмч болон хүүхэдийн сэтгэл зүйч нар тодорхойлоно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. Хэзээ ч багш нарын болон хувь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үний хүсэлтээр шийдэхгү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900000" y="1699920"/>
            <a:ext cx="78868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kladní vzdělávání pro žáky se zdravotním postižením, kteří se vzdělávají ve třídách nebo školách s upraveným vzdělávacím programem, může s předchozím souhlasem ministerstva trvat deset ročníků, ted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1.-6.ročník - první stupeň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7.-10.ročník -druhý stupeň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PP posuzuje žáka, jestli by měl chodit na speciální školu,nikoli rodiče nebo pedagogové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2007 оноос эхлэн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ерөнхий боловсролын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сургуулиуд өөрсдийн сургалтын программын дагуу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ичээллэж байгаа.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Улсаас батлагдсан агуулгыг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ургуулиуд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заавал сургах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ёстой сургах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оловч бас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заавал сургахгүй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ичээлүүд ч заадаг. Иймээс сургуулиуд хоорондоо тогтоосон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эмжээнээс илүү хичээлийн хувьд ч хичээлийн хэлбэрийн хувьд ч ялгаатай байх үе тохиолдо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d roku 2007 se na základních školách povinně vyučuje podle vlastních školních vzdělávacích programů. Školy musí vyučovat povinný, státem garantovaný obsah, ale zpravidla vyučují i další, nepovinný obsah. Mezi školami tak mohou být odlišnosti v obsahu, který jde nad závazný rámec, a také ve formách výuk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3200" spc="-1" strike="noStrike">
                <a:solidFill>
                  <a:srgbClr val="990033"/>
                </a:solidFill>
                <a:latin typeface="Verdana"/>
              </a:rPr>
              <a:t>Дунд боловсрол</a:t>
            </a: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.</a:t>
            </a:r>
            <a:br>
              <a:rPr sz="3200"/>
            </a:br>
            <a:r>
              <a:rPr b="0" lang="cs-CZ" sz="3200" spc="-1" strike="noStrike">
                <a:solidFill>
                  <a:srgbClr val="990033"/>
                </a:solidFill>
                <a:latin typeface="Verdana"/>
              </a:rPr>
              <a:t>Střední vzdělán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928800" y="1773000"/>
            <a:ext cx="7858080" cy="42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Дунд сургуулиуд нь сурагчдыг мэргэжлийн болон их дээд сургуульд бэлтгэдэ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ЕБ сургуулийг төгсгөх юмуу заавал суралцах ёстой үүргээ гүйцэтгэсний дараа </a:t>
            </a:r>
            <a:r>
              <a:rPr b="0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дунд сургуульд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гимнази, мэргэжлийн дунд сургууль, мэргэжлийн тусгай дунд сургууль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) юмуу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консерваторид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 боловсрол эзэмшихээ үргэлжлүүлж болн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1042560" y="1714680"/>
            <a:ext cx="7743960" cy="44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třední školy připravují žáky k dalšímu studiu nebo k výkonu povolání a pracovních činnost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 ukončení základní školy nebo splnění povinné školní docházky lze pokračovat ve vzděláván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ve střední škole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(gymnázium, střední odborná škola, střední odborné učiliště)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ebo v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konzervatoři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826560" y="1557000"/>
            <a:ext cx="79599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Өдрийн, оройн юмуу хосолсон хэлбэрээр суралцаж болдо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Төгсөгч нь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сургалтын программ ба мэргэжлээс шалтгаалж дунд боловсрол, мэргэжлийн үнэмлэх юмуу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аттестаттай дунд боловсрол эзэмшинэ; </a:t>
            </a:r>
            <a:r>
              <a:rPr b="0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аттестаттай төгсгөсөн дунд боловсрол нь дээд сургуульд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элсэж суралцах үндэс болдог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ургуулийн сонголт нь сурагчийн сурлагын амжилт, өөрийн сонирхолоос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хамаарна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042560" y="1628280"/>
            <a:ext cx="77439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zdělávání se uskutečňuje v denní, distanční, večerní nebo kombinované formě.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olvent získá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dle typu vzdělávacího programu a oboru vzdělání střední vzdělání, nebo střední vzdělání s výučním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stem, nebo střední vzdělání s maturitní zkouškou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třední vzdělání s maturitní zkouškou je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ředpokladem k přijetí na vysokou školu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ýběr SŠ záleží na studenta a jeho prospěch ve základní ško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386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990033"/>
                </a:solidFill>
                <a:latin typeface="Verdana"/>
              </a:rPr>
              <a:t>Дунд сургуулийн элсэлтийн</a:t>
            </a:r>
            <a:r>
              <a:rPr b="1" lang="cs-CZ" sz="2800" spc="-1" strike="noStrike">
                <a:solidFill>
                  <a:srgbClr val="990033"/>
                </a:solidFill>
                <a:latin typeface="Verdana"/>
              </a:rPr>
              <a:t> </a:t>
            </a:r>
            <a:r>
              <a:rPr b="1" lang="mn-Cyrl-MN" sz="2800" spc="-1" strike="noStrike">
                <a:solidFill>
                  <a:srgbClr val="990033"/>
                </a:solidFill>
                <a:latin typeface="Verdana"/>
              </a:rPr>
              <a:t>бүртгэл</a:t>
            </a:r>
            <a:r>
              <a:rPr b="1" lang="cs-CZ" sz="2800" spc="-1" strike="noStrike">
                <a:solidFill>
                  <a:srgbClr val="990033"/>
                </a:solidFill>
                <a:latin typeface="Verdana"/>
              </a:rPr>
              <a:t>.</a:t>
            </a:r>
            <a:r>
              <a:rPr b="1" lang="mn-Cyrl-MN" sz="2800" spc="-1" strike="noStrike">
                <a:solidFill>
                  <a:srgbClr val="990033"/>
                </a:solidFill>
                <a:latin typeface="Verdana"/>
              </a:rPr>
              <a:t> </a:t>
            </a:r>
            <a:br>
              <a:rPr sz="2800"/>
            </a:b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Přihlášky na S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928800" y="1699920"/>
            <a:ext cx="7858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Дунд сургуульд элсүүлж сургах тухай тухайн дунд сургуулийн захирал элсэлтийн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ажиллагааны хүрээнд шийднэ. Дунд сургууль юмуу консерваторын элсэлтийн ажиллагааны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нөхцлийг хуулиар тогтоосон байда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Дунд сургуулийн нэгдүгээр курст орж суралцахад бүртгүүлсэн байх шаардлагатай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042560" y="1714680"/>
            <a:ext cx="77439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Заавал эзэмших ба суурь боловсрол – ЕБ, 6-15</a:t>
            </a:r>
            <a:br>
              <a:rPr sz="2800"/>
            </a:b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- povinné a základní vzdělá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Сургуулийн өмнөх боловсрол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, 3-6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předškolní vzdělá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Гэрийн асаргаа (боловсролын системээс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гадуурх асаргаа)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, 1-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peče v rodině (peče mimo vzdělávací soustavu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 přijetí ke studiu na střední škole rozhoduje ředitel příslušné střední školy v rámci přijímacího řízení. Právní předpisy stanoví podmínky přijímacího řízení do středních škol a konzervatoří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 přijetí do prvního ročníku vzdělávání ve střední škole je potřeba podat přihlášk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Дунд сургуульд элсэж суралцах нэгдүгээр шатны элсэлтийн бүртгэлд § 6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-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ийн дагуу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тогтоосон хугацаанд яамнаас батлагдсан маягт бөглөж насанд хүрсэн суралцах хүсэлтэй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үн эсвэл түүний хууль ёсны төлөөлөгч нь тухайн сургуулийн захирал дээр бүртгүүлнэ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ihlášky ke vzdělávání ve střední škole pro první kolo přijímacího řízení podává zletilý uchazeč nebo zákonný zástupce nezletilého uchazeče řediteli příslušné střední školy, a to na tiskopisu předepsaném ministerstvem a ve stanoveném termínu v § 60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76364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60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928800" y="1844280"/>
            <a:ext cx="785808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700" spc="-1" strike="noStrike">
                <a:solidFill>
                  <a:srgbClr val="000000"/>
                </a:solidFill>
                <a:latin typeface="Verdana"/>
              </a:rPr>
              <a:t>Өдрийн ангийн хэлбэрээр суралцахыг хүсэгч нь элсэлтийн бүртгэлийн </a:t>
            </a:r>
            <a:r>
              <a:rPr b="0" lang="mn-Cyrl-MN" sz="2700" spc="-1" strike="noStrike" u="sng">
                <a:solidFill>
                  <a:srgbClr val="000000"/>
                </a:solidFill>
                <a:uFillTx/>
                <a:latin typeface="Verdana"/>
              </a:rPr>
              <a:t>эхний шатанд гурван сургуульд бүртгүүлж болно</a:t>
            </a:r>
            <a:r>
              <a:rPr b="0" lang="mn-Cyrl-MN" sz="27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700" spc="-1" strike="noStrike">
                <a:solidFill>
                  <a:srgbClr val="000000"/>
                </a:solidFill>
                <a:latin typeface="Verdana"/>
              </a:rPr>
              <a:t>Хүсэлт гаргагч нь өдрийн ангид суралцах бол бүртгүүлэх хуудсаа 3-р сарын 15-ныг</a:t>
            </a: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700" spc="-1" strike="noStrike">
                <a:solidFill>
                  <a:srgbClr val="000000"/>
                </a:solidFill>
                <a:latin typeface="Verdana"/>
              </a:rPr>
              <a:t>хүртэл</a:t>
            </a: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mn-Cyrl-MN" sz="2700" spc="-1" strike="noStrike">
                <a:solidFill>
                  <a:srgbClr val="000000"/>
                </a:solidFill>
                <a:latin typeface="Verdana"/>
              </a:rPr>
              <a:t>въяас шалгах шаардлагатай мэргэжил бол 11-р сарын 30-ныг хүртэ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900000" y="1714680"/>
            <a:ext cx="788688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o první kolo přijímacího řízení do denní formy vzdělávání může uchazeč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podat tři přihlášk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Uchazeč odevzdá přihlášku do denní formy vzdělávání řediteli střední školy do 15.březn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ihlášky do oborů vzdělání s talentovou zkouškou do 30. listopad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үсэлт гаргагч нь </a:t>
            </a:r>
            <a:r>
              <a:rPr b="1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өдрийнхөөс өөр хэлбэрээр суралцах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ол 3-р сарын 20-ныг хүртэл,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авъяас шалгах шаардлагатай мэргэжил бол 11-р сарын 30-ныг хүртэл бүртгүүлэх хуудсаа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сургуульд өгн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Uchazeč, který se přihlásí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do jiné než denní formy vzdělávání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, odevzdá přihlášku řediteli střední školy do 20. března, v případě přihlášky do oborů vzdělání s talentovou zkouškou do 30. listopad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476000" y="333360"/>
            <a:ext cx="705636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990033"/>
                </a:solidFill>
                <a:latin typeface="Verdana"/>
              </a:rPr>
              <a:t>Дунд сургуулийн ангилал</a:t>
            </a:r>
            <a:r>
              <a:rPr b="1" lang="cs-CZ" sz="2800" spc="-1" strike="noStrike">
                <a:solidFill>
                  <a:srgbClr val="990033"/>
                </a:solidFill>
                <a:latin typeface="Verdana"/>
              </a:rPr>
              <a:t>.</a:t>
            </a:r>
            <a:r>
              <a:rPr b="1" lang="mn-Cyrl-MN" sz="2800" spc="-1" strike="noStrike">
                <a:solidFill>
                  <a:srgbClr val="990033"/>
                </a:solidFill>
                <a:latin typeface="Verdana"/>
              </a:rPr>
              <a:t> </a:t>
            </a:r>
            <a:br>
              <a:rPr sz="2800"/>
            </a:b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Stupeň středního vzdělá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400" spc="-1" strike="noStrike" u="sng">
                <a:solidFill>
                  <a:srgbClr val="000000"/>
                </a:solidFill>
                <a:uFillTx/>
                <a:latin typeface="Verdana"/>
              </a:rPr>
              <a:t>Гимнази (Gymnázium)</a:t>
            </a:r>
            <a:r>
              <a:rPr b="0" lang="mn-Cyrl-MN" sz="22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mn-Cyrl-MN" sz="2300" spc="-1" strike="noStrike">
                <a:solidFill>
                  <a:srgbClr val="000000"/>
                </a:solidFill>
                <a:latin typeface="Verdana"/>
              </a:rPr>
              <a:t>ер нь ерөнхий эрдмийн чиглэлтэй бөгөөд юуны түрүүнд дээд сургуульд суралцахад бэлтгэнэ. найм, зургаа мөн дөрвөн жилийн гимнази. Төгссөн тохиолдолд дээд сургуульд элсэх бололцоотой, харин дээд сургуульд тэнцээгүй үед мэргэжил олгодоггүй. Maturita – аттестаттай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400" spc="-1" strike="noStrike" u="sng">
                <a:solidFill>
                  <a:srgbClr val="000000"/>
                </a:solidFill>
                <a:uFillTx/>
                <a:latin typeface="Verdana"/>
              </a:rPr>
              <a:t>Мэргэжлийн дунд сургууль (SOŠ) ба мэргэжлийн тусгай </a:t>
            </a:r>
            <a:r>
              <a:rPr b="1" lang="mn-Cyrl-MN" sz="2400" spc="-1" strike="noStrike">
                <a:solidFill>
                  <a:srgbClr val="000000"/>
                </a:solidFill>
                <a:latin typeface="Verdana"/>
              </a:rPr>
              <a:t>сургууль(SOU)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mn-Cyrl-MN" sz="2300" spc="-1" strike="noStrike">
                <a:solidFill>
                  <a:srgbClr val="000000"/>
                </a:solidFill>
                <a:latin typeface="Verdana"/>
              </a:rPr>
              <a:t> сурагчдад боловсрол олгохоос гадна бас ажиллах мэргэжил буюу мэргэжлийн ажлын ур чадвар эзэмшүүлж мөн дээд сургууль, мэргэжлийн дээд боловсролд бэлтгэнэ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1042560" y="1714320"/>
            <a:ext cx="774396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Gymnázium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je zaměřeno všeobecně a připravuje především k vysokoškolskému studiu. Studium je čtyřleté, šestileté, nebo osmileté. Do šestiletého a osmiletého gymnázia jsou přijímáni žáci, kteří ukončili první stupeň základní školy, do čtyřletého gymnázia jsou přijímáni žáci po ukončení devátého ročníku základní školy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Střední odborné školy (SOŠ) a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střední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dborná učiliště (SOU)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 poskytují žákům vedle stupně vzdělání také odbornou kvalifikaci pro výkon povolání nebo odborných pracovních činností a zajišťují i přípravu k vysokoškolskému a vyššímu odbornému vzdělávání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042560" y="1714320"/>
            <a:ext cx="774396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SOŠ ба SOU нь ойролцоогоор 240 мэргэжлээр мэргэжлийн боловсрол олгодог ба олгох боловсролын түвшин болон сургалтын хугацааных нь уртаар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2 жилийн мэргэжлийн сургалтаар </a:t>
            </a:r>
            <a:r>
              <a:rPr b="0" lang="mn-Cyrl-MN" sz="2400" spc="-1" strike="noStrike" u="sng">
                <a:solidFill>
                  <a:srgbClr val="000000"/>
                </a:solidFill>
                <a:uFillTx/>
                <a:latin typeface="Verdana"/>
              </a:rPr>
              <a:t>мэргэжилийн үнэмлэхгүй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дунд боловср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3 жилийн сургалтаар </a:t>
            </a:r>
            <a:r>
              <a:rPr b="0" lang="mn-Cyrl-MN" sz="2400" spc="-1" strike="noStrike" u="sng">
                <a:solidFill>
                  <a:srgbClr val="000000"/>
                </a:solidFill>
                <a:uFillTx/>
                <a:latin typeface="Verdana"/>
              </a:rPr>
              <a:t>мэргэжлийн үнэмлэхтэй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дунд боловсро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4 жилийн сургалтаар аттестаттай дунд боловсрол эзэмшдэ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Verdana"/>
              </a:rPr>
              <a:t>Сургуулийн өмнөх боловсрол</a:t>
            </a:r>
            <a:r>
              <a:rPr b="1" lang="cs-CZ" sz="2800" spc="-1" strike="noStrike">
                <a:solidFill>
                  <a:srgbClr val="990033"/>
                </a:solidFill>
                <a:latin typeface="Verdana"/>
              </a:rPr>
              <a:t>.</a:t>
            </a:r>
            <a:br>
              <a:rPr sz="2800"/>
            </a:b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Předškolní vzdělá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1042560" y="1557000"/>
            <a:ext cx="77439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Сургуулийн өмнөх боловсрол нь улс, муж, суурин эсвэл хувийн удирдлагатай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 заавал биш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байх хэлбэрээр цэцэрлэгүүдэд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явагддаг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. Цэцэрлэгүүд нь </a:t>
            </a:r>
            <a:r>
              <a:rPr b="1" lang="mn-Cyrl-MN" sz="2800" spc="-1" strike="noStrike" u="sng">
                <a:solidFill>
                  <a:srgbClr val="000000"/>
                </a:solidFill>
                <a:uFillTx/>
                <a:latin typeface="Verdana"/>
              </a:rPr>
              <a:t>хувийн мөн компанийх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айж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олох бөгөөд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эрэв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ŠMT-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д сургуулиудын жагсаалтанд бүртгэгдсэн бол бүгдэд нь адил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боловсролын хууль үйлчлэнэ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826560" y="1628280"/>
            <a:ext cx="79599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zdělávání v SOŠ a SOU se uskutečňuje v cca 240 oborech odborného vzdělávání, které lze dělit podle délky studia a stupně poskytovaného vzdělán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e dvouletých oborech se dosahuje stupně středního vzdělání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e tříletých oborech stupně středního vzdělání s výučním list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e čtyřletých oborech stupně středního vzdělání s maturitní zkouško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714320" y="131760"/>
            <a:ext cx="6972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1042560" y="1700280"/>
            <a:ext cx="77439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400" spc="-1" strike="noStrike" u="sng">
                <a:solidFill>
                  <a:srgbClr val="000000"/>
                </a:solidFill>
                <a:uFillTx/>
                <a:latin typeface="Verdana"/>
              </a:rPr>
              <a:t>Мэргэжлийн дээд боловсрол (VOŠ)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оюутны дунд боловсролоор эзэмшсэн мэдлэг ба чадварын хөгжүүлж гүнзгийрүүлэх бөгөөд ерөнхий болон мэргэжлийн боловсрол, хүнд асуудлаар ажиллах дадлагын бэлтгэл олгоно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VOŠ өдрийн ангийн хэлбэрээр мэргэжлийн дадлага ороод 3 жил, эрүүл мэндийн мэргэжлээр бол 3,5 жи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Aттестатын шалгалтаар (maturita) дунд боловсрол эзэмшсэн болон шаардлагатай нөхцлүүдийг хангасан тохиолдолд элсүүлж авн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826560" y="1628280"/>
            <a:ext cx="79599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Vyšší odborné vzdělávání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rozvíjí a prohlubuje znalosti a dovednosti studenta získané ve středním vzdělávání a poskytuje všeobecné a odborné vzdělání a praktickou přípravu pro výkon náročných činnost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élka VOŠ v denní formě je 3 roky včetně odborné praxe, u zdravotnických oborů vzdělání až 3,5 roku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Ke vzdělávání ve vyšší odborné škole lze přijmout uchazeče, kteří získali střední vzdělání s maturitní zkouškou a kteří při přijímacím řízení splnili podmínky pro přijetí prokázáním vhodných schopností, vědomostí, zájmů a zdravotní způsobilos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990033"/>
                </a:solidFill>
                <a:latin typeface="Verdana"/>
              </a:rPr>
              <a:t>Их, дээд сургуул</a:t>
            </a:r>
            <a:r>
              <a:rPr b="1" lang="en-US" sz="2800" spc="-1" strike="noStrike">
                <a:solidFill>
                  <a:srgbClr val="990033"/>
                </a:solidFill>
                <a:latin typeface="Verdana"/>
              </a:rPr>
              <a:t>ь</a:t>
            </a:r>
            <a:br>
              <a:rPr sz="2800"/>
            </a:b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Vysoké ško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500" spc="-1" strike="noStrike" u="sng">
                <a:solidFill>
                  <a:srgbClr val="000000"/>
                </a:solidFill>
                <a:uFillTx/>
                <a:latin typeface="Verdana"/>
              </a:rPr>
              <a:t>Гадаадын суурь, дунд ба мэргэжлийн дээд сургуулийн боловсролыг хүчинтэйд тооцох (нострификаци)</a:t>
            </a: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 –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бичиг баримтыг мужийн боловсролын хэлтэст дараах хүсэлтээр өргөдөл гаргаж харуулж болно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гадаадын үнэмлэхийг Чех улсынхтай адил тэгш   гэж үзэж үнэмлэх олгох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гадаадын үнэмлэхийг Чех улсад хүлээн зөвшөөрөх тухай шийдвэр ("нострификаци"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971280" y="1714680"/>
            <a:ext cx="781524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 u="sng">
                <a:solidFill>
                  <a:srgbClr val="000000"/>
                </a:solidFill>
                <a:uFillTx/>
                <a:latin typeface="Verdana"/>
              </a:rPr>
              <a:t>Uznávání zahraničního vzdělání na základních, středních a vyšších odborných školách</a:t>
            </a: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Doklad o dosažení základního, středního nebo vyššího odborného vzdělání v zahraničí lze předložit odboru školství příslušného krajského úřadu se žádostí o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vydání osvědčení o uznání rovnocennosti zahraničního vysvědčení v ČR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rozhodnutí o uznání platnosti zahraničního vysvědčení v ČR ("nostrifikaci"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900000" y="1557000"/>
            <a:ext cx="78868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400" spc="-1" strike="noStrike" u="sng">
                <a:solidFill>
                  <a:srgbClr val="000000"/>
                </a:solidFill>
                <a:uFillTx/>
                <a:latin typeface="Verdana"/>
              </a:rPr>
              <a:t>Дээд сургууль (VŠ)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- нийтийн, улсын (цэргийн ба цагдаагийн) ба хувийн гэж ангилда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Чех улсын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нийтийн дээд сургуульд чехээс өөр хэлээр суралцахыг хүсссэн гадаад иргэд нь сургалтаа өөрийн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зардлаар төлөх ёст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Бүх сургуульд элсэлтийн шалгалтар элсүүлдэг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Их, дээд сургууль (VŠ) нь ихэвчлэн 3 шатлалтай байна. Үүнд: Бакалавр (сургалт нь 3-4 жил), үргэлжлэн Магистр (1-3 жил), Доктор (3 жи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Зөвхөн их, дээд сургуульд л шинжлэх ухааны зэрэг авах боломжт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971280" y="1628640"/>
            <a:ext cx="78152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Vysoké školy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 ČR se dělí na veřejné, státní (vojenské a policejní) a soukromé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izinci, kteří chtějí studovat na veřejné vysoké škole v ČR v jiném než českém jazyce, si musejí své studium hradit z vlastních prostředk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a všechny vysoké školy se koná přijímací řízen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Bakalář (3-4), magistr (1-3), Ph.D (3rok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soká škola je jediná instituce, která má právo 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udělovat akademické tituly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990033"/>
                </a:solidFill>
                <a:latin typeface="Verdana"/>
              </a:rPr>
              <a:t>Үгсийн орчуулага</a:t>
            </a:r>
            <a:br>
              <a:rPr sz="2800"/>
            </a:b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Terminolog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042560" y="1557000"/>
            <a:ext cx="77439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ateřsk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á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 škola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цэцэрлэ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z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á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kladn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í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– суурь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200" spc="-1" strike="noStrike">
                <a:solidFill>
                  <a:srgbClr val="000000"/>
                </a:solidFill>
                <a:latin typeface="Verdana"/>
              </a:rPr>
              <a:t>сургуул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 vyučen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í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– мэргэжлийн үнэмлэхтэ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 maturitou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аттестатта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tředn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í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дунд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200" spc="-1" strike="noStrike">
                <a:solidFill>
                  <a:srgbClr val="000000"/>
                </a:solidFill>
                <a:latin typeface="Verdana"/>
              </a:rPr>
              <a:t>сургуул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vyšš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í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 odborn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é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– мэргэжлийн дээ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tupeň vzděl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á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n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í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– боловсролын түвши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2. stupeň z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á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kladn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í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 školy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mn-Cyrl-MN" sz="2200" spc="-1" strike="noStrike">
                <a:solidFill>
                  <a:srgbClr val="000000"/>
                </a:solidFill>
                <a:latin typeface="Verdana"/>
              </a:rPr>
              <a:t>ахлах анг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1. stupeň z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á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kladn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í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 školy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mn-Cyrl-MN" sz="2200" spc="-1" strike="noStrike">
                <a:solidFill>
                  <a:srgbClr val="000000"/>
                </a:solidFill>
                <a:latin typeface="Verdana"/>
              </a:rPr>
              <a:t>бага анг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zkr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á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en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á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 studia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богиносгосон сургал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n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á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tavby SOU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мэргэжлийн тусгай дунд сургуулийн мэргэжил дээшлүүлэ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OU (maturita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,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 vyučen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í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– мэргэжлийн тусгай дунд сургууль (аттестат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мэргэжлийн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үнэмлэх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OŠ (maturita)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– мэргэжлийн дунд сургууль (аттеста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G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ymn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á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zium (maturit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– гимнази (аттеста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VOŠ (absolutorium)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– Мэргэжлийн дээд сургууль (сургууль дүүргэсэн тухай бичиг барим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p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é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če v rodině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p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če mimo vzděl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c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oustavu) – гэрийн асаргаа (боловсролын системээсгадуурх асарга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edškolní vzdělávání je organizováno jako nepovinné v mateřských školách zřizovaných státem, krajem, obcí nebo soukromým zřizovatelem. Mateřské školy mohou být i soukromé nebo firemní, pro které rovněž platí školský zákon, pokud jsou vedeny v rejstříku škol MŠM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Zdroje inform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eb8803"/>
                </a:solidFill>
                <a:uFillTx/>
                <a:latin typeface="Verdana"/>
                <a:hlinkClick r:id="rId1"/>
              </a:rPr>
              <a:t>www.meta-os.cz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8803"/>
                </a:solidFill>
                <a:uFillTx/>
                <a:latin typeface="Verdana"/>
                <a:hlinkClick r:id="rId2"/>
              </a:rPr>
              <a:t>www.inkluzivniskola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eb8803"/>
                </a:solidFill>
                <a:uFillTx/>
                <a:latin typeface="Verdana"/>
                <a:hlinkClick r:id="rId3"/>
              </a:rPr>
              <a:t>www.cizinci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8803"/>
                </a:solidFill>
                <a:uFillTx/>
                <a:latin typeface="Verdana"/>
                <a:hlinkClick r:id="rId4"/>
              </a:rPr>
              <a:t>www.icm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8803"/>
                </a:solidFill>
                <a:uFillTx/>
                <a:latin typeface="Verdana"/>
                <a:hlinkClick r:id="rId5"/>
              </a:rPr>
              <a:t>www.nvf.cz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8803"/>
                </a:solidFill>
                <a:uFillTx/>
                <a:latin typeface="Verdana"/>
                <a:hlinkClick r:id="rId6"/>
              </a:rPr>
              <a:t>http://www.zdroj.cz/vzdelani/materske-skoly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14680" y="259920"/>
            <a:ext cx="66736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928440" y="1268280"/>
            <a:ext cx="77468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3000" spc="-1" strike="noStrike">
                <a:solidFill>
                  <a:srgbClr val="000000"/>
                </a:solidFill>
                <a:latin typeface="Verdana"/>
              </a:rPr>
              <a:t>Сургуулийн өмнөх боловсрол нь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Ирээдүйн боловсролын үндэсийг тавьж xувь хүний өсөлтийг дэмжинэ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Оюун санаа болон бие бялдарын хөгжилийн үндэ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арилцааны соё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Aмьдралын үнэ цэнийн ба хүмүүсийн    хоорондын харилцааны үндсийг эзэмшихэд нөлөөлнө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edškolní vzdělávání podporuj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rozvoj osobnosti dítěte předškolního věku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dílí se na jeho zdravém citovém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rozumovém a tělesném rozvoji a na osvojení základních pravidel chování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kladních životních hodnot a mezilidských vztah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14680" y="89640"/>
            <a:ext cx="5881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928800" y="1196640"/>
            <a:ext cx="7858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Цэцэрлэг 3 – 6 настай хүүхдүүдэд зориулагдса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Цэцэрлэг нь сургуулийн өмнөх насны буюу 5-6 настай хүүхдүүдийг түрүүлж авдаг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Xүүхдүүдийг эцэг эхийн (хуул ёсны төлөөлөгч) хүсэлтээр цэцэрлэг хүлээж авда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Хүүхэд хичээлийн жилийн явцад ч цэцэрлэгт орж бол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9:29Z</dcterms:modified>
  <cp:revision>206</cp:revision>
  <dc:subject/>
  <dc:title>Snímek 1</dc:title>
</cp:coreProperties>
</file>