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7D02-BC64-48E4-B614-837A00CB0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2DBE-EF14-446B-9689-8B3F5052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B54C-0512-4A5D-8ED8-862939FA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514B-FCA6-4D65-8C15-FE3C43467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764C-6F7F-4A9B-B890-08FD4D21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2CF3-6FCC-40B6-8A23-08BAAC10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59F8-486B-451C-BCC8-CECA2492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303D-EFA3-421B-8940-2CAC5DEA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8670-3C31-4CAC-9610-83063357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D3F3-ACC9-46CE-8A39-19C031D0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7F0D-E00E-4E94-AFF5-C1B37C1A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24B9-2376-4DE8-8EC4-E063D374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B1D8-D2FA-4116-84E9-BF9C11E4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2B7D-A0FA-4AB6-9774-BB0B3206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8676-3DB0-4844-BE7D-D7BB3942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229D-7D9F-4ADF-A84A-89E0D48A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3718-16A9-4D1D-9919-CA601D52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B3A2-2C33-465A-8746-0820BBF2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7FC1-4865-4650-9A72-834EB586A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D3FE-268F-4765-BA54-FFF8E766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A350-D422-44DE-AC49-D46939D69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2A4EF-5AB1-4B2A-9640-5D718CCC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86E85-E761-4F1A-A530-A22DCFB8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02D8D-5746-44EA-9F14-2C28DD33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94AFA-6074-4560-BB1B-AB345D85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60A62-5489-4164-A857-EAF3ABDF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0E9C4-563A-4B0D-B647-58CA1738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39762-0925-4179-993F-4AD848E5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2B47C-D77E-428B-AED8-C335C1AD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0B692-F009-4900-9088-69D4F9FD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41BA-CC97-4628-BC0D-CCB809C1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31241-C64F-4398-B960-F8807EC1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12520-2ABE-4300-A6BB-65F7D0404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838EB-D10B-4F96-BA3A-482262D2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793C9-5CC9-4399-92CE-9CDF88A8C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441A0-2F60-4C6D-A08F-30DBD1BC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3B798-1E02-42F9-96D5-4CABA969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12060-CA6E-4F74-8E65-2CECB2EA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9E28E-A78F-4B2D-BDD3-D725393D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913C4-021E-4450-96FA-29151AAD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89FFF-FBF2-4565-B510-41C8C172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C06C-5403-47BA-B25F-F46F808E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686AB-8178-4DDA-975D-A65AA80D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88B49-FE20-468E-85B9-1E582839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D59E7-1278-459C-ACAE-7B68B7A3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28E0D-ECAA-4E9C-BAEB-17C71A57A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B77C7-17A0-4C9C-9D31-15E47BE0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EDFC2-AF81-476B-84CF-F07371BA7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978ED-0EA8-4254-9F95-5F1C65B4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8C20B-279A-404A-A005-1FDD9F3A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F7900-055E-46BD-B75F-D4344E0E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588AC-E51C-4555-AA70-FE83FDDE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1D62-D432-4F8A-92C8-A39E153D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A66CB-B0E3-4D78-9F20-C4E8D350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F2F27-F469-4708-8D07-157A9FE4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09E5A-DE26-4FFA-A619-14F92330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B581A-66D4-4D18-B3F9-81F05E81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DE233-FA40-4172-851F-3E9B032D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8D4C4-9129-46C1-A03D-71836AE94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C9018-626C-4870-983A-0F338C722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9A3F-016A-4B1D-9244-B8C313E8AA4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FA17-19E5-4B64-9D38-5BCAB9E2218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34C8-1ACB-4D21-A852-87D859B93D21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B75F-3202-4A91-BD36-861ACDA34F10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D027-BB90-4A0B-969F-9903BFF500D8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E4C1-44DE-40DC-9BF6-04CB1DC789CD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0F30-CCE9-4B53-97E2-400F14441218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FDC1-55A9-4F3C-83DF-32A6F804DE88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790A-5547-4383-AD5A-3CBC421E6098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FE96-DAED-4093-9895-0D55433337E6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zech.cz/cz/62148-zivnostenske-podnikani" TargetMode="External"/><Relationship Id="rId2" Type="http://schemas.openxmlformats.org/officeDocument/2006/relationships/hyperlink" Target="http://domavcr.cz/" TargetMode="External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928960" y="4365360"/>
            <a:ext cx="585792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,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ociální tlumočení ve styku s cizinci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povinnosti podnikatele vůči úřadům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Altangerel 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042560" y="1915920"/>
            <a:ext cx="77439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ěsíční zálohy na daň – když vaše výsledná daň přesáhne částku 30 000 Kč, budete muset platit také zálohy na daň z příjmů fyzických osob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Zdravotní pojišťovna (veřejná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kud máte trvalý pobyt a přístup k VZP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1) Na začátku vašeho podnikání – musíte ohlásit zahájení samostatné výdělečné činnosti a přihlásit se k účasti na pojištění – do 8 dnů od zahájení činnosti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042560" y="1915920"/>
            <a:ext cx="77439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aždý měsíc – platit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minimální zálohy – pojistné na zdravotní pojištění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. Zálohy jsou splatné od 1. do 8. dne následujícího měsíce. Výše minimální měsíční zálohy je stanovena na každý rok. Od ledna 2011 je 1.670 Kč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3)Jednou za rok musíte vyplnit a odevzdat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„Přehled o příjmech a výdajích OSVČ“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= roční vyúčtování) – nejlépe do 31. 3. (následujícího roku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Během podnikání musíte hlásit na úřady všechny důležité změny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inanční úřad – do 15 dn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SSZ – do 8 dnů následujícího měsí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dravotní pojišťovna – do 8 dn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042560" y="2060640"/>
            <a:ext cx="77439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Formulář: Přehled o příjmech a výdajích OSVČ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 Na základě tohoto dokumentu se vypočítá (podle výše zisku = rozdíl mezi příjmy a výdaji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da byly zaplacené zálohy na pojistné dostatečné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da máte povinnost doplatit pojistné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da budete mít následující rok zálohy vyšší / stejné / nebo nižš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0033"/>
                </a:solidFill>
                <a:latin typeface="Verdana"/>
              </a:rPr>
              <a:t>Daň z přijmů fyzickych oso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042560" y="1773360"/>
            <a:ext cx="77439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Cizinci, kteří na území ČR, mají stejná daňová práva a povinnosti jako občané České republiky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. Pokud je tedy cizinec daňovým rezidentem (plátce daně) České republiky, znamená to, že má v ČR neomezenou daňovou povinnos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Daňovými rezidenty ČR jsou ti cizinci, kteří mají na území České republiky bydliště nebo se zde obvykle zdržují více než 183 dnů během zdaňovacího roku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. Naopak cizinec-nerezident se na území ČR obvykle nezdržuje a zpravidla zde pobývá jen přechodně, například za účelem léčení nebo studia apod., a stálé bydliště má v jiném státě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042560" y="1773360"/>
            <a:ext cx="77439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Jsou to peníze, které se vypočítají z vašeho zisku (= rozdíl mezi příjmy a výdaji) a které musíte odvádět státu.</a:t>
            </a:r>
            <a:r>
              <a:rPr b="1" lang="cs-CZ" sz="2300" spc="-1" strike="noStrike">
                <a:solidFill>
                  <a:srgbClr val="000000"/>
                </a:solidFill>
                <a:latin typeface="Verdana"/>
              </a:rPr>
              <a:t> Výše daně: 15 % (rok 2011)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Verdana"/>
              </a:rPr>
              <a:t>Vypočet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- příjmy − výdaje = základ daně − (odečteme) odčitatelné položky (například úroky ze stavebního spořeni, dary apod.) = upravený základ daně × 15 % = daň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Od daně ještě odečteme zaplacené zálohy a slevy na dani (na poplatníka, na vyživovaného manžela/ manželku nebo dítě, případně další slevy) a výsledná částka je daň, kterou zaplatít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Ú</a:t>
            </a:r>
            <a:r>
              <a:rPr b="1" lang="en-US" sz="3200" spc="-1" strike="noStrike">
                <a:solidFill>
                  <a:srgbClr val="990033"/>
                </a:solidFill>
                <a:latin typeface="Verdana"/>
              </a:rPr>
              <a:t>četn</a:t>
            </a: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í</a:t>
            </a:r>
            <a:r>
              <a:rPr b="1" lang="en-US" sz="3200" spc="-1" strike="noStrike">
                <a:solidFill>
                  <a:srgbClr val="990033"/>
                </a:solidFill>
                <a:latin typeface="Verdana"/>
              </a:rPr>
              <a:t> a daňov</a:t>
            </a: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é</a:t>
            </a:r>
            <a:r>
              <a:rPr b="1" lang="en-US" sz="3200" spc="-1" strike="noStrike">
                <a:solidFill>
                  <a:srgbClr val="990033"/>
                </a:solidFill>
                <a:latin typeface="Verdana"/>
              </a:rPr>
              <a:t> dokla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042560" y="1844640"/>
            <a:ext cx="774396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ednou z povinnosti podnikatelů je vystavovávání různých dokumentů (dokladů). Jsou to zejména ty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aktu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jmový pokladní do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ýdajový pokladní do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aragon (účtenk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odací list a dalš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Tyto doklady si vždy schovejt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042560" y="1773360"/>
            <a:ext cx="77439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Faktura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– musíte ji vystavit, když je váš příjem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vyšší než 10 000 Kč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a když platba proběhla bankovním převod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Příjmový pokladní doklad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– vystavíte, když váš příjem bude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nižší nebo roven 10 000 Kč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a platba byla v hotovost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Jaké přesně informace (náležitosti) musí být na těchto dokladech, si můžete zjistit v zákonech (zákon o účetnictví, obchodní zákoník a zákon o dani z přidané hodnoty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Zdroje inform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Verdana"/>
                <a:hlinkClick r:id="rId1"/>
              </a:rPr>
              <a:t>http://www.czech.cz/cz/62148-zivnostenske-podnikan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Verdana"/>
                <a:hlinkClick r:id="rId2"/>
              </a:rPr>
              <a:t>http://domavcr.cz/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Učebnice pro cizince - Vaše šance jít do práce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Slovíčka k témat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042560" y="1844640"/>
            <a:ext cx="7743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Daň z příjmů fyzických osob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- хувь хүний орлогын татва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Daňová evidence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- татварын бүртгэ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Daňové přiznaní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- татварын мэдүүлэ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Dodavatel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- нийлүүлэгч, хангаг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Faktura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- пада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1042560" y="1844640"/>
            <a:ext cx="7743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Odběratel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- хэрэглэгч, захиалаг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Penále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- гэрээний торгуу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Pokladní příjmový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/výdajový doklad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- кассын орлогын / зарлагын барим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Přehled o příjmech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800" spc="-1" strike="noStrike">
                <a:solidFill>
                  <a:srgbClr val="000000"/>
                </a:solidFill>
                <a:latin typeface="Verdana"/>
              </a:rPr>
              <a:t>a výdají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- орлогын / зарлагын тухай той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500" spc="-1" strike="noStrike">
                <a:solidFill>
                  <a:srgbClr val="000000"/>
                </a:solidFill>
                <a:latin typeface="Verdana"/>
              </a:rPr>
              <a:t>Příjem</a:t>
            </a: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 – орлог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500" spc="-1" strike="noStrike">
                <a:solidFill>
                  <a:srgbClr val="000000"/>
                </a:solidFill>
                <a:latin typeface="Verdana"/>
              </a:rPr>
              <a:t>Sleva na dani</a:t>
            </a: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500" spc="-1" strike="noStrike">
                <a:solidFill>
                  <a:srgbClr val="000000"/>
                </a:solidFill>
                <a:latin typeface="Verdana"/>
              </a:rPr>
              <a:t>na poplatníka </a:t>
            </a: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- татвар төлөгчийн хөнгөл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500" spc="-1" strike="noStrike">
                <a:solidFill>
                  <a:srgbClr val="000000"/>
                </a:solidFill>
                <a:latin typeface="Verdana"/>
              </a:rPr>
              <a:t>Účetnictví</a:t>
            </a: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 - нятлан бодох, санхүүгийн ажи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500" spc="-1" strike="noStrike">
                <a:solidFill>
                  <a:srgbClr val="000000"/>
                </a:solidFill>
                <a:latin typeface="Verdana"/>
              </a:rPr>
              <a:t>Výdaj</a:t>
            </a: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 - зарлаг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500" spc="-1" strike="noStrike">
                <a:solidFill>
                  <a:srgbClr val="000000"/>
                </a:solidFill>
                <a:latin typeface="Verdana"/>
              </a:rPr>
              <a:t>Výdaje procentem</a:t>
            </a: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mn-Cyrl-MN" sz="2500" spc="-1" strike="noStrike">
                <a:solidFill>
                  <a:srgbClr val="000000"/>
                </a:solidFill>
                <a:latin typeface="Verdana"/>
              </a:rPr>
              <a:t>z příjmů  </a:t>
            </a: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-орлогоос хасагдаx зарлагын хувь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1042560" y="1989000"/>
            <a:ext cx="774396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600" spc="-1" strike="noStrike">
                <a:solidFill>
                  <a:srgbClr val="000000"/>
                </a:solidFill>
                <a:latin typeface="Verdana"/>
              </a:rPr>
              <a:t>Vyživovaný manžel nebo manželka, dítě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do 26 let</a:t>
            </a:r>
            <a:r>
              <a:rPr b="1" lang="mn-Cyrl-MN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- өрхийн орлогогүй эхнэр, нөхөр , 26 насны хүүхэд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n-Cyrl-MN" sz="2600" spc="-1" strike="noStrike">
                <a:solidFill>
                  <a:srgbClr val="000000"/>
                </a:solidFill>
                <a:latin typeface="Verdana"/>
              </a:rPr>
              <a:t>Zálohy na pojistné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mn-Cyrl-MN" sz="2600" spc="-1" strike="noStrike">
                <a:solidFill>
                  <a:srgbClr val="000000"/>
                </a:solidFill>
                <a:latin typeface="Verdana"/>
              </a:rPr>
              <a:t>даатгалын урьдчилгаа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Daň z přidané hodnoty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 (zkratka DPH)- 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нэмэгдсэн өртгийн албан татвар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mn-Cyrl-MN" sz="2800" spc="-1" strike="noStrike">
                <a:solidFill>
                  <a:srgbClr val="000000"/>
                </a:solidFill>
                <a:latin typeface="Verdana"/>
              </a:rPr>
              <a:t>НӨТ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990033"/>
                </a:solidFill>
                <a:latin typeface="Verdana"/>
              </a:rPr>
              <a:t>Povinnosti podnikatele – živnostenské podnik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042560" y="2133360"/>
            <a:ext cx="77439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egistruji se na úřady </a:t>
            </a:r>
            <a:r>
              <a:rPr b="0" lang="cs-CZ" sz="3000" spc="-1" strike="noStrike">
                <a:solidFill>
                  <a:srgbClr val="000000"/>
                </a:solidFill>
                <a:latin typeface="Viner Hand ITC"/>
              </a:rPr>
              <a:t>&gt;&gt;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znamuji důležité změny na úřadech </a:t>
            </a:r>
            <a:r>
              <a:rPr b="0" lang="cs-CZ" sz="3000" spc="-1" strike="noStrike">
                <a:solidFill>
                  <a:srgbClr val="000000"/>
                </a:solidFill>
                <a:latin typeface="Viner Hand ITC"/>
              </a:rPr>
              <a:t>&gt;&gt;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latím pravidelně povinné zálohy na pojištění </a:t>
            </a:r>
            <a:r>
              <a:rPr b="0" lang="cs-CZ" sz="3000" spc="-1" strike="noStrike">
                <a:solidFill>
                  <a:srgbClr val="000000"/>
                </a:solidFill>
                <a:latin typeface="Viner Hand ITC"/>
              </a:rPr>
              <a:t>&gt;&gt;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stavuji/přijímám faktury, pokladní doklady </a:t>
            </a:r>
            <a:r>
              <a:rPr b="0" lang="cs-CZ" sz="3000" spc="-1" strike="noStrike">
                <a:solidFill>
                  <a:srgbClr val="000000"/>
                </a:solidFill>
                <a:latin typeface="Viner Hand ITC"/>
              </a:rPr>
              <a:t>&gt;&gt;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nou za rok podávám daňové přiznání a platí daně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Verdana"/>
              </a:rPr>
              <a:t>POVINNOSTI VŮČI </a:t>
            </a:r>
            <a:r>
              <a:rPr b="0" lang="cs-CZ" sz="3200" spc="-1" strike="noStrike">
                <a:solidFill>
                  <a:srgbClr val="990033"/>
                </a:solidFill>
                <a:latin typeface="Verdana"/>
              </a:rPr>
              <a:t>Ú</a:t>
            </a:r>
            <a:r>
              <a:rPr b="0" lang="en-US" sz="3200" spc="-1" strike="noStrike">
                <a:solidFill>
                  <a:srgbClr val="990033"/>
                </a:solidFill>
                <a:latin typeface="Verdana"/>
              </a:rPr>
              <a:t>ŘADŮM 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(V PRVN</a:t>
            </a: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Í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M ROCE PODNIK</a:t>
            </a: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Á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N</a:t>
            </a: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Í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042560" y="1773000"/>
            <a:ext cx="77439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Okresní správa sociálního zabezpečení (OSSZ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1) Na začátku vašeho podnikání (po ohlášení živnosti na živnostenském úřadu) musíte na tomto úřadu ohlásit zahájeni samostatné výdělečné činnosti – přihlásit se musíte do 8. dne následujícího měsíce po měsíci, v němž zahájíte činno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2) Na začátku vašeho podnikání – povinně musíte podat přihlášku OSVČ k účasti na důchodovém pojištění, dobrovolně potom přihlášku OSVČ k účasti na nemocenském pojištěn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042560" y="1844280"/>
            <a:ext cx="77439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)Každý měsíc platíte minimální zálohy na sociální pojištění (důchodové, nemocenské) – zálohy jsou splatné od 1. do 20. dne následujícího měsíce. Výše minimální měsíční zálohy je stanovena na každý rok. Do  31.3.2011 byla min. záloha 1720,- , ale od 1.04.2011 min. záloha na sociální pojištění zvýšila na 1807,-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4) Jednou za rok musíte vyplnit a odevzdat formulář „Přehled o příjmech a výdajích OSVČ“ (= roční vyúčtování) – nejlépe do 31. 3. následujícího roku (nejpozději do 30. 4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1042560" y="1773360"/>
            <a:ext cx="77439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Finanční úřad (místně příslušný podle sídla podnikání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) Na začátku vašeho podnikání – registrujete se jako daňový subjekt (vybíráte si daně, ke kterým se chcete registrovat. Vždy se musíte registrovat k dani z příjmů fyzických osob.) – do 30 dnů od ohlášení živnosti získáte daňové identifikační číslo (DIČ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2) Jednou za rok – musíte vyplnit a podat daňové přiznání – do 31. 3. (následujícího roku). Formulář „Přiznání k dani z příjmů fyzických osob“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7:55Z</dcterms:modified>
  <cp:revision>306</cp:revision>
  <dc:subject/>
  <dc:title>Snímek 1</dc:title>
</cp:coreProperties>
</file>