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9A5-D5D2-4A63-AA1A-04868D63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076-B9F4-4EB7-AE22-87BB3DE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BC3-6EB9-493C-B260-3699263C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AF8-C1FB-420A-90FA-034093F0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944-2510-4702-950A-3464017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43B-D4F2-4B0E-BDB3-1029F1E4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1F3-CCA6-4675-9325-2301651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1650-ACDA-4F90-8464-3CA37CBD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A04-3AEA-4B94-90D1-3B1111C7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E96-5FAF-49A0-B62E-EF2AD10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89B-58DF-4A13-BDB8-7C09B54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1262-8AF5-4B26-A7EB-B4F7F81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39D0-7885-41CA-ADEE-D84B6902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8B4-93BD-4745-AF2F-43C365C7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A8A-8363-490F-96FE-6F2EDB1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F82-0710-4278-8996-CD58389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0BCF-9BFC-4425-B170-7B25383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DC7-BBEF-4510-B41C-5516E964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DB49-2F27-4A2F-A63D-921570C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0B6-7AC8-4F5E-9A60-D33ADE3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436-7A14-4314-BAE5-7FD9D00D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9456-AC3A-4498-B386-3B013918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2E27-F3E3-4756-9487-E6BC4D6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5532-9EB9-4A60-8BEA-A79B4790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4F51-142F-49E9-A6B5-4CF40925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E8EA-CFC2-4AB6-A463-F4D45F4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CE97-159A-498F-A165-664411E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4D1B-1EB9-4721-A3EE-F39CEAB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AE8C-FB8A-4DF6-BC5E-2ED1D0D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6E66-13F6-4B9F-BD38-0B38188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B5C-170B-4C9A-A333-E67A8A7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5DD2-69A3-410B-8916-DF501C7B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07F8-32A6-436F-9621-2E121EE4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032B-C783-4B7F-9430-856D099C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694C-5B30-4D6B-89B9-03444203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0639-EEBB-47FA-81BE-A71C163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1747-71E3-411C-88A3-556271D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5E0F-0C06-4233-95AB-D7DA424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96F3-B124-4892-8A45-4D676BBB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E615-D9E5-4822-B50C-CA56542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E2E8-2E94-43A3-8F31-AA8851E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CBA-9441-448D-AD8F-31BE612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3E0D-2BE7-4C93-9930-1ED77DA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BA24-5C1D-4F49-BB53-39C2A65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ACA5-6F2D-42DF-8835-9C9F234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9B3C-0AD3-4B53-8908-3C5D4B5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D1B4-4E03-4378-B2C2-A828BF1F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A588-5D5F-47AD-82A2-B7665379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6C5C-D823-4A0F-A16A-73C264F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2D71-0AD8-4A5D-BA53-3FF98DEF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272E-AE0C-43B3-B383-B30135B1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6E97-D55F-4E26-934C-8B2986A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9E6-232B-42F9-B31E-7DC6BC3F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7682-2104-41A9-9918-8A411BE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B33B-0A4E-4CA3-B4AF-B68E664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FE67-83EF-46DA-8B94-D181147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2A68-B84D-4EDB-9FF9-FD25FD0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F34F-6AF3-4936-8AF8-165BEC2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9A9E-7FC0-4DE5-852B-2A750305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1F1D7-7ED9-4261-BD60-EB61FD4B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76D-AADF-4D16-813F-C06476DC3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618-27E6-4682-A284-99609DB8F3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DAD9-11BA-4FBF-9E40-EF6287DBEF6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5BB5-CF64-4606-B3E9-A071A731310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35C0-3730-4CD0-A680-E14FA204B61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30EE-F6C1-4FE5-81FF-67B76B5CCB8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056-A984-41F1-82E1-17929ECA8A0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1C10-5022-41DB-B748-FD1611ABCE4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A11B-7E4A-486A-A202-78AF342046D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377-A093-433A-8AAD-36615D595EA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domavcr.cz/" TargetMode="External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, kteří nemají trvalý pobyt na území ČR, musí mít za účelem podnikání povolení k pobytu (dlouhodobé vízum nebo povolení k dlouhodobému pobyt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měnit účel pobytu z důvodu ztráta práci – moct požádat o změnu účelu pobytu na podnikání až po 2 letech pobytu v ČR. Žádost podá na pracoviště MV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4 druhy živnost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olná –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áza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emeslná - živnosti ohlašov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sovaná - živnosti koncesovan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ná ži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ačí splnit 3 základn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věk minimálně 18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bezúho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ilost k právním výkon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69992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ázaná a řemeslná živ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ejné podmínky jako u volné živnosti a navíc musíte mít požadované vzdělání (kvalifikaci), případně praxi (pracovní zkušenosti). Konkrétní podmínky jsou popsané v příloze živnostenského záko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latná právní úprava rozeznáv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ivnosti ohlašovac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ohlásit živnosti na živnostenskému úřadu a osvědčuje se vydáním výpisu z živnostenského rejstříku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živnosti koncesované,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hlášení nebo žádost o koncesi je možno podat osobně (písemně, elektronicky, resp. prostřednictvím kontaktního místa veřejné správy) u kteréhokoliv příslušného obecního živnostenského úřadu (obecním živnostenským úřadem je odbor obecního úřadu obcí s rozšířenou působností) nebo p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střednictvím služby Czech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Jak postupovat a co budete potřebovat pro ohlášení živnost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699920"/>
            <a:ext cx="7743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plněny „Jednotný registrační formulář“ nebo formulář „Ohlášení živnosti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ůkaz totožnost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pis z rejstříku trestů – ne starší než 3 měsíce, pokud příslušný stát takový doklad nevydá, stačí čestné prohlášení učiněné před notářem nebo úřadem státu, jehož jste občan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místu podnikání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lad o zaplacení poplatku (1 000 K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voleni k pobytu na území ČR (dlouhodobé vízum nebo povolení k dlouhodobému pobyt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 živnosti vázané a řemeslné (a také u   koncesované živnosti) navíc musíte dolož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lad o své odborné způsobilosti (nebo odpovědného zástupce – to je někdo, kdo má praxi v oboru, ve kterém chcete podnikat, a zaručí se za vá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nutné také prohlášení odpovědného zástup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okumenty musí byt úředně přeloženy d českého jazy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ivnostensky úřad je součástí městského úřadu nebo magistrátu. Živnostenský úřad do 5 dnů provede zápis do živnostenského rejstříku. Živnostenský úřad vám potom vydá výpis z živnostenského rejstříku – to je doklad o vaši podnikatelské činnosti (dříve to byl živnostensky list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 ohlašovaných živností provede živnostenský úřad zápis do živnostenského rejstříku do 5 dnů ode dne doručení ohlášení a vydá podnikateli výpis, splní-li ohlašovatel podmínky stanovené zákon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844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 koncesované živnosti živnostenský úřad rozhodne o žádosti o koncesi zpravidla do 60 dnů ode dne doručení žádosti obecnímu živnostenskému úřadu, pokud jsou splněny všechny náležitosti a do 5 dnů ode dne nabytí právní moci rozhodnutí o udělení koncese provede zápis do živnostenského rejstříku a podnikateli vydá výp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Registrace na další úřad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i (OSSZ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ůchodovému (povinně) a nemocenskému (dobrovolně) pojištění (= sociální pojištění). Přihlásit se musíte do osmého dne následujícího měsíce po měsíci, ve kterém jste začali podnik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ké formuláře budete vyplňovat na OSS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známení o zahájení (opětovném zahájení) samostatné výdělečné činnost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OSVČ k účasti na důchodovém pojištěn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hláška k dobrovolné účasti na nemocenském pojištěni OSVČ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řihlášení k daním, tento úřad vám přidělí DIČ (daňové identifikační číslo). Přihlásit se musíte do 30 dnů ode dne, kdy jste získali povoleni k podnik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veřejné zdravotní pojištění. Přihlásit se musíte do 8 dnů od zahájení podnikatelské čin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hlášení volného pracovního místa. Tady se přihlásíte pouze v případě, že budete chtít někoho zaměstnat (= budete mít zaměstnanc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a všechny úřady musíte hlásit všechny důležité změny v průběhu podnikání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915920"/>
            <a:ext cx="7743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hlavní  - үндсэн ажил ( гол орлого олж байгаа үндсэн ажил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Činnost vedlejší -  зэргэлдээ үйл ажиллаг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inanční úřad - албан татбарын алб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Fyzická osoba - хувиараа хөдөлмөр эрхлэгч буй ху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этгээд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Živnostenské podnikání cizinc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chcete začít podnikat a změnit účel pobytu – například ztratíte práci, už nebudete mít povolení k pobytu za účelem zaměstnání, a proto musíte požádat o nové povolení k pobytu: můžete požádat o změnu účelu pobytu na podnikání až po 2 letech pobytu v ČR. Žádost podáte na pracoviště Ministerstva vnitra OA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 musíte doložit na pracovišti MV OAM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ost povolení k pobytu za účelem podnik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zdravotním pojištění -musíte mít zařízené a zaplacené (najednou celé dopředu) zdravotní pojištění na celou dobu povolení k pobytu, pokud chcete požádat k dlouhodobé vízum nebo povolení k dlouhodobému pobytu za účelem podnikání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00000" y="1714320"/>
            <a:ext cx="78868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is z živnostenského rejstříku a také doklad o tom, že nic nedlužíte na FÚ nebo OSS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kázat stavenou výši příjm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Právní úprava obchodních společností je obsažena v zákoně č. 513/1991 Sb., obchodní zákoník, v platném znění. Obchodní společnosti jsou právnickými osobam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Cizinci musí mít za účelem podnikání prostřednictvím obchodní společnosti vydáno oprávnění k pobytu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 účelem účasti na právnické osobě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(při podání žádosti o vízum nad 90 dnů/povolení k dlouhodobému pobytu prokazuje cizinec účel pobytu výpisem z obchodního rejstříku).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éto oprávnění k pobytu se uděluje pouze členům statutárních orgánů právnické osob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o obchodního rejstříku se zapisují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společnosti a družstv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ahraniční osoby podle § 21 odst. 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yzické osoby, které jsou podnikateli a mají bydliště v České republice a osoby podle § 21 odst. 5, které podnikají na území České republiky, pokud o zápis požádaj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alší osoby, stanoví-li povinnost jejich zápisu zvláštní právní předp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bchodní rejstřík je každému přístupný veřejný seznam vedený krajským soudem (tzv. rejstříkový soud) podle sídla obchodní společ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aždý má právo do něj nahlížet, pořizovat si z něho kopie a výpisy. Zapisují se do něj zákonem stanovené údaje o podnikatel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www.mpsv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060640"/>
            <a:ext cx="7743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Jednotný registrační formulář - Нэгдсэн бүртгэлийн хуудас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Nebytové prostory -  худалдаа эрхлэх бай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Okresní správa sociálníh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zabezpečeni (OSSZ) - Окресын нийгэмийн хангамжийн байгууллаг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ávnická osoba - хуулийн этгээд  (худалдааны компаниудыг төлөөлөж байгаа хуулийн этгээд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rovozovna - бизнес хийж байгаа газ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Předmět (obor) činnosti - бизнес хийж байгаа үйл ажиллагааны тодорхой нэр заа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Výpis z živnostenského rejstříku - лицензээр аж ахуй эрхлэх газрын тодорхойлол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ázaná - хязгаарласан хэлбэртэй арилжаа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řemeslná - гар үйлдвэрийн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988640"/>
            <a:ext cx="77439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koncesovaná - зєвшєєрсєн, эрх олгосон (лиценз)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 volná - чөлөөт арилжа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é oprávnění - арилжаа (бизнес) зөвшөөрөл, бүрэн эрх олго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Živnostenský úřad - арилжааны (бизнес) албан газа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71640" y="2204640"/>
            <a:ext cx="7743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ník = OSVČ = podnikat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ohlášení živnosti – živnostenský úřad </a:t>
            </a:r>
            <a:r>
              <a:rPr b="0" lang="cs-CZ" sz="28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opráv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836640"/>
            <a:ext cx="697212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DNIKÁNÍ V Č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640"/>
            <a:ext cx="7743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samostatně vykonává výdělečnou činnost, tzn. podniká či provozuje jinou hospodářskou činnost, se označuje jako osoba samostatně výdělečně čin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Je několik možnosti jak podnik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jako fyzická osoba/OSVČ – nejčastěji živnostnici (živnostenské oprávně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jako právnická osoba – obchodní společnosti (například s. r. o.) nebo družst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 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Živnostenské podnikán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2204640"/>
            <a:ext cx="77439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é podnikání v ČR upravuje zákon č. 455/1991 Sb., o živnostenském podnikání v platném zně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zinci s trvalým pobytem a azylanté tak mají v oblasti živnostenského podnikání stejné postavení jako občan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29Z</dcterms:modified>
  <cp:revision>283</cp:revision>
  <dc:subject/>
  <dc:title>Snímek 1</dc:title>
</cp:coreProperties>
</file>