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CD8-D8D6-492F-9B89-956CD606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6C1-4629-4673-AF00-15B9492C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CBD-42DE-404D-B0B7-81E3B973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328-195B-4A9B-B4EE-EE528F7D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62D-BB20-419F-8DC9-DB261499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7BB-68A3-49F7-94E4-7B3CBC3C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5A9-E0CD-4547-ABE4-03FDD07A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A461-E729-4FD1-A52F-2114456F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128-9EBB-4DD8-86E3-9F9BDE38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58C2-40FA-49A0-9371-864F59F9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09CA-FBA9-4D00-8431-43E8F0CB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6654-9CB4-42BA-B86B-D287213C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307A-320D-42AC-987F-9AA7EC70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3907-7E21-4DA5-9E57-2C172F00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E7D1-AF6B-4ADE-8A32-7A6599C4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3BFB-0275-42B0-828E-51886E56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6129-8C21-482E-B258-DE92F8BB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97CC-0D7B-4689-9ADC-4A294646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DCF2-2438-4F02-9BDE-58274AA1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CC8-1DA1-48D3-B56D-A1C0D63C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24BD-471E-4F43-B034-C804AC57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435BE-382D-41C1-B1FE-F3472C24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1CCFF-EE7B-4188-819C-D0E81A75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312C-D66E-45AB-873C-B9D58BDF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7537F-9DD2-464B-ADA3-4EE227AF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21B9-B7F9-48CA-A983-6533A475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FF01-D501-4226-891D-2B28A870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ACB0A-8D61-461D-8418-35FA3AD4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58FC-FEAD-48D4-BDA4-F50D0449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8283-E6BB-4546-B3C8-1A8B1F7A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6C8-E72F-4FEE-9212-E9846096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379C-9A84-4883-BAAF-3356BF5C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1BEA-2795-4CE2-BEAE-F7DCF70F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8A234-4863-4DD6-981E-DF58D317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B63F9-1F8C-4B9E-9E12-3C5C4B88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83885-71D5-42CC-99C3-1AAD0D5B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41B03-80F2-48F6-A10A-9F98DAC7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300A1-E84A-4691-ABB5-6219FC5B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4D1BF-7FCC-4845-B5AA-35ACB7AA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CACF-665B-44C1-AB0B-37A703D3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6D66-741E-468A-88CD-194EFEDA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464-A3B9-4B5B-90CA-3A2EF062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3DBA-A708-4A35-AF8F-CA0DB610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4959C-E237-4F2F-BD7E-57695DE9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123F-425F-4DA3-9B09-B7702C62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310F6-F28A-4EC3-9E34-56E8E9BC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9BEDD-16A5-4DF6-991C-0427D90F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8DAC0-9B20-4BC9-AD80-E48656D3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1696B-5728-4DB4-9AED-7DD68633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03D7F-FDC9-40FB-94C4-89CEB721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FA621-E76E-4AD0-8A66-9B54ECD9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0B8A-237F-4887-9BEC-2E6C5C5C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CBD-59A6-4BD4-B4F8-6234E3BF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338DB-EA89-45EB-A2D1-226BDEFC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E4916-FA97-430F-8AFC-1169FFB2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01960-3763-4296-BA74-7AD6452D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1B378-3D08-4EEB-B15B-5A029150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ECD8D-FD05-44BC-8A10-1BE9777D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3FD8-CF21-4CB4-A7C8-B2FF1800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E89FD-23DD-4111-8E49-0A2D96C5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02AD-825A-4377-B743-204C0E8BAE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A536-7776-4363-8069-BF694CCB38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80BA-BD9F-4A55-8A39-94761DE9D433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C9F9-0963-4BD9-9B93-0FBEABDB523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1C7A-0586-4DF6-A7C3-013641725325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B6CA-CC04-491B-942C-43FF8A348F8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02B8-E9B4-400A-ACB4-11F5E5006C9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55A5-C000-486F-90A1-98965B43284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0EB1-DBBC-421F-A28B-8E969279996A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2852-7372-4E56-B1D2-9AC5541E68E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508640"/>
            <a:ext cx="58579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ciální tlumočení ve styku s cizinci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bydlení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LTANGEREL Ochger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00000" y="1714320"/>
            <a:ext cx="78868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ypotéku poskytují banky, které si p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jí čerpání stanovují různé podmín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ližší informace o hypotékách podávaj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dnotlivé bank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znam bank na hypoték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www.banky.ic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691920"/>
            <a:ext cx="69721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Stavební spoření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26560" y="1714680"/>
            <a:ext cx="7959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dnou z možností, jak získat finance na koupi, stavbu nebo rekonstrukci bytu či dom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soba, která má trvalý pobyt na území České republiky a má přidělené rodné čísl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Výhod stavebního spoření (státní podpory) tak mohou využít i cizinci s trvalým pobytem v Č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ližší informace o stavebním spoření vá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á každá stavební spořitel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znamy stavebních spořitele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www.sfinance.cz/seznamy/stave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-sporitelny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764640"/>
            <a:ext cx="69721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Pojištění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ádný byt nebo dům nelze na 100% ochránit před možností vzniku požáru, před vytopením,vykradením, apod. Ke zmenšení následků těchto událostí je možné nechat si byt nebo dům pojistit. Bližší informace o pojištění je možné získat v jednotlivých pojišťovná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znam pojišťove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ttp://www.finance.cz/pojisteni/sez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y/pojistovny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2. Bydlení v nájm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971280" y="1714680"/>
            <a:ext cx="78152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ávní úprava nájmu bytu je rovněž obsažena v občanském zákoníku. Občanský zákoník umožňuje přenechat pronajatý byt nebo jeho část do podnájmu (na dobu určitou i neurčito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ájem bytu vzniká na základě nájemní smlouvy mezi pronajímatelem bytu a nájemc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ájemní smlouva musí být písemná a musí obsahovat minimálně následující údaje, jinak je neplatná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označení stran smlouv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pronajímatel a nájem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označení bytu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adresa, číslo bytu,počet místností atd.) a jeho příslušenství (chodby, prádelny, sušárny, sklepy, balkony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00000" y="1557000"/>
            <a:ext cx="7886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předmět nájm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o jaké prostory jde) a jeho účel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působ výpočtu nájemného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nebo jeho   výši nájmu, způsob a termín jeho platby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působ výpočtu úhrad za služb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spojené s užíváním bytu nebo jejich výši (za ústřední  vytápění, dodávku teplé vody, užívání výtahu, odvoz odpadků apod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dobu trvání nájm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jedná-li se o smlouvu na dobou určitou).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Verdana"/>
              </a:rPr>
              <a:t>Co je to vratná kauc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560" y="1628280"/>
            <a:ext cx="77439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še kauce se standardně pohybuje v rozmezí jednoho až dvou měsíčních nájmů, tedy částky, kterou platíte měsíčně za pronáj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auce je vratná po skončení pronajímání bytu a nejsou-li žádné nedoplatky, vrátí vám ji majitel v plné výš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zapomeňte si schovat podepsa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 o tom, v jaké výši jste kau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ložili. V případě neshod se vám t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lad bude hod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900000" y="1714680"/>
            <a:ext cx="7886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ájem bytu může zaniknout několika způso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ísemnou dohodou uzavřenou mezi pronajímatelem a nájemcem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uplynutím doby, na kterou byl nájemní vztah sjednán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písemnou výpovědí – v této výpovědi musí být uvedena lhůta, do kdy má nájem skončit, a to nejméně tři měsíce tak, aby skončila ke konci kalendářního měsí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55280" y="1714320"/>
            <a:ext cx="80312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věď z nájmu bytu může dát nájemce (i bez uvedení důvodu) nebo pronajímatel. Pronajímatel může vypovědět nájem pouze z důvodů uvedených v občanském zákoníku. Nájem může vypovědět s přivolením i bez přivolení soud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990033"/>
                </a:solidFill>
                <a:latin typeface="Verdana"/>
              </a:rPr>
              <a:t>Slovíčka ke tématu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2+KK –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ал тогооны булантай  хоěр өрөө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1+1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устай гал тогоотой нэг өрөө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3+1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устай гал тогоотой гурван өрөө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Osobní vlastnictví (OS, OV)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хувийн эзэмшлийн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Družstevní vlastnictví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хоршоолын байр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Nájemní smlouva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mn-Cyrl-MN" sz="2500" spc="-1" strike="noStrike">
                <a:solidFill>
                  <a:srgbClr val="000000"/>
                </a:solidFill>
                <a:latin typeface="Verdana"/>
              </a:rPr>
              <a:t>байр хөлслөх гэрээ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PSČ (poštovní směrovací číslo)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- шуудангын чиглэлий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Verdana"/>
              </a:rPr>
              <a:t>3.</a:t>
            </a: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Bydlení v družstevních byt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00000" y="1714680"/>
            <a:ext cx="7886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Každé bytové družstvo je zpravidla vlastníkem jednoho nebo více domů s byty, které přidělují svým členům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Člen, kterému byl byt přidělen, má právo na uzavření nájemní smlouvy s družstve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Při řešení otázek týkajících se obsahu nájemního vztahu k družstevním bytům  je třeba mít na zřeteli i stanovy družstva, na které občanský zákoník odkazuj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řihlášení k odběru energií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dalších služeb v bytě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odběr plynu – u dodavate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elektrické energ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v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k odvozu komunálního odpadu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Verdana"/>
              </a:rPr>
              <a:t>Ztráta bydl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stliže při ztrátě bydlení nemohou pomoci příbuzní nebo přátelé, je dobré zkusit se obrátit na některou charitativní organizaci, která pomoc v takových případech nabíz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ud se do potíží dostane matka s dětmi, může se obrátit např. na azylové domy pro matky s dětmi, které jsou provozovány v některých měste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 však třeba mít na paměti, ž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šechny tyto domy nebo ubytov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bízejí ubytování jen na přechodn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bu (v nouz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Verdana"/>
              </a:rPr>
              <a:t>Terminolog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71280" y="1628280"/>
            <a:ext cx="78152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Verdana"/>
              </a:rPr>
              <a:t>Fyzická osoba (FO)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 je pojem užívaný převážně v právu, kde je třeba odlišovat osoby v běžném slova smyslu (lidi) od jiných druhů osob, které právo za samostatný subjekt uznává ( např. podniká na základě živnostenského nebo jiného oprávnění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Verdana"/>
              </a:rPr>
              <a:t>Právnická osoba (PO)</a:t>
            </a:r>
            <a:r>
              <a:rPr b="0" lang="cs-CZ" sz="2700" spc="-1" strike="noStrike">
                <a:solidFill>
                  <a:srgbClr val="000000"/>
                </a:solidFill>
                <a:latin typeface="Verdana"/>
              </a:rPr>
              <a:t> je právní pojem, který se vedle pojmu fyzická osoba (člověk) používá pro označení jednoho ze dvou typů právních subjektů (způsobilost mít práva a povinnosti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Verdana"/>
              </a:rPr>
              <a:t>Zdroje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Informační publikace pro cizince ČR – MVČR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cs.wikipedia.org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cenyenergie.cz/plyn/clanky-1/odhlaseni-a-prihlaseni-odberu-plynu-krok-za-krokem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orientační číslo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ялгах дуаа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čtvrt (městská)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хороо, райо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elektři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тог, цахилга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majitel/majitelka bytu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байрны эзэ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ájemník/nájemnic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хөлслөг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ly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хий, гаа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ronajmou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хөлслүүлэ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ústřední tope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төвийн халаал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inkasa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сарын тог, усны урьдчилсан хураамж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680"/>
            <a:ext cx="77439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rátná záloha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буцааж олгох барицааны мөнг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otvrzení o ubytová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байрны бичи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movitos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үл хөдлөх хөрөнгө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ealitní kancelář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зуучилгаа бай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hypoteční úvěr na bydle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байрны зээл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odovo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усан хоол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olej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их сургуулийн оюутны дотуур байр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interná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дунд сургуулийн дотуур байр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54936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V ČR existuje několik forem bydlení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00000" y="1628280"/>
            <a:ext cx="78868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dlení ve vlastním bytě nebo dom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dlení v náj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dlení v družstevních byte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vláštní formy bydlení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475920"/>
            <a:ext cx="69721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1.Bydlení ve vlastním bytě nebo domě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00000" y="1557000"/>
            <a:ext cx="7886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dmínky nabývání nemovitostí cizinci v ČR upravuje devizový zákon č. 219/1995 Sb., v platném zněn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kruh oprávněných oso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le devizového zákona je nabývání bytů a domů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cizinci omezeno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Obecně mohou domy a byty nabýva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fyzické osoby s trvalým pobytem na území České republi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nebo právnické osoby se sídlem na území České republiky. Bližší podrobnosti obsahuje ustanovení § 17 devizového zák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upní smlouva mezi prodávajícím a kupujícím, která se řídí občanském zákoníkem (zákon č. 40/1964 Sb.). Smlouva musí být uzavřena písemně, jinak je neplatná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jitelem bytu nebo domu se stává okamžikem vkladu vlastnického práva do katastru nemovitostí ( nikoli tedy okamžikem podpisu kupní smlouvy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26560" y="1714680"/>
            <a:ext cx="7959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elý proces týkající se koupě bytu může trvat i několik měsíců. Je proto vhodné obrátit se na odborníka v oblasti nemovitosti, kterým může být právník, realitní makléř apo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nákup domu nebo bytu může využít hypoteční úvěr (informace podávají jednotlivé banky) nebo stavební spoření (informace podávají jednotlivé stavební spořitelny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54936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Hypoteční úvěr - hypotéka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věr určený ke koupi nebo stavbě bytu nebo domu pro vlastní bydlení, popř. na jejich rekonstrukc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žadatelem o hypotéku může být jak fyzická, tak i právnická osob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lácení hypotéky bývá zajištěno zástavním právem k nemovitosti, a to i rozestavěné. Hypoteční úvěr může mít splatnost až 30 le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7:28Z</dcterms:modified>
  <cp:revision>171</cp:revision>
  <dc:subject/>
  <dc:title>Snímek 1</dc:title>
</cp:coreProperties>
</file>