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9C9A-BD51-48EE-AC52-5D26FD924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BBF6-2B51-4DC2-8826-F023D58AD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7F0-EFD8-47CA-B855-FAC07321F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4A0-2342-4F1F-AEA2-4E4346BC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8E1-70D5-4FDD-A307-4218031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243-C2DC-4C53-B06A-447BFF85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CFE-7279-467C-B063-3374DE8B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677-2D16-4A45-8B11-95F634A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CA6-01CB-489E-B847-F1F956CB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51B-A1A4-4EB8-8C6B-98013066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0134-7473-47B6-8A11-A32832C7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F53-E097-45A2-AC4B-30CE05C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2B06-3471-40B4-92EF-93CDADFF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7E5D-9A72-4B7C-A0E7-73511B5E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BA4B-8569-4802-93C3-0C149D77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C455-7471-4F93-87C0-9E4A1614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73C-83F1-41A4-B8FA-8A209BCF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1AAE-B7E9-49F0-B762-2474A18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E939-130F-4B47-A0F2-620C1A2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A3F-0B5B-4FF3-8D42-41CC610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0FEA-7CE9-45B1-9830-08FF8206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8109-FE05-4390-9206-51C0B43C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BAD-4224-4C50-9A16-64E5ACD9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83EE-498F-4D98-805A-505440BA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FFC1-DF4B-4221-896F-BF18E592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5245-FF7C-4486-88A8-634972E6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9CF8-A745-468F-BE42-88EAB87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1434-AA3D-4D72-A835-378B9507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02F2-3777-4782-9793-ED6B463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C803-9477-4E39-8F6A-9EB1A6D4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7297-FED8-4923-9ADD-DFE99708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5124-4C77-402D-804D-B621B6D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1231-FA90-43A8-AE88-A561E73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7CB-BB30-4732-A51E-B5B972B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043B-8593-4644-9D1D-E181C190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0561-03CB-493B-9198-C648AAB5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6E48-8B21-4539-96AC-93172474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550C-45CD-4C44-AD50-805FAB89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93B4-92C4-48C6-B2AA-C9185A06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ED8A-B1BD-4804-B3DF-02FBDA23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00E6-5EC4-4B5D-BC39-D4215B8B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82F2-2AEE-4012-B9DB-679874BA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80B8-A32F-4BB1-B239-28CA4320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FD12-3BE4-4A69-B638-1B77B3D4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EF4-780A-4E7A-9F01-E5EA235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FD91-24B5-4171-8940-9486520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5354-7E32-45E2-A675-1DEC372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FEC4-23FC-492A-997E-E145D7BC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F399-845E-4E58-8325-9232AA2E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0C52-FE8B-43FC-B62E-7BC984D8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F4D9-DB74-4A9D-8616-FB08B83E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63A5-0A4C-4544-AB63-16D9B558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CACC-82B5-4B1C-A023-CEE660A2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C29E-00C5-4299-9F99-0A23B01D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B6014-D28E-4FFA-8CF5-1926CD5F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3B0-745E-4B78-A597-37E5FC8B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12586-A919-4AC3-90C0-81C0A30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CDEEF-E666-42C2-A463-4EBDC60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CF48-6F82-4047-9477-9D63F2C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F799-D55F-44B9-9853-39D1437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D52DB-CA68-49DF-9C77-29D96F26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F8CC-AE46-4A9C-90EA-DACE16B0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7B35-F917-4F89-A0C3-78BA4AE4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15C5-4A89-46FA-9CA8-B3BA5B72BB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E3D-6D26-4752-8ECB-D969876623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6CC0-EC8F-4C45-B2AB-A12B8901B03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6125-9629-4DCF-85DE-F5138FC7D50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1F2-35FC-403D-A972-EF2F3850BA3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3A2-5BC4-4232-A44D-CBB596DC2D8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6A06-786D-443E-8B42-BAC6164F0FD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9074-AE4F-498A-AEB5-A3008853AD0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604-7762-4CE7-BBE6-6DF07E010C4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B78A-21FA-4B53-A70D-622297B37E5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icpraha.org/" TargetMode="External"/><Relationship Id="rId2" Type="http://schemas.openxmlformats.org/officeDocument/2006/relationships/hyperlink" Target="http://www.cizinci.cz/" TargetMode="External"/><Relationship Id="rId3" Type="http://schemas.openxmlformats.org/officeDocument/2006/relationships/hyperlink" Target="http://www.domavcr.cz/" TargetMode="External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4076640"/>
            <a:ext cx="58579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"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zdravotní pojišt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ltangerel 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ám bylo uděleno vízum k pobytu nad 90 dnů za účelem strpění pobytu na území ČR nebo vydáno povolení k dlouhodobému pobytu za účelem strpění pobytu na území ČR – vztahuje se však pouze na případy konkrétně stanovené zákonem o pobytu cizinc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mn-Cyrl-MN" sz="3000" spc="-1" strike="noStrike">
                <a:solidFill>
                  <a:srgbClr val="990033"/>
                </a:solidFill>
                <a:latin typeface="Verdana"/>
              </a:rPr>
              <a:t>Эрүүл мэндийн даатгал сонгох</a:t>
            </a:r>
            <a:r>
              <a:rPr b="0" lang="mn-Cyrl-MN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Výběr zdravotní pojišťovny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та дээрхи нөхцөлүүдийн ал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гийг нь бүрдүүлсэн бол НЭМД-т хамаарагда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ас гадна мөн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араахи улсын байгууллагуудын эрүүл мэндийн даатгалы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нгон авах эрхтэй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tliž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lpňujete podmink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a které se vztahuje veřejné zdravotní pojištění, máte právo na výbě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dravotní pojišťovn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42560" y="1628640"/>
            <a:ext cx="77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šeobecná zdravotní pojišťovna (1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ojenská zdravotní pojišťovna (20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eská národní zdrav. pojišťovna (20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Agel (22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aměstnanecká pojišťovna Škoda (20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Revírní bratrská pokladna (2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édia (22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etal–Aliance (217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Zdravotní pojišťovna Ministerstva vnitra ČR (2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Oborová zdravotní pojišťovna (20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eská průmyslová zdravotní pojišťovna (20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00000" y="1628640"/>
            <a:ext cx="7886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үх эрүүл мэндийн даатгалууд нь хуулийн дагуу адилхан эмчилгээ үзүүлнэ. Зарим нэг давуу тал болон хямдрал дээр өөр өөр байна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ын нутаг дэвсгэр дээр төрсөн хүүхдийн (гадаад иргэний) ээж нь хүүхдээ 8 хонгийн дотор эрүүл мэндийн даатгалын газарт мэдэгдэх үүрэгтэ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šechny zdravotní pojišťovny zajišťují podle zákona stejný rozsah zdravotní péče, liší se jen v nabídce některých výhod, slev a příspěvk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případě narození dítěte na území ČR, které se stává pojištěncem zdravotní pojišťovny, u které je pojištěna jeho matka (narození dítěte ste povinen oznámit této zdravotní pojišťovně do 8 dn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000" spc="-1" strike="noStrike">
                <a:solidFill>
                  <a:srgbClr val="990033"/>
                </a:solidFill>
                <a:latin typeface="Verdana"/>
              </a:rPr>
              <a:t>Ямар үед НЭМД хүчингүй вэ?</a:t>
            </a:r>
            <a:br>
              <a:rPr sz="30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Kdy veřejné zdrav.pojišťovny zaniká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нгийн оршин суух зөршөөрөлгүй үед БНЧУ-д ажлын байраа алдах тэр өдрөө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ын нутагт байнгийн оршин су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хээ алд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лон улсын хамгаалалтын (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zyl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рогнол эсвэл нөхөн хамгаалалт –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plňková ochrana)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сэлтийн процесс зогссон бас татгалзса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д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лээлгийн зорилоготой 90 хоногоос дээш эсвэл урт хүгацааны виз хүчингүй эсвэл цуцласа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атгуулагч нас барах юмуу нас барснаар зарлах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nem, kdy osoba bez trvalého pobytu na území ČR přestala být zaměstnance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rušením trvalého pobytu na území ČR, zastavením řízení nebo zamítnutím žádosti o mezinárodní ochran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nětím nebo zánikem mezinárodní ochra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rušením nebo skončením platnosti víza k pobytu nad 90 dnů za účelem strpění pobytu na území ČR nebo povolení k dlouhodobému pobytu za účelem strpění pobytu na území Č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mrtím nebo prohlášením cizince za mrtvéh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dravotní pojišt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71640" y="1628280"/>
            <a:ext cx="7743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ий эрх ба эрх чөлөөний тунхаглалын 31-р хэсгийн дагуу хүн бүр эрүүл мэндээ хамгаалуулах эрхтэ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нэлгийн тусламж нь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рүүл мэндийн даатгалын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үндсэн дээр олгогд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900" spc="-1" strike="noStrike">
                <a:solidFill>
                  <a:srgbClr val="990033"/>
                </a:solidFill>
                <a:latin typeface="Verdana"/>
              </a:rPr>
              <a:t>НЭМД</a:t>
            </a:r>
            <a:r>
              <a:rPr b="1" lang="cs-CZ" sz="2900" spc="-1" strike="noStrike">
                <a:solidFill>
                  <a:srgbClr val="990033"/>
                </a:solidFill>
                <a:latin typeface="Verdana"/>
              </a:rPr>
              <a:t>-</a:t>
            </a:r>
            <a:r>
              <a:rPr b="1" lang="en-US" sz="2900" spc="-1" strike="noStrike">
                <a:solidFill>
                  <a:srgbClr val="990033"/>
                </a:solidFill>
                <a:latin typeface="Verdana"/>
              </a:rPr>
              <a:t>ын даатгал төлөгчид</a:t>
            </a:r>
            <a:br>
              <a:rPr sz="2800"/>
            </a:b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látc</a:t>
            </a: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 pojistného</a:t>
            </a: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 na 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zdravotní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pojiště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00000" y="1773000"/>
            <a:ext cx="7886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АЖИЛ ОЛГОГЧ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ажилтныг хөдөлмөрийн харьцаа үүсгэж ажилд ороход энэ тухай ажил олгогч нь 8 хоног дотор зохих эрүүл мэндийн даатгалын газарт мэдэгдэх ёст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ажил олгогч даатгалын зохих хэсгийг ажилтны цалингаас нь (13,5%) суутгаж даатгалыг харъяа даатгалын байгууллагад шилжүүлнэ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даатгалын хэсгийн 2/3 ажил олгогч өөрийн фондноос, 1/3 ажилтны цалингаас нийт даатгалын хэмжээг боддо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ZAMĚSTNAVATELÉ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 nástupu zaměstnance do zaměstnaneckého poměru musí o této skutečnosti zaměstnavatel nejpozději do 8 dnů informovat příslušnou zdravotní pojišťovnu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pojistné za zaměstnance odvádí zaměstnavatel, příslušnou částku mu sráží z platu (13,5%) a poukazuje příslušné pojišťovně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ást pojistného (2/3) platí zaměstnavatel ze svých fondů, část pojistného (1/3) odečítá z vaší mzd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71280" y="1714320"/>
            <a:ext cx="781524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říklad 1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Zaměstnanec v hlavním pracovním poměru pobírá mzdu ve výši 10 484 Kč. Je plátcem zdravotního pojištění. Jakou částkou se podílí na zdravotním pojištění zaměstnanec a zaměstnavat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rubý příjem zaměstnan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vyměřovací základ pro výpočet pojistnéh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 484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vatel po zaokrouhlení odvede pojistné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0 484 * 13,5 %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 416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nci strhne z plat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 416 : 3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7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Zaměstnavatel uhradí ze svých prostředk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 416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72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44 K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Анхаар!!!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эрвээ таны ажил олгогч (ажилийн газар,фирма, агентур)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рүүл мэндийн даатгалыг буруу төлөх эсвэл огт төлөхгүй байгаа мэт танд санагдаж байвал та эрүүл мэндийн даатгалыг төлсө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төлбөрийн хуудасыг ажил олгогчоос нэхэмжлэх эрхтэй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ZOR!!!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stli,že máte podezření, že za vás zaměstnavatel (firma, agentura) neplatí správně zdravotní pojištění, můžete si vyžádat potvrzení příslušné zdravotní pojišťovny o zaplaceném pojistné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ДААТГУУЛАГЧ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уулагч байнгийн ажилгү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гэрээт, хувиараа, цагийн ажил хийж тогтмол биш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рлоготой, төр даатгалы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төлдөггү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өхцөлт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уулийн заалтын дагуу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уулагч өөрөө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алаа төлнө. Эрүүл мэндийн даатгалын газар сар болгон хуурамж тушаана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OJIŠTĚNCI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pojistné si platíte sám/sama, pokud za vás neplatí pojistné stát ani zaměstnavatel nebo nemáte určitou hranici příjmu , např. když pracujete na dohodu o provedení práce, nepravidelnou výpomoc, příležitostné prá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6560" y="1714320"/>
            <a:ext cx="7959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ТӨР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ийтийн эрүүл мэндийн даатгалын зарим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ролцогчдын даатгалыг төлөгч нь төр байна. Үүн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тэжээгчгүй хүүхдүүд (26 хүртлэх насны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жирэмсний ба амаржсаны амралттай  эхчүү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Чех улсын тэтгэврийн даатгалаас тэтгэвэр авагчи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ийн тэтгэмж авч хүүхэд асарч буй хүмүүс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хөдөлмөрийн товчоонд бүртгэлтэй байгаа ажил хайгч хүмүү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STÁ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nezaopatřené děti (do 26 let věk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oživatele důchodů z důchodového pojištění Č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říjemce rodičovského příspěv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matky na mateřské a rodičovské dovole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uchazeče o zaměstnání (kteří jsou zaregistrovaní na úřadu práce) a dalš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900" spc="-1" strike="noStrike">
                <a:solidFill>
                  <a:srgbClr val="990033"/>
                </a:solidFill>
                <a:latin typeface="Verdana"/>
              </a:rPr>
              <a:t>Ямар үед даатгал төлөхгүй вэ?</a:t>
            </a:r>
            <a:br>
              <a:rPr sz="2900"/>
            </a:br>
            <a:r>
              <a:rPr b="0" lang="cs-CZ" sz="2900" spc="-1" strike="noStrike">
                <a:solidFill>
                  <a:srgbClr val="990033"/>
                </a:solidFill>
                <a:latin typeface="Verdana"/>
              </a:rPr>
              <a:t>Kdy nejsem povinen platit pojistné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эв та 6 сараас дээш гадаад улсад оршин су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 тухайн газраа эрүүл мэндийн даатгалд хамаарагдахаар бол Чех дэх даатгалын газарт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бичгэн мэдэгдэл өгөө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рүүл мэндийн даатгалаа төлөх хэрэггүй. Харин гадаадаас ирсэн үедээ Чех д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ь даатгалын газартаа гадаадад даатгалд хамаарагдаж байсан баримтаа үзүүлэхгүй бол Ч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д байхгүй байсан сарынхаа тоогоор нөхөн төлбөр төл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42560" y="1699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Nejste povinen platit pojistné, když pobýváte v cizině </a:t>
            </a: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déle než 6 měsíců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, pokud jste v cizině zdravotně pojištěn, a písemně jste o tom informoval vaši zdravotní pojišťovnu v ČR. Po tuto dobu, až do opětovného přihlášení, nemáte nárok na úhradu zdravotní péče z veřejného zdravotního pojištění. Po návratu musíte předložit doklad o zdravotním pojištění v cizině a jeho délce. Pokud takový doklad nepředložíte, budete muset příslušné zdravotní pojišťovně doplatit pojistné zpětně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9721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Худалдааны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(гэрээний) эрүүл мэндийн даатгал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Komerční (smluvní) zdrav.pojišt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00000" y="1557000"/>
            <a:ext cx="784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3 сараас дээш оршин суух эрхтэй б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гадаадын иргэ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эрвээ та НЭМД-т хамаарагдах нөхцлийг бүрдүүлээгүй бол БНЧУ-ын худалдааны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аатгалд хамаарагдах үүрэгтэй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Pojišťovna VZP , a.s. (dále PVZ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Slavi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 Viktoria Volksbanken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Maxim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Uniqua Pojišťo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článku 31 Listiny základních práv a svobod má každý právo na ochranu zdrav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avotní péče se zpravidla poskytuje na základě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dravotního pojiště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zinc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teří maj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byt na území ČR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ší než 3 měsíc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nesplňujete podmínky pro účast ve veřejném zdravotním pojištění, máte povinnost uzavřít komerční zdravotní pojištění, které mají oprávnění poskytovat toto pojištění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Худалдааны (гэрээний) даатгалын төрлүүд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: </a:t>
            </a:r>
            <a:br>
              <a:rPr sz="32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Typy komerčního pojištění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00000" y="1700280"/>
            <a:ext cx="7886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өвхөн шаардлагатай ба хойшлуулшгүй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эмчилгээ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мчийн үзлэгт орох хэрэггүй, 1 өдрөөс 3 жилийн хугацаатай гэрээ байгуулж болно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амгийн бага даатгалы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угацаа нь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ээ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хоног бай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г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жилийн даатгалын төлбөр 5000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000,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арим гэрээний даатгал Шенгений нутаг дэвсгэрт хүчинтэ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1915920"/>
            <a:ext cx="774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г хүнд ноогдох эмчилгээний төлбөр 1 200 000,-, хэрвээ 2 000 000,- хүртэл өсгөвөл даатгалын жилийн хураамж бас өсн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!!!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Гэрэ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йхээсээ өмнө даатгал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отоод жур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заалты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айт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далах хэрэг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NUTNÁ A NEODKLADNÁ (AKUTNÍ) PÉČ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- základn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ní potřeba lékařské vyšetření, může se sjednat na dobu od jednoho dne až do 3 let. Pojištění se sjednává na jednotlivé dny, přičemž minimální pojistná doba obvykle činí tři d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jistné je u jednotlivých pojišťoven různé, pohybuje se mezi 5000 – 8000,- Kč roč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ytí do výše 1 200 000,- Kč lze navýšit až na 2 000 000,-, ale platíte vyšší pojist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latí pro území ČR a území ostatních schengenských stá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ůkladně prostudujte pojistné podmínky, neboť tato pojištění mají mnoho výjimek a ome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Урт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хугацааны гэрээт даатг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а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ж бүрэ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эхүү даатгалыг зөвхө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„ Zdravotní pojištění cizinců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(ZPC)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гэсэн нэрэн доор PVZP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2010.6.1-ээс Slavia pojišťovna хийдэг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3 сараас дээш оршин суух эрхтэ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энэ төрлийн гэрээт даатгалын нөxөн олговорын хэмжээ нь ихэнхдээ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оношлогоо эмчилгээ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амбулаторийн ба хэвтэж эмчлүүлэх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мний мөнгө ба эмнэлгийн хэрэгслүү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жирэмслэл болон төрөлт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мнэлгийн байгууллагад хүрэх шаардлагаар гарсан замын зардалтай холбоотой зарлагы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амарна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900000" y="1628640"/>
            <a:ext cx="7886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г 6-аас 24 сар хүртэл хугацаагаар хийж болно. Даатгуулсан бүх хугацааны мөнгийг урьдчилж бэлэн мөнгөөр төлн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иж бүрэн даатгалын төлбөр нь  даатгуулачийн нас хүйснээс хамаарч өөр өөр байн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н гэрээг 0-70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оронд наста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үнийг, эмчийн анхан шатны үзлэгт оруулсны үндсэн дээр хийнэ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Анхаар! даатгалын газар даатгал хийх албагү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00000" y="1628280"/>
            <a:ext cx="7886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MPLEXNÍ PÉČ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to pojištění poskytuje pouze PVZP (od 1. června 2010 i Slavia pojišťovna) pod názvem „Zdravotní pojištění cizinců“ (ZPC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ajišťuje zdravotní péči v rozsahu, který je širší než u pojištění nutné a neodkladné péče (pokrývá např. diagnostickou, léčebnou,ambulantní a ústavní péči, těhotenství a porod, výdaje spojené s dopravou potřebnou k dosažení zdravotnického zařízení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určeno pro cizince pobývající na území ČR po dobu delší než 3 měsí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jištění může být sjednáno na období od šesti měsíců až do tří let a pojištěná osoba může být ve věku od 0 do 70 let/Pozor! Pojišťovna pojistit nemusí!/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na komplexního pojištění je podstatně dražší a odvíjí se od pohlaví a vě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zemní platnost – ČR a ostatní schengenské stá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эв та ямар нэгэн шалтгаанаар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эрүүл мэндийн даатгалд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амрагдаагүй т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олдол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ч болон эрүүл мэндийн байгуулага эмчилгээний төлбөрийг бэлнээр аль эсвэл төлбөрийг ,, гэрээний үни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дагуу хийхийг шаар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өгөөд энэ нь нилээдгүй өндөр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мжээтэй байж бол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юм. Үүнээс гадна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рүүл мэндийн даатгалд хамаарагдаагүй тохиолдолд БНЧУ-д оршин суух эрх ч хүчингүй бол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болзошгүй байда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00000" y="1628280"/>
            <a:ext cx="7886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эрэв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рүүл мэндийн даатгалд хамрагдаагү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рүүл мэндийн даатгала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өлөгддөггүй эмнэлгийн тусламж үзүүлэ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хиолдол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эмнэлгийн тусламж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үнэ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төлбөр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případě, že osoba není účastna zdravotního pojištění, případně se jedná o zdravotní péči, která není hrazena ze zdravotního pojištění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skytuje se zdravotní péče za úhrad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42560" y="1557000"/>
            <a:ext cx="774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z nějakého důvodu nemáte zdravotní pojištění, bude po vás lékař nebo léčebné zařízení požadovat po jakémkoli vyšetření, ošetření nebo zákroku úhradu v hotovosti, nebo péči účtovat ve „smluvních“ cenách, které mohou dosahovat velmi vysokých část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omě toho nesplnění povinnosti mít zdravotní pojištění může být důvodem zrušení platnostivydaného oprávnění k pobytu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4000" spc="-1" strike="noStrike">
                <a:solidFill>
                  <a:srgbClr val="990033"/>
                </a:solidFill>
                <a:latin typeface="Verdana"/>
              </a:rPr>
              <a:t>Оюу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Засгийн газрын солилцооны хөтөлбөр - эрүүл мэндийн даатгалыг улсаас даа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вропын холбооны улсын оюутан солилцох хөтөлм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гэрээгүй оюутан - оршин суух хуулийн дагуу эрүүл мэндийн даатгалаа оюутан өөрөө төл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Studenti</a:t>
            </a:r>
            <a:r>
              <a:rPr b="1" i="1" lang="cs-CZ" sz="4000" spc="-1" strike="noStrike" u="sng">
                <a:solidFill>
                  <a:srgbClr val="990033"/>
                </a:solidFill>
                <a:uFillTx/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xistence mezivládní dohody – náklady na akutní léčení ze státního rozpoč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U a obecné dvoustranné smlouvy – stejné podmínky jako ostatní obča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smluvní cizina – podmínky dle zákona o pobytu cizinc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cicpraha.org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cizinci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domavcr.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972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000" spc="-1" strike="noStrike">
                <a:solidFill>
                  <a:srgbClr val="990033"/>
                </a:solidFill>
                <a:latin typeface="Verdana"/>
              </a:rPr>
              <a:t>Эрүүл мэндийн даатгалын төрлүүд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000" spc="-1" strike="noStrike">
                <a:solidFill>
                  <a:srgbClr val="990033"/>
                </a:solidFill>
                <a:latin typeface="Verdana"/>
              </a:rPr>
              <a:t>Typy zdravotního pojištění</a:t>
            </a: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26560" y="1628640"/>
            <a:ext cx="7959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ех улсад эрүүл мэнд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аатгалын хоёр төрөл байдаг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нийтийн” заавал байх эрүүл мэндийн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даатгал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үүсэ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өхцө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ь хуулиар өгөгдсө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худалдаан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гэрээний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эрүүл мэндийн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даатгал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атгалын гэрээ байгуулснаар үүсдэг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нгийн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90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үртэ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оно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иж бүр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 сараас 3 жил хүртэ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71280" y="1628640"/>
            <a:ext cx="7815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ČR existují dva typy zdravotního pojištění: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inné veřejné zdravotní pojiště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é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zniká při splnění podmínek přímo z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ákon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komerční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mluvní) zdravotní pojištění, které vzniká uzavřením pojistné smlouv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základní (do 90 dnů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komplexní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ěsíců do tří le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6972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Verdana"/>
              </a:rPr>
              <a:t>Нийтийн эрүүл мэндийн даатгал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Verdana"/>
              </a:rPr>
              <a:t>Veřejné zdravotní pojišt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71280" y="1628280"/>
            <a:ext cx="78152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Ямар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нөхцөлд нийтийн эрүүл мэндийн даатгалд хамаарагдах ёстой вэ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БНЧУ-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 байнгий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ршин суу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өвшөөрөлтэ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хэрвээ ажиллаж байгаа албан байгуулага эсвэл ажлын дарг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НЧУ-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 албан ёсны байнгий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оршин суу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зөвшөөрөлтэй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олон улсын хамгаал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zyl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рогнол эсвэл нөхөн хамгаал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doplňková ochrana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) хүсс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мөн авсан 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вээ БНЧУ-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үлээлгийн зорилоготой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90 хоногоос дээш эсвэл урт хүгацааны виз олгосон ү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DO JE ÚČASTNÍKEM VEŘEJNÉHO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DRAVOTNÍHO POJIŠTĚN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te trvalý pobyt na území České republik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te cizinec – zaměstnanec zaměstnavatele, který má sídlo nebo trvalý pobyt na území Č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te žadatel o mezinárodní ochranu (azyl nebo doplňková ochrana), nebo vám byl udělen azyl nebo doplňková ochrana v Č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9:16Z</dcterms:modified>
  <cp:revision>305</cp:revision>
  <dc:subject/>
  <dc:title>Snímek 1</dc:title>
</cp:coreProperties>
</file>