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500C-432A-46BD-A0D4-7B136764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B0A1-21B9-440D-9E40-708F094C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5BD-162F-4CD4-A176-5A9676B3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D4D-C74C-416D-AECE-4DF0444D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63D-0606-4060-8C26-D65D52D5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B9A6-D797-4AF4-AF42-74523085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7B9E-DE43-4187-95A9-971606FE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1F10-5C93-4572-99CA-472B261E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41D-7995-4E77-915A-13C9CE1D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C4D2-27EA-4A0B-A2D8-AD79A927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9084-85D1-4DAF-93DE-CE5C729A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9D07-72BC-47D3-9277-39A11674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FE9F-78E3-4C0F-9979-B275335D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C21B-AAA4-4F47-85EF-7045C5FD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E642-AFC6-452B-B9FA-C8E05F79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DF4E-8D74-4F03-83B0-66AE5B35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BFC0-4EDE-4364-8E35-279090FE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B581-462E-4007-9909-1540C4C6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1E60-81C2-4B36-9F6C-7766520B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A8D-0910-46C1-A47F-E7D1CCED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C5C6-F932-49BC-AC5E-756241A9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79DB9-4B69-4847-9DD0-9493992D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81AD4-763C-41C8-B2F3-1F4AC67C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4E7D-1742-4032-A09F-4E4F7B09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20D29-1BBA-4899-AA6C-090DA7C2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23298-B29C-4F0E-B287-CD50C24F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C2955-468C-460E-8B62-A0ED8F63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24F87-C766-4A7C-B1A7-268F3CE4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B92DD-04E8-4DAF-A3DB-781B8B4C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F1565-DC34-4393-8E62-238E3119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A44-78FB-4A6D-A7E5-11CBF6D5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F07FF-B397-4039-870B-F76D5C48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90EB2-0706-4201-92BA-960E1609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F5D8E-7462-4E93-B225-FE3471D1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70592-F26C-4AFB-B108-17B35495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CC1F-2986-487C-85AF-3862C640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46376-8187-4BBC-B1B2-F104156B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3809C-8AF0-440C-B296-5918C588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DA39B-47B3-460A-B84B-4628B4E3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BFA5F-63F0-44F2-9FBB-646EB6C3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C2487-519A-461C-95E1-2E76924C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B89-2A93-4C32-BEC5-84219236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74B1F-34AC-4847-ACA2-70302D41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6D024-4CF0-46EB-B82C-4517A33E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1188B-1325-478E-81E9-D32452C4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50838-6CED-4ED9-BCDE-9409BF79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A07D3-F1B3-402E-9765-4A047B6B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1513B-6539-4DFA-8453-E6810BE3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C07A5-D496-4D3D-AD68-52BBEAAD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91092-7F28-4E8A-BE15-68C8F908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2568A-DD31-40B7-8571-5F851E6D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819F5-68AC-43E8-9750-55839234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06BD-203A-4C08-BE07-821DD5C7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62FAF-B2B1-41CD-A0BE-B2D0BA68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FB16D-3D34-4DDA-8393-54C956F5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AB60D-77CB-4D71-9F46-B933FD63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89710-6E88-49A5-83A5-23772C4B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0FCC6-1A04-4F85-B1A3-70B536DE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017D9-A419-41C9-8780-B20F4D50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A5F2B-4266-46ED-839C-7C62FCFA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51C8-9903-4331-9D96-583D1F515B6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EA46-9598-4EB5-A8F8-2243BCB64B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AF37-7DD7-4EF4-AD0C-EE7A076192A2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D346-E075-4509-989A-77A1459AADA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2C37-2E78-4563-832E-892239E57997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2BF9-17EE-477C-8844-FC0728B5879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C400-C09F-46EC-9DE8-4CF86C411629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C5DF-E5C3-468A-A52C-4D73F477928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755F-34C0-4064-8AF2-C4658510FFEA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3D3B-92FD-4C6F-B21E-5AEB983A16B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ortal.mpsv.cz/sz/zahr_zam" TargetMode="External"/><Relationship Id="rId2" Type="http://schemas.openxmlformats.org/officeDocument/2006/relationships/hyperlink" Target="http://www.portal.mpsv.cz/sz/zahr_zam/prociz" TargetMode="External"/><Relationship Id="rId3" Type="http://schemas.openxmlformats.org/officeDocument/2006/relationships/hyperlink" Target="http://www.portal.mpsv.cz/sz/zahr_zam/zelka" TargetMode="External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olicie.cz/sluzba-cizinecke-policie.aspx" TargetMode="External"/><Relationship Id="rId2" Type="http://schemas.openxmlformats.org/officeDocument/2006/relationships/hyperlink" Target="http://www.policie.cz/clanek/kontakty-na-reditelstvisluzby-a-jednotliva-oblastni-reditelstvi.aspx" TargetMode="External"/><Relationship Id="rId3" Type="http://schemas.openxmlformats.org/officeDocument/2006/relationships/hyperlink" Target="mailto:infoscpp@mvcr.cz" TargetMode="External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vcr.cz/azyl-migrace-a-integrace.aspx" TargetMode="External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zv.cz/jnp/cz/o_ministerstvu/adresar_diplomatickych_misi/ceske_urady_v_zahranici/index.html" TargetMode="External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rtal.mpsv.cz/sz/zahr_zam" TargetMode="External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rtal.mpsv.cz/sz" TargetMode="External"/><Relationship Id="rId2" Type="http://schemas.openxmlformats.org/officeDocument/2006/relationships/hyperlink" Target="http://www.statnisprava.cz/" TargetMode="External"/><Relationship Id="rId3" Type="http://schemas.openxmlformats.org/officeDocument/2006/relationships/hyperlink" Target="http://www.suip.cz/" TargetMode="External"/><Relationship Id="rId4" Type="http://schemas.openxmlformats.org/officeDocument/2006/relationships/hyperlink" Target="http://www.portal.mpsv.cz/sz/zamest/zpr_prace" TargetMode="External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uip.cz/informacni-materialy/pracovnepravni-vztahy/" TargetMode="External"/><Relationship Id="rId2" Type="http://schemas.openxmlformats.org/officeDocument/2006/relationships/hyperlink" Target="http://www.mpsv.cz/" TargetMode="External"/><Relationship Id="rId3" Type="http://schemas.openxmlformats.org/officeDocument/2006/relationships/hyperlink" Target="http://www.spocitej.cz/" TargetMode="External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4292640"/>
            <a:ext cx="58579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,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ociální tlumočení ve styku s cizinci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administrativní činnos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¨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Altangerel 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1714320"/>
            <a:ext cx="7743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portal.mpsv.cz/sz/zahr_z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informace o podmínkách zaměstnávání cizinců v Č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www.portal.mpsv.cz/sz/zahr_zam/proci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(databáze volných pracovních míst z úřadů prá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www.portal.mpsv.cz/sz/zahr_zam/zel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zelené kar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portal.mpsv.cz/sz/zahr_zam/modka (modré kar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ochrance.cz (veřejný ochránce práv (ombudsman) - nezávislý státní orgán, zabývá se ochranou osob před jednáním úřadů, které je v rozporu se zákonem, pomáhá obětem diskrimina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iz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eziskové organizace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právní poradenství, podle možností i právní zastupování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Občanské poradny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bezplatné poradenství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Zaměstnání a podnikání v Č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úřady a organiz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ůležité záko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formace a internetové odkaz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33"/>
                </a:solidFill>
                <a:latin typeface="Verdana"/>
              </a:rPr>
              <a:t>Úřady a organiz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042560" y="1915920"/>
            <a:ext cx="77439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řad prá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ziskové organizace (právní poradenství, podle možností i právní zastupován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čanské poradny (bezplatné poradenstv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inisterstvo průmyslu a obcho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ivnostenský úř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inanční úř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42560" y="1988640"/>
            <a:ext cx="77439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kresní správa sociálního zabezpečení (OSSZ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acoviště Ministerstva vnitra (OA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GLE – vzdělávání a poradenství pro cizince v oblasti podnik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Zdravotnictví a sociální zabezpečení v Č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úřad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ůležité záko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formace a internetové odkaz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Úřady a organizac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042560" y="1773360"/>
            <a:ext cx="7743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inisterstvo zdravotnictv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rajský úřad – Odbor sociálních věci a zdravotnictv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řad práce – odbor státní sociální podp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 dávky státní sociální podpory (rodičovský příspěvek a dalš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kresní správa sociálního zabezpečení (OSSZ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důchodové pojištění, důch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nemocenské pojištění, „mateřská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eská správa sociálního zabezpe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řídí a kontroluje činnost OSSZ a rozhoduje o nároku na důchody, jejích výši a výplatě, vyplácí důcho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ociální odbor obecního nebo městského úřadu/magistrá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sociální služby a pomoc v hmotné nouz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inisterstvo práce a sociálních vě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990033"/>
                </a:solidFill>
                <a:latin typeface="Verdana"/>
              </a:rPr>
              <a:t>Důležité zákon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o organizaci a provádění sociálního zabezpečení (Zákon č. 582/1991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o důchodovém pojištěni (Zákon č. 155/1995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o státní sociální podpoře (Zákon č. 117/1995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o pomoci v hmotné nouzi (Zákon č. 111/2006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o sociálních službách (Zákon č. 108/2006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042560" y="1773360"/>
            <a:ext cx="7743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cssz.cz/cz/mezinarodni-smlouvy/smlouvy-uzavrene-c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seznam zemí, které uzavřely s ČR mezinárodní smlouvu o sociálním zabezpečen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portal.mpsv.cz/soc/poradce (sociální poradce na internetu vám pomůže odhadnout, jestli máte nárok na nějakou dávku nebo příspěvek, poradí, jak řešit tíživou sociální situac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Pobytový zákon pro cizince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úřady a organiz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ůležité záko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formace a internetové odkaz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042560" y="1714320"/>
            <a:ext cx="774396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niporadce.mpsv.c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(zde najdete aktuální informace ze zákonů a rady, jak řešit různé životní situ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cssz.cz/cz/tiskopisy/duchodove-pojisteni.htm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seznam všech formul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řů v elektronick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mě – důchodov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ojištěn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forms.mpsv.cz/sspforms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(formuláře - dávky státní sociální podpory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320" y="549360"/>
            <a:ext cx="6972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Policie České republiky – Služba cizinecké polici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42560" y="1773360"/>
            <a:ext cx="7743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nformace o podmínkách vstupu a pobytu cizinců v Č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policie.cz/sluzba-cizinecke-policie.aspx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kontakty: </a:t>
            </a:r>
            <a:r>
              <a:rPr b="0" lang="cs-CZ" sz="23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www.policie.cz/clanek/kontakty-na-reditelstvisluzby-a-jednotliva-oblastni-reditelstvi.aspx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Verdana"/>
              </a:rPr>
              <a:t>Informační linka pro pobyt cizinců na území ČR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- pondělí – čtvrtek 9.00 –15.30, pátek 9.00 -14.00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- telefon: +420 974 841 356, +420 974 841 357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cs-CZ" sz="23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infoscpp@mvcr.cz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Ministerstvo vnitra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988640"/>
            <a:ext cx="77439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nformace o vstupu a pobytu cizinců v ČR, informace o trvalém pobytu, azylu a dalš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mvcr.cz/azyl-migrace-a-integrace.asp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Adresa: Nad Štolou 3, poštovní schránka 21, 170 34 Praha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Telefon: +420 974 811 1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Ministerstvo zahraničních věcí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42560" y="1844280"/>
            <a:ext cx="77439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nformace o vízech a povoleních k pobytu pro cizi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formace ze zastupitelských úřadů ČR v zahranič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mzv.cz/jnp/cz/o_ministerstvu/adresar_diplomatickych_misi/ceske_urady_v_zahranici/index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mzv.c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dresa: Loretánské nám. 101/5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18 00 Praha 1 – Hradč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0033"/>
                </a:solidFill>
                <a:latin typeface="Verdana"/>
              </a:rPr>
              <a:t>Ministerstvo práce a sociálních vě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nformace o podmínkách zaměstnávání cizinců v ČR a hledání volných pracovních míst v ČR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portal.mpsv.cz/sz/zahr_z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www.mpsv.c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dresa: Na Poříčním právu 1, 128 01 Praha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elefon: +420 221 921 1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-mail: posta@mpsv.c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42560" y="1915920"/>
            <a:ext cx="774396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Úřady práce (podle místa bydliště) a oblastní inspektorát prá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portal.mpsv.cz/s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www.statnisprava.c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www.suip.c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nformace o agenturách prá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b8803"/>
                </a:solidFill>
                <a:uFillTx/>
                <a:latin typeface="Verdana"/>
                <a:hlinkClick r:id="rId4"/>
              </a:rPr>
              <a:t>www.portal.mpsv.cz/sz/zamest/zpr_p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620640"/>
            <a:ext cx="69721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Verdana"/>
              </a:rPr>
              <a:t>Důležité zákon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1699920"/>
            <a:ext cx="77439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Zákon o pobytu cizinců (Zakon č.326/1999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Zákon o zaměstnanosti (Zakon č.435/2004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Zakonik prace (Zakon č. 262/2006 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Antidiskriminační zákon (Zákon č.189/2009Sb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990033"/>
                </a:solidFill>
                <a:latin typeface="Verdana"/>
              </a:rPr>
              <a:t>Informace a internetové odkaz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1714320"/>
            <a:ext cx="7743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all centrum služeb zaměstnanosti – poradenstvi: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fon: 844 844 8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www.suip.cz (statni úřad inspekce prác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eb8803"/>
                </a:solidFill>
                <a:uFillTx/>
                <a:latin typeface="Verdana"/>
                <a:hlinkClick r:id="rId1"/>
              </a:rPr>
              <a:t>www.suip.cz/informacni-materialy/pracovnepravni-vztahy/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(informace o pracovním poměru a agenturním zaměstnávání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eb8803"/>
                </a:solidFill>
                <a:uFillTx/>
                <a:latin typeface="Verdana"/>
                <a:hlinkClick r:id="rId2"/>
              </a:rPr>
              <a:t>www.mpsv.cz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(v sekci „Práce a právo“ najdete informace ze zákoníku prác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eb8803"/>
                </a:solidFill>
                <a:uFillTx/>
                <a:latin typeface="Verdana"/>
                <a:hlinkClick r:id="rId3"/>
              </a:rPr>
              <a:t>www.spocitej.cz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(zde si můžete sami vypočítat výši čisté mzdy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7:16Z</dcterms:modified>
  <cp:revision>335</cp:revision>
  <dc:subject/>
  <dc:title>Snímek 1</dc:title>
</cp:coreProperties>
</file>