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sldNum" idx="17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159BB-2574-4967-B6F1-A089A9F4F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AC59D-9491-4BCC-A996-74D7EFFF0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2799FF-C964-4996-BCF9-6A084AB7F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3A0CF-C890-4AD8-9E70-149248040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016BD-8CA4-4C66-8DC8-07D16D403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C4ECA9-388A-4D02-A634-CBC8CAFF31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D2C17-8D95-46FD-92C8-DF842F1C2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E7D77-84D8-48E1-A7EA-C03293FC7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8729A-34C4-4AB4-A28A-D033D345A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C7EFD-06AD-43BE-A29C-E0A86AAC5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3F6C6-5615-43C7-9674-328DF68E20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7320" cy="34243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86C6-884A-4974-8209-D9BA29FFA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8EA3-6F98-4DA8-954E-F7412E12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DA6-0B1F-4AF3-ADB8-CEF973F0F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E2DA-4858-4B0A-A5CB-0ACB9C66F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5936-4084-4E7C-81BA-5CCF56F9C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EAE1-3757-4DAA-BADD-8FD1D78E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DA15-D5BF-450A-B719-4BEB9226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61E1-256D-4128-A602-FCD100057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7539-B5CE-4F19-91D7-FACC917A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7DA3-33A9-4C7B-8546-D8A98DAF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7C446-5122-4646-A8F2-2DB600D3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6DF3-3500-4592-BCB3-C88CADE5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062D-4346-43CD-95A7-3CFAB4C5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74886-F051-4C6E-88CE-EF6CCA9E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EDDB-5E03-40DC-ACEC-6727A741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E65D-56E1-400D-BF91-FE6A971C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842A-7536-44B8-A4D8-B1E76129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CC5B-8894-4FA3-86F0-42F974A5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94C5-6ADB-4EAF-B8D7-2F6AB6C2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88DC-5594-48E4-A8BC-95D0FDAF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4ADD-F698-4C71-BF26-E614B82D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510F8-03A3-4681-9791-84C559F1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0375A-890E-43AC-A61B-ED412DC7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08810-DE6A-455E-AEF1-37F6C4A7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5EF3A-F53B-4F5F-865B-48ED3151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41CD1-AD7D-46B2-8809-0C5C8AC82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EB432-E8AF-4591-9661-2F1DBD9C1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93A3F-1719-44AF-B8DA-CF7790E5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8B7B2-7661-4A9F-938C-70C5253C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81B03-5CEA-49CB-82D5-6CE4B7EF7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AF8B-9A42-4883-8495-5F1AA1CB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2D26F-4029-46E6-AEFA-1C5ED7E6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E053F6-69C0-49CA-B311-9FA91061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8E50F-4122-4B91-A518-3C45F2F3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DA513-FD06-44F6-9D4D-6B9643440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A98E-6CA9-4EA3-BD53-C7455DD5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22A03-DADB-4E96-A600-80056DEA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B3C49-4B67-4C17-8A71-6695DE6E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280C8-245A-4C0E-88FA-EA886E64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0734B-DB51-4B11-94C4-844DFB8D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2E39B-CCE9-4E57-915C-209B1E81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404E-EA64-4AF7-9710-6660796B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4CEEF-918A-4513-98C1-BC256884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42A53-E658-42DA-A88E-164BD8C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71BCD-47EF-4DDC-838D-BE6A5A58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0AB0E-6F54-4DED-BB8E-EAE7324D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D2A85-65B9-49C2-8716-6088ABB25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BBD90-BD91-4F91-BE67-685157A5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0D870-F9B5-4B13-BE1A-E6BB6C58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44D2B-F39D-4B25-AF74-18DDAA3E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565F-CB86-4A97-A67F-189BD55A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5700D-2B1D-4BCD-B0F3-7A73BA56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213B-A6E1-48E5-87EF-3F22085C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15389-B9F2-4E3F-B320-6BB6467B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82E31-D03E-4E76-AF9E-102DDC46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3FE49-AFC5-435E-BFB0-C4917BD8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EEF04-9EF2-4C80-8E04-9F0BEB3E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57200" y="3961080"/>
            <a:ext cx="8223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3A762-5433-4588-B2A9-BA1EA6F8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640" y="160020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670640" y="3961080"/>
            <a:ext cx="40125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5188CB-4B64-4022-8636-CEB16E2B2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3748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017760" y="160020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5720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3748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017760" y="3961080"/>
            <a:ext cx="2647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305AC-F8DB-47B2-881C-6EAF7BCD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0.9.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79680"/>
            <a:ext cx="2889360" cy="9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nto projekt je realizován v rámci veřejné zakázky MPS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3280"/>
            <a:ext cx="21272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3B155B-9C33-4061-A38E-7849AA7BE3E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3" descr="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4" descr="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337F991-CD85-43F2-A2E9-6D22CEF132C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AutoShape 1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154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3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4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5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0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1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2"/>
          <p:cNvSpPr/>
          <p:nvPr/>
        </p:nvSpPr>
        <p:spPr>
          <a:xfrm flipH="1">
            <a:off x="849240" y="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3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4" descr="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15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7" descr="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8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9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1A72B1E-C468-4D08-B801-DA02E9E09A8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10" descr="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1" descr=""/>
          <p:cNvPicPr/>
          <p:nvPr/>
        </p:nvPicPr>
        <p:blipFill>
          <a:blip r:embed="rId3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12" descr="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3" descr=""/>
          <p:cNvPicPr/>
          <p:nvPr/>
        </p:nvPicPr>
        <p:blipFill>
          <a:blip r:embed="rId5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CD24E7-4471-4EC8-BC4B-A1843FB3B9FD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1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3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5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Line 7"/>
          <p:cNvSpPr/>
          <p:nvPr/>
        </p:nvSpPr>
        <p:spPr>
          <a:xfrm flipH="1">
            <a:off x="8778600" y="1440"/>
            <a:ext cx="140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8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9"/>
          <p:cNvSpPr/>
          <p:nvPr/>
        </p:nvSpPr>
        <p:spPr>
          <a:xfrm flipH="1">
            <a:off x="468360" y="1440"/>
            <a:ext cx="144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7" name="Picture 10" descr=""/>
          <p:cNvPicPr/>
          <p:nvPr/>
        </p:nvPicPr>
        <p:blipFill>
          <a:blip r:embed="rId2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"/>
          <p:cNvPicPr/>
          <p:nvPr/>
        </p:nvPicPr>
        <p:blipFill>
          <a:blip r:embed="rId3"/>
          <a:stretch/>
        </p:blipFill>
        <p:spPr>
          <a:xfrm>
            <a:off x="8358120" y="785880"/>
            <a:ext cx="371520" cy="357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2" descr=""/>
          <p:cNvPicPr/>
          <p:nvPr/>
        </p:nvPicPr>
        <p:blipFill>
          <a:blip r:embed="rId4"/>
          <a:stretch/>
        </p:blipFill>
        <p:spPr>
          <a:xfrm>
            <a:off x="8715240" y="500040"/>
            <a:ext cx="282600" cy="2714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3" descr=""/>
          <p:cNvPicPr/>
          <p:nvPr/>
        </p:nvPicPr>
        <p:blipFill>
          <a:blip r:embed="rId5"/>
          <a:stretch/>
        </p:blipFill>
        <p:spPr>
          <a:xfrm>
            <a:off x="8072280" y="63360"/>
            <a:ext cx="642960" cy="6177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4" descr=""/>
          <p:cNvPicPr/>
          <p:nvPr/>
        </p:nvPicPr>
        <p:blipFill>
          <a:blip r:embed="rId6"/>
          <a:stretch/>
        </p:blipFill>
        <p:spPr>
          <a:xfrm>
            <a:off x="0" y="5732640"/>
            <a:ext cx="1092240" cy="112536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30.9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4"/>
          </p:nvPr>
        </p:nvSpPr>
        <p:spPr>
          <a:xfrm>
            <a:off x="3124080" y="6310440"/>
            <a:ext cx="288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5"/>
          </p:nvPr>
        </p:nvSpPr>
        <p:spPr>
          <a:xfrm>
            <a:off x="6652800" y="6356520"/>
            <a:ext cx="21272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CF77894-6311-4246-B3E2-061EC97BEDB5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AutoShape 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3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7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8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11" descr="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12" descr="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13" descr="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4" descr="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uzk.cz/" TargetMode="External"/><Relationship Id="rId2" Type="http://schemas.openxmlformats.org/officeDocument/2006/relationships/hyperlink" Target="http://www.bezrealitky.cz/" TargetMode="Externa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 Box 1"/>
          <p:cNvSpPr/>
          <p:nvPr/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"/>
          <p:cNvSpPr/>
          <p:nvPr/>
        </p:nvSpPr>
        <p:spPr>
          <a:xfrm>
            <a:off x="2879640" y="3959280"/>
            <a:ext cx="594036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Bydl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Жил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1"/>
          <p:cNvSpPr/>
          <p:nvPr/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"/>
          <p:cNvSpPr/>
          <p:nvPr/>
        </p:nvSpPr>
        <p:spPr>
          <a:xfrm>
            <a:off x="826920" y="1628640"/>
            <a:ext cx="793116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3"/>
          <p:cNvSpPr/>
          <p:nvPr/>
        </p:nvSpPr>
        <p:spPr>
          <a:xfrm>
            <a:off x="539640" y="360360"/>
            <a:ext cx="86043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Приобретение собственной квартиры или дом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словия приобретения иностранцами недвижимости в Чешской Республике регулируются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валютным законом № 219/1995 Сб. законов, в действующей редакци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окупка дома или квартиры оформляется заключением договора купли-продажи между продавцом и покупателем, который должен удовлетворять требованиям </a:t>
            </a:r>
            <a:r>
              <a:rPr b="0" lang="cs-CZ" sz="2200" spc="-1" strike="noStrike" u="sng">
                <a:solidFill>
                  <a:srgbClr val="000000"/>
                </a:solidFill>
                <a:uFillTx/>
                <a:latin typeface="Arial"/>
              </a:rPr>
              <a:t>Гражданского кодекса / občanský zákoník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(закон № 40/1964 Сб. законов). Договор должен быть заключен в письменной форме, в противоположном случае он является недействительным. Покупатель становится собственником квартиры или дома в момент регистрации права собственности в кадастре недвижимости (а не в момент подписи договора купли-продажи!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1714680" y="274680"/>
            <a:ext cx="697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541440" y="1571760"/>
            <a:ext cx="8216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720720" y="0"/>
            <a:ext cx="7199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539640" y="0"/>
            <a:ext cx="846000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dle devizového zákona bylo do května 201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abývání bytů a domů cizinci omezeno a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my a byty mohli nabývat pouze tuzemci – tj. fyzické osoby s trvalým pobytem na území České republiky nebo právnické osoby se sídlem na území České republiky a cizozemci uvedení v § 17 devizového zákona. Novelou devizového zákona, která byla zveřejněna dne 19. 7. 2011 ve Sbírce zákonů pod číslem 206/2011 (částka 73), bylo cizincům umožněno nabývat nemovitosti, včetně bytů, bez omezení. V praxi zapisovaly katastrální úřady nemovitosti nabyté cizinci již od 1. května 2011, neboť toho dne skončilo pro ČR 2. přechodné období, které toto právo předtím omezov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ato změna se netýká nabývání zemědělské půdy a lesů ze státního vlastnictví České republiky, které upravuje zákon č. 95/1999 Sb., o podmínkách převodu zemědělských a lesních pozemků z vlastnictví státu na jiné osoby a o změně zákona č. 569/1991 Sb., o Pozemkovém fondu České republiky, ve znění pozdějších předpisů, a zákona č. 357/1992 Sb., o dani dědické, dani darovací a dani z převodu nemovitostí, ve zněnípozd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jších p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ř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dpi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ů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1"/>
          <p:cNvSpPr/>
          <p:nvPr/>
        </p:nvSpPr>
        <p:spPr>
          <a:xfrm>
            <a:off x="539640" y="0"/>
            <a:ext cx="8460000" cy="70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Отрывок статьи: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Сотни иностранцев, которые приобрели недвижимость в Чешской Республике с мая по июль 2011 года, возможно, заключили договор незаконно.Так называемый девизионный закон, который упростил иностранцам процесс покупки недвижимости в ЧР, действует пока только месяц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Для приобретения квартиры или дома больше не нужно открывать ООО или заключать брак с гражданином ЧР – теперь достаточно просто иметь деньги.Чехия пользовалась отсрочкой на принятие этого закона до мая 2011 года, закон же вступил в силу в августе 2011. Но иностранцам начали продавать недвижимость сразу после окончания отсрочки: май, июнь и июль, таким образом, оказались «вне закона». «Если бы кому-нибудь пришло в голову оспорить эти сделки в суде, то с большой вероятностью суд признал бы их незаконными, а договоры купли-продажи недействительными », - прокомментировал ситуацию юрист Ярослав Марши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1"/>
          <p:cNvSpPr/>
          <p:nvPr/>
        </p:nvSpPr>
        <p:spPr>
          <a:xfrm>
            <a:off x="360360" y="0"/>
            <a:ext cx="8783640" cy="61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 u="sng">
                <a:solidFill>
                  <a:srgbClr val="141414"/>
                </a:solidFill>
                <a:uFillTx/>
                <a:latin typeface="Arial"/>
              </a:rPr>
              <a:t>Аренда жилья / Bydlení v nájmu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41414"/>
                </a:solidFill>
                <a:latin typeface="Arial"/>
              </a:rPr>
              <a:t>В отличие от покупки жилья в частную собственность, аренда / nájem доступна более широкому кругу лиц. Правовое оформление аренды жилья содержится в гражданском кодексе. Гражданский кодекс позволяет передать арендованную квартиру или ее часть в субаренду / podnájе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Nájem bytu vzniká na základě nájemní smlouvy mezi pronajímatelem bytu a nájemcem nebo na základě jiných právních skutečností, které upravuje občanský zákoník,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např. přechodem nájmu.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Nájemní smlouva musí být písemná a musí obsahovat krom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ě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základních náležitostí (nap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ř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. ozna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ení smluvních stran), ješt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ě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náležitosti vyjmenované ve zvláštní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ásti ob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č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anském zákoníku upravující nájem bytu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(označení bytu, jeho příslušenství, rozsah jejich užívání a způsob výpočtu nájemného a úhrady za plnění spojená s užíváním bytu nebo jejich výši), </a:t>
            </a: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jinak je neplatná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. Pokud není doba nájmu ve smlouvě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dohodnuta, má se za to, že je smlouva uzavřená na dobu neurčitou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Text Box 1"/>
          <p:cNvSpPr/>
          <p:nvPr/>
        </p:nvSpPr>
        <p:spPr>
          <a:xfrm>
            <a:off x="720720" y="181080"/>
            <a:ext cx="792000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Право аренды возникает на основании договора аренды, заключенного между арендодателем и арендатором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на основании иных юридических фактов, которые регулируются в Гражданском кодексе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Договор аренды должен заключаться в письменной форме и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мимо основной информации (напр. наименование сторон договора)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долже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акже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содержать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анные, указанные в особой части Гражданского кодекса, регулирующей аренду недвижимости (информация о квартире, обстановке и нежилых помещениях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ъем пользования, способ расчета арендной платы и платежей за услуги, связанных с пользованием квартирой или размер платежей)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без указания кото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ых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договор является недействительны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В случае, если срок аренды в договоре не указан, договор считается заключенным на неопределенный срок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1"/>
          <p:cNvSpPr/>
          <p:nvPr/>
        </p:nvSpPr>
        <p:spPr>
          <a:xfrm>
            <a:off x="539640" y="0"/>
            <a:ext cx="846000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Прекращение аренды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jem bytu 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e zaniknout n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ě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lika z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ů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b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ísemnou dohodou uzavřenou mezi pronajímatelem a nájemcem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uplynutím doby, na kterou byl nájemní vztah sjedná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ísemnou výpovědí nájemce (bez uvedení důvodu), nebo pronajímatele (vždy z důvodů uvedených v občanském zákoníku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charakteru výpovědního důvodu může pronajímatel nájem vypovědět bez přivolení soudu nebo s přivolením soudu. Výpovědní lhůta nesmí být kratší než 3 měsíce a musí skončit ke konci kalendářního měsí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kud pronajímatel vypoví nájem bez přivolení soudu, může nájemce do šedesáti dní podat žalobu na určení neplatnosti výpovědi k soudu. Nájemce není povinen byt vyklidit, pokud řízení o neplatnosti výpovědi není ukončeno pravomocným rozhodnutím soudu. Téměř ve všech případech výpovědi z nájmu bytu přísluší nájemci bytová náhrada popř. Přístřeší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1"/>
          <p:cNvSpPr/>
          <p:nvPr/>
        </p:nvSpPr>
        <p:spPr>
          <a:xfrm>
            <a:off x="541440" y="0"/>
            <a:ext cx="845820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сылки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atastr nemovitostí  </a:t>
            </a:r>
            <a:r>
              <a:rPr b="1" lang="ru-RU" sz="20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http://www.cuzk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etové stránky Ministerstva pro místní rozvoj – </a:t>
            </a:r>
            <a:r>
              <a:rPr b="0" lang="ru-RU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http://www.mmr.cz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tová politik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2"/>
              </a:rPr>
              <a:t>http://www.bezrealitky.c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Text Box 1"/>
          <p:cNvSpPr/>
          <p:nvPr/>
        </p:nvSpPr>
        <p:spPr>
          <a:xfrm>
            <a:off x="720720" y="900000"/>
            <a:ext cx="792000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141414"/>
                </a:solidFill>
                <a:latin typeface="Arial"/>
              </a:rPr>
              <a:t>Словари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osobní vlastnictví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— личная / частная собственность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devizový zákon -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девизионный / валютный закон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novela –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дополнение / поправк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kupní smlouv</a:t>
            </a: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a –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договор купли-продаж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nájem — арен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podnájеm — субарен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přivolení soudu –</a:t>
            </a:r>
            <a:r>
              <a:rPr b="0" lang="cs-CZ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 c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  <a:ea typeface="Times New Roman"/>
              </a:rPr>
              <a:t>огласие суд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bytová náhrada – возмещение / компенсация жилья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bytové družstvo </a:t>
            </a: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-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жилищно-строительный кооперати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200" spc="-1" strike="noStrike">
                <a:solidFill>
                  <a:srgbClr val="141414"/>
                </a:solidFill>
                <a:latin typeface="Arial"/>
              </a:rPr>
              <a:t>stanovy družstva – </a:t>
            </a:r>
            <a:r>
              <a:rPr b="0" lang="ru-RU" sz="2200" spc="-1" strike="noStrike">
                <a:solidFill>
                  <a:srgbClr val="141414"/>
                </a:solidFill>
                <a:latin typeface="Arial"/>
              </a:rPr>
              <a:t>устав кооператив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6:01:01Z</dcterms:modified>
  <cp:revision>88</cp:revision>
  <dc:subject/>
  <dc:title>Snímek 1</dc:title>
</cp:coreProperties>
</file>