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dt" idx="16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sldNum" idx="17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D1B65F-A01D-457A-ABC7-D9F06C99D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EDD321-09CC-40A7-BADC-2D3C838F55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CEC57-AAAB-49F6-A265-BFBE98BDE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8037D9-3F4E-44B1-A032-DD3382E55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8336C7-2AAC-4D28-ACEC-7E721D6C4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895C01-3A2B-477C-B67F-B76B2F084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EFAD2-E3B9-41ED-9EEB-2118D949A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D705A1-09B6-4F7E-B409-E654CACAC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16A1C-66B8-4029-94D9-CA3C62F85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A7603-B6EA-448C-BE58-0441D8F9D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9762F-A935-4D82-B88C-1E3987C2B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CF9E6E-615B-475A-8C80-E30AACAFB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AF341-0406-4376-B289-F0CC9B6BF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6A74-CB1F-4A57-A3A4-1132EBFC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56DA-3862-47D9-A472-9A55823E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697-6878-437C-8606-DCB86B36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A83-8048-4141-B55A-A9C984AC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98C4-5257-41E1-A1A1-B0271FAC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E39-043F-44BC-B791-A1922693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D41B-36F5-41C7-859C-9C5A5F5C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BD9A-1667-4A87-884B-9B2DEA995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63A-D811-45B1-A523-1D7EC34A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FCF53-961D-4A0B-851D-0E29B523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B46AC-62F9-4C5F-8D0B-B44216C0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EE84-F996-4EA1-AFDF-F3541669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6370-CB53-46AF-A7C6-44F9F8E3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38F0-D809-4A28-B512-8FC3787D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59B44-B122-4621-AE47-A5CCCC77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0614-0185-4706-A2C1-112E86D3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83C6-6065-4D60-816B-F5DD7FDA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A0A42-A252-4410-9811-D72BAB93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033A5-65CF-478E-97FD-E1EAACBB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31DD-AF24-4BA2-96B9-A3DDA4CCF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A4417-7047-4D91-88A2-F6A6B8028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B3530-84A9-40FE-B80D-5E3560E7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CF22B-8F4F-4200-92DA-A08B8F0F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F208E-86C7-4F49-91E9-568652BB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08F32-40AB-4F62-8B68-FB576364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72012-82A9-4E0E-84B2-74E7167E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5FE5B-EE7B-4689-B24C-E08BAFA7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A413B-4A2A-419C-A20C-0A50ADDC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C5E58-A1D8-4498-9416-ACF03C4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2C388-CD40-4A4C-AC50-ADB708A7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62B0-A567-402A-A7A8-B5C6C9A1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965AF-A2FE-41ED-AD33-47127744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1C67D-76AE-4C65-98CC-65EE41E1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561D6-0BCB-4008-93A9-EFC51C8A5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A69BA-AF40-4FB1-BEB9-A3A6CC97B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FED06-3257-465C-A5A4-460B22F5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4C72-05B7-47DF-9D67-E3CD2576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79E10-E1DF-4659-9DDE-B0D100CF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4DC343-3D4C-4983-80E8-F3546BEFE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E9FEC-B3DA-4EAB-B4FA-4712762A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F49EC-7F68-44D8-9635-B9FB4B7A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FDD3-19C5-4A26-8EA0-C8F5B81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00E79-B435-40E6-B11C-89E23BA4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FFD88-48B0-45BC-86DA-5B600956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75044-B9BA-4E84-BE30-F665120C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FDEF8-D192-4234-B706-F52A3794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7E5FB-233A-4A2F-95DA-B2082A992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3190D-8137-49F0-93FA-0E1BEC1F2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38E26-0471-4CEE-B9F3-9A07B7E2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0F2E3-06B3-4CC2-9AB6-DA37F337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411FE-C84E-4210-9E2E-4EC0218F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E527E-559A-4D14-9644-8938D639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F4C7-F341-4784-B72C-8F79F018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DF964-3099-4D0C-A164-503B0E38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F8EAA-C79F-4C93-93DE-D1EB881C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9D905-B7B0-4AF9-98E0-4B6DE27E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9309E-95C0-4845-84FE-28BB6328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0BC22-DDA8-4EEF-A031-4B767883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3F8A6-FC5C-45BB-86C5-303109B4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79CE8-9623-430F-9CFF-DDE87DC5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.10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079680"/>
            <a:ext cx="289404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F2BEED4-BD06-4E6F-B299-AFBB1CDD19E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4682CB7-3E96-4393-B737-6435929E787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53920" y="0"/>
            <a:ext cx="5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699EE8B-D3FD-4AA6-A997-4ED3F178C85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CA0D91F-EA98-4A3C-BC4D-16C3DF2191B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832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72680" y="1440"/>
            <a:ext cx="468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7.10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3720" y="631044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316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034C4A7F-047C-4B3A-9BAF-FEFF3DE53E04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живание иностранцев на территории Чехи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Словарик (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Group 2"/>
          <p:cNvGrpSpPr/>
          <p:nvPr/>
        </p:nvGrpSpPr>
        <p:grpSpPr>
          <a:xfrm>
            <a:off x="900000" y="1557360"/>
            <a:ext cx="0" cy="4551480"/>
            <a:chOff x="900000" y="1557360"/>
            <a:chExt cx="0" cy="4551480"/>
          </a:xfrm>
        </p:grpSpPr>
        <p:sp>
          <p:nvSpPr>
            <p:cNvPr id="519" name="Line 5"/>
            <p:cNvSpPr/>
            <p:nvPr/>
          </p:nvSpPr>
          <p:spPr>
            <a:xfrm>
              <a:off x="900000" y="1557360"/>
              <a:ext cx="0" cy="455148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0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5276EC-441E-4459-A9D1-E2C4B662582B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Словарик (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2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3" name="Group 2"/>
          <p:cNvGrpSpPr/>
          <p:nvPr/>
        </p:nvGrpSpPr>
        <p:grpSpPr>
          <a:xfrm>
            <a:off x="900000" y="1584360"/>
            <a:ext cx="0" cy="4508640"/>
            <a:chOff x="900000" y="1584360"/>
            <a:chExt cx="0" cy="4508640"/>
          </a:xfrm>
        </p:grpSpPr>
        <p:sp>
          <p:nvSpPr>
            <p:cNvPr id="524" name="Line 5"/>
            <p:cNvSpPr/>
            <p:nvPr/>
          </p:nvSpPr>
          <p:spPr>
            <a:xfrm>
              <a:off x="900000" y="1584360"/>
              <a:ext cx="0" cy="4508640"/>
            </a:xfrm>
            <a:prstGeom prst="line">
              <a:avLst/>
            </a:prstGeom>
            <a:ln w="5760">
              <a:solidFill>
                <a:srgbClr val="c4dc4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5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7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720D83-1181-48E1-8245-091E34CF86E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живание иностранцев на территории Чех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Иммиграция – виды и прич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"/>
          <p:cNvSpPr/>
          <p:nvPr/>
        </p:nvSpPr>
        <p:spPr>
          <a:xfrm>
            <a:off x="1042920" y="1714680"/>
            <a:ext cx="774396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бровольная миграция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работа, воссоединение семьи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2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ынужденная миграция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беженцы, политическое убежище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чины миграции в Чехию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та, предпринимательство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ýdělečná činnost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оссоединение семь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чеб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Беженцы (самая малочисленная категор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A9177F8-0F2E-4F08-A9D2-F6ACDE1137C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1714680" y="281160"/>
            <a:ext cx="5881680" cy="11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Законы и институции, регулирующие проживание иностранцев на территории Чех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900000" y="1628640"/>
            <a:ext cx="7886880" cy="44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Закон № 326/1999 Сб. зак. «О проживании иностранцев в Чешской Республике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действующей редакции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(Zákon o pobytu cizinců na území České republiky)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онодательство  Европейского Союза, в первую очередь,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иректива Совета (Европейского Союза) № 539/2001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, которая определяет перечень государств, граждане которых должны иметь визу при пересечении внешней границы ЕС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Шенгенский кодекс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ститу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инистерство внутренних де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isterstvo vnitr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епартамент беженцев и миграционной политики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dbor azylov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é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migr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litik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лиция по делам иностранцев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Cizinecká policie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892080"/>
                <a:tab algn="l" pos="1806480"/>
                <a:tab algn="l" pos="2720880"/>
                <a:tab algn="l" pos="3635280"/>
                <a:tab algn="l" pos="4549680"/>
                <a:tab algn="l" pos="5464080"/>
                <a:tab algn="l" pos="6378480"/>
                <a:tab algn="l" pos="7292880"/>
                <a:tab algn="l" pos="8207280"/>
                <a:tab algn="l" pos="9121680"/>
                <a:tab algn="l" pos="1003608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8F09B8-9A4E-45E3-BC6D-A7BC81EDE041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Категории иностранцев в Чех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2"/>
          <p:cNvSpPr/>
          <p:nvPr/>
        </p:nvSpPr>
        <p:spPr>
          <a:xfrm>
            <a:off x="1042920" y="1714680"/>
            <a:ext cx="748980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он об иностранцах делит иностранцев на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аждан ЕС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аналогичный режим применяется в отношении граждан Норвегии, Исландии, Лихтенштейна и граждан Швейцарии) и членов их семе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5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аждан так наз. «третьих стран»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гражданине государств, не входящих в состав ЕС и одновременно не являющийся гражданами Исландии, Лихтенштейна, Норвегии и Швейцар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04A6FF1-9E76-417A-B43A-E6FFC49DAC3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Виды проживания иностранцев на территории Чех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2"/>
          <p:cNvSpPr/>
          <p:nvPr/>
        </p:nvSpPr>
        <p:spPr>
          <a:xfrm>
            <a:off x="900000" y="1700280"/>
            <a:ext cx="78868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Verdana"/>
              </a:rPr>
              <a:t>1.Временное проживани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řechodný poby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ое проживание (сроком до 90 дней)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kodob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ý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byt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 – Шенгенская     виза или виза с ограниченным территориальным действи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эродромная (транзитная) виза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ištní (průjezdní) vízum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транзитная виза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průjezdní vízum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виза на проживание сроком до 90 дней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ízum k pobytu do 90 dnů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Долгосрочное проживание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louhodobý poby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за на срок более 90 дней (vízum k pobytu nad 90 dnů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разрешение на долгосрочное проживание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olen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í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louhodob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 pobytu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«Зеленая карта»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n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á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kart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 и «Синяя карта» 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drá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arta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) — разрешение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на долгосрочное проживание с целью трудоустройства в особых случая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ыездная виза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ýjezdní příkaz)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ыдается на срок не более 60 дней в случае, если легальное проживание иностранца в ЧР было прекраще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Verdana"/>
              </a:rPr>
              <a:t>2. Постоянное проживани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Trvalý pobyt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1600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785880"/>
                <a:tab algn="l" pos="1700280"/>
                <a:tab algn="l" pos="2614680"/>
                <a:tab algn="l" pos="3529080"/>
                <a:tab algn="l" pos="4443480"/>
                <a:tab algn="l" pos="5357880"/>
                <a:tab algn="l" pos="6272280"/>
                <a:tab algn="l" pos="7186680"/>
                <a:tab algn="l" pos="8101080"/>
                <a:tab algn="l" pos="9015480"/>
                <a:tab algn="l" pos="992988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Verdana"/>
              </a:rPr>
              <a:t>3. Гражданство ЧР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átní občanstv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0A7709-8414-44E3-9B72-CC7EA0DB41F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Цель проживания (</a:t>
            </a:r>
            <a:r>
              <a:rPr b="0" lang="en-US" sz="2600" spc="-1" strike="noStrike">
                <a:solidFill>
                  <a:srgbClr val="990033"/>
                </a:solidFill>
                <a:latin typeface="Verdana"/>
              </a:rPr>
              <a:t>účel pobytu</a:t>
            </a: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2"/>
          <p:cNvSpPr/>
          <p:nvPr/>
        </p:nvSpPr>
        <p:spPr>
          <a:xfrm>
            <a:off x="1042920" y="1714680"/>
            <a:ext cx="7743960" cy="40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случае, если иностранец проживает в Чехии не на основании ПМЖ или политического убежища, он должен сообщать цель своего проживания и обосновывать его соответствующими документ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«Закон об иностранцах» различает следующие цели проживания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Учеб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udiu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сследовательская деятельность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vědecký výzkum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рудоустройство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zaměstnán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едпринимательская деятельность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dnikání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овместное проживание или воссоединение семьи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polečné soužití rodiny/sloučení rodiny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6208A2-9464-4C7A-A18C-5DB39590F6F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990033"/>
                </a:solidFill>
                <a:latin typeface="Verdana"/>
              </a:rPr>
              <a:t>ПМЖ - остоянное место жительства (Trvalý pobyt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2"/>
          <p:cNvSpPr/>
          <p:nvPr/>
        </p:nvSpPr>
        <p:spPr>
          <a:xfrm>
            <a:off x="900000" y="1714680"/>
            <a:ext cx="7886880" cy="55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 соблюдении определенных условий подать заявление на получение ПМЖ    может каждый иностранец по 5 годах пребывания в Чех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аво и возможность жить в Чехии без обязательного переоформления разрешения на пребыва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бладатели ПМЖ имеют практически те же социальные льготы и гарантии, что и граждане Чехии. Организация бизнеса, получения кредитов, медицинское обслуживание, условия покупки недвижимости и т.п. для граждан и жителей, имеющих статус ПМЖ одинаков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9340920" algn="just">
              <a:lnSpc>
                <a:spcPct val="100000"/>
              </a:lnSpc>
              <a:spcBef>
                <a:spcPts val="1001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татус ПМЖ накладывает на его обладателя те же обязательства, какие имеет и гражданин этой стран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Чем отличается постоянный житель страны от гражданин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МЖ не дает возможности участвовать в выборах или быть избранным в какие бы то ни было органы власти, служить в армии или в полици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4E279AA-6DB7-4494-BCE5-224552578C7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Политическое убежище (</a:t>
            </a:r>
            <a:r>
              <a:rPr b="0" lang="en-US" sz="2800" spc="-1" strike="noStrike">
                <a:solidFill>
                  <a:srgbClr val="990033"/>
                </a:solidFill>
                <a:latin typeface="Verdana"/>
              </a:rPr>
              <a:t>Azyl</a:t>
            </a:r>
            <a:r>
              <a:rPr b="0" lang="ru-RU" sz="2800" spc="-1" strike="noStrike">
                <a:solidFill>
                  <a:srgbClr val="990033"/>
                </a:solidFill>
                <a:latin typeface="Verdana"/>
              </a:rPr>
              <a:t>) и бежен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2"/>
          <p:cNvSpPr/>
          <p:nvPr/>
        </p:nvSpPr>
        <p:spPr>
          <a:xfrm>
            <a:off x="971640" y="1628640"/>
            <a:ext cx="7743600" cy="45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Чехии вопросы, связанные с предоставлением политического убежища и статус беженцев регулирует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«Закон о политическом убежище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№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325/1999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собр. законов.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“Zákon o azylu”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Политическое убежище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— особый правовой статус, предоставляемый государством лицам, ищущим убежище и защиту от преследования или реальной угрозы стать жертвой преследования в соей стран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ца, подавшие документы на статус "политического беженца»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обходимо доказать индивидуальное преследова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олитические беженц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ца, находящиеся под так наз. «дополнительной охраной»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soby požívající doplňkovou ochranu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–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не доказано индивидуальное преследование; лица, находящиеся под угрозой (военные действие, голода и т.п.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1500" spc="-1" strike="noStrike">
                <a:solidFill>
                  <a:srgbClr val="000000"/>
                </a:solidFill>
                <a:latin typeface="Verdana"/>
              </a:rPr>
              <a:t>Временная охрана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časná ochrana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— используется при чрезвычайных обстоятельствах при большом количество беженцев — войны, стихийные действия, голод. В отличие от политических беженцев, в данном случае необязательно доказывать индивидуальное преследовани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8178A6-943D-4179-BE31-DA84199D918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Verdana"/>
              </a:rPr>
              <a:t>Нелегальное пребывание иностранцев на территории ЧР и депорт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2"/>
          <p:cNvSpPr/>
          <p:nvPr/>
        </p:nvSpPr>
        <p:spPr>
          <a:xfrm>
            <a:off x="1042920" y="1628640"/>
            <a:ext cx="7743960" cy="66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ичины и процедура депортации регулируется Главой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X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Закона об иностранца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епортация (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právní vyhoštění)  -  завершение пребывания иностранца не территории ЧР, установление сроков выезда из страны и периода, во время которого иностранцу будет отказано во въезде на территорию Е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В зависимости от причин депортации длительность периода отказа во въезде на территорию ЕС может быть 3, 5 или 10 лет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рок выезда с территории ЧР – от 7 до 60 дней в зависимости от ситу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новные причины депорт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законное пересечение границ Ч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асильственные действия со стороны иностранца и нарушение общественного порядк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одделка документов и использование недействительных документов во время нахождения в ЧР или пересечения грани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Нелегальное трудоустрой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доставление органам власти ложной информаци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Угроза общественному здоровью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665316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A766EB4-0A40-447A-8C12-DC0EEA3444F8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34Z</dcterms:modified>
  <cp:revision>132</cp:revision>
  <dc:subject/>
  <dc:title>Snímek 1</dc:title>
</cp:coreProperties>
</file>