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13CBB-F92D-441D-A3D3-C8084A212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A5D6E-71C7-4562-BF95-8B821E7E73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38C2CF-F676-4682-8DE1-140B8FB112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3CEAB-18C3-4AEA-B585-10279DCFF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2DE7A-BC15-44FD-BF0E-4C9313F202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2DF22-EA27-4ADD-BB2A-6CECC39A9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8AD4C-13E4-4DA4-8812-2C3655E557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002D3-92E6-4B3A-BEEC-1EC9BE14D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3E44A-9F4E-41B1-9AA4-5A222249C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EF099-AF00-402A-8F12-88DAA1B21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4D88-8C1F-4B02-ABD5-D07A21F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A066-3070-4D44-A3BF-2E8BA6F9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6294-5B5A-4714-8297-04A80C47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652E-1F41-4CAA-A0B9-BF15C535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4F6A-DCDD-436E-A87F-65B44748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185A-372D-4F82-B054-6DD6E98B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12F6-8A57-4E98-8F79-4F4AB94C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6852-2F4F-410F-85B5-E0F8CDC6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9FA-A2DF-43E6-A1D7-CD63770F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4BC0-1E3E-4B88-BEAB-7930CAE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0730-C018-48C7-B26B-D615F114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D6C9-4EF0-405A-8F15-29A238AC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D5C1-4716-438D-8BBC-95A69E08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6D45-B89D-4257-91C6-CBBEC785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FE5D-5A61-4DE3-B2C9-2BD7CE1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20843-F619-40D6-8BF3-48E4D2B4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886-16D7-429E-94C7-92B2E4B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A78A-D22B-43A7-B0DE-4B1A21C0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0163-5F5C-4BE3-8AAF-E2F1979D0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B9FB-686D-48A4-8DCD-5F8A7412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D61D-DD2D-48F8-B40B-DBD776394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155C-785D-4FA8-9A65-AD36847BE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04E2D-2811-43BB-8B21-BF9BC522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BCFD8-4FDB-4A98-8F3C-32AE869A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EDC80-759C-4114-B280-DDD75385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01352-2B82-4FD4-ACD7-19434F2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E0B33-A70B-42CB-9CAD-9030D038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5C687-B15B-4A5F-8B2C-0CE9757D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34BBF-5FD6-4058-85F5-F9D34BEB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81F0-0CAA-418A-8EC0-D61350121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AEE4-7E7A-427F-A702-0762A6F9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49CA3-9FF4-4641-BDA5-6B66515A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9724-C7C9-4BBF-9063-10EC1CE4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5E61D-87F0-4812-8A93-9831DE3C4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22294-9628-4FD2-8919-4243CDC8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17ABB-DAB3-45B6-898D-1E3775C1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CBE7F-A8DC-4B35-A5F6-ED280ABA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C449-8AC8-49A6-B9D9-95B16F26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A90D-F37B-4641-BE26-64F28882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842CB-EDE4-4ED5-B540-97611B06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67E9-11EF-4EE0-AF76-820F2505E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46D6-791F-4C9F-A0DD-67D003F5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FD5D5-A21C-4EB4-807E-99C8925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1B5F-AF31-4DA3-AE07-3948FCDC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B4445-8E4F-4D0C-AD89-8A192729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EB1CA-2618-464A-A92F-A2A0082C3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A0837-2798-4A5F-BB44-D444D078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168FD-5229-46D1-BC6F-181EEC5FB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0D4D6-55D5-4AA6-AC02-3655DA87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69A1A-EAFC-4C75-B024-BF126261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1B7E5-5071-41EE-8ACC-68F07D034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911F7C-6EED-4323-B9B6-B777CBB9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612-8F68-46F0-AE75-A09BEFA1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F3955D-E099-4B75-AEB7-96795DB6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4709-2AFB-464B-9786-40CB7B45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ED04-83EA-4761-B5B6-CF06BC6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8717E-8EFD-4F50-9779-AD40F7A6D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C4CE-982D-4D96-945C-C469D1F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6458A-2CCE-4637-AEBA-BBDC58854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F54A8-8FC3-4D4A-832C-BE76B09A3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09EE28-7369-48E7-896E-D2A7D97ED48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F51246-8F8F-43B2-9136-5D21775BCE6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CD15C49-F11E-41ED-A96E-F6941C9DA01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DC5770-AE28-4A36-AFF3-E88A1BCC1E8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5BA308A-35AB-4C2D-B6A4-F399C579D25A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mvcr.cz/" TargetMode="External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ма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Každodenní ž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седневная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1857240" y="3890880"/>
            <a:ext cx="65725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1979640" y="4037040"/>
            <a:ext cx="6300720" cy="22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odné čísl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Персональный номер иностранца в Чехии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Общ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разрешением на постоянное проживание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в Чешской Республике персональный номер выдает Министерство внутренних дел (соответствующий областной отдел Департамента беженцев и миграционной политики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остранцу с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разрешением на временное проживани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в ЧР на срок более 90 дней персональный номер выдает соответствующее подразделение Полиции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ю об условиях предоставления персонального номера (необходимые документы, сроки рассмотрения и т.д.) можно получить в соответствующем отделе Департамента беженцев и миграционной политики МВД или в отделении полиции по делам иностранцев, которое выдало физическому лицу разрешение на проживани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233280"/>
            <a:ext cx="7199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Для чего потребуется персональный номер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2340000"/>
            <a:ext cx="774072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лучение лицензиии на ведение предпринимательской деятельност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обязательной медицинской и социальной страховки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Регистрация автомобил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Оформление различных документов, ВУЗы, общежития и тп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1260360" y="179280"/>
            <a:ext cx="70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можно подать лично или по почт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явление о предоставлении персонального номера должно быть письменным, обоснованным и содержать следующие данные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ное имя/имена и фамилию, их вариант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вичью фамилию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ень, месяц, год рожден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сто и страну рождения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гражданство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179280"/>
            <a:ext cx="8099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стальная информаци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Заявление должно быть составлено на чешском языке или дополнено заверенным переводом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пись заявителя должна быть заверенна у нотариуса, исключая случаи, когда заявитель подает заявление лично и подписывает его в присутствии сотрудника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дминистративный сбор за предоставление персонального номера составляет 1000 Кч. Его оплата осуществляется путем приобретения гербовой марки или денежным переводом на счет МВД Ч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рок рассмотрения  - 30 дней со дня получения заявления Министерством внутренних дел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900000"/>
            <a:ext cx="8161200" cy="34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mvcr.c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lužby pro veřejnost – Rady a služby - Dokument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 : персональный номе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rvalý pobyt :  разрешение на постоянное прожива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ajské pracoviště :  областной отд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 azylové a migrační politiky (OAMP MV) :  Департамент беженцев и миграционной полит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dělení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достав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hůta na vyřízení / vyřízovací lhůta :  срок/и рассмотр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tvar Policie ČR :  подразделение Полици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právní poplatek : административный с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ek 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бовая мар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25Z</dcterms:modified>
  <cp:revision>88</cp:revision>
  <dc:subject/>
  <dc:title>Snímek 1</dc:title>
</cp:coreProperties>
</file>