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C444E-01D6-48CD-A242-0161894F5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32B14-4FDC-4C1E-8B03-75A5BDE9EB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96FB3-9C7B-4274-AE12-9649E4482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6A376-BE84-45E3-BCB5-0BC17B6B8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EFE23-CFAE-4C18-ABF5-0B7AA9961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5CA5A-A19F-4535-9B7D-A85E1C4E3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Verdana"/>
                <a:ea typeface="Microsoft YaHei"/>
              </a:rPr>
              <a:t>Часто встречающиеся ситуации, где нужен переводчик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(на примере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UNHCR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  <a:ea typeface="Microsoft YaHei"/>
              </a:rPr>
              <a:t>):</a:t>
            </a:r>
            <a:r>
              <a:rPr b="1" lang="cs-CZ" sz="2000" spc="-1" strike="noStrike">
                <a:solidFill>
                  <a:srgbClr val="c0504d"/>
                </a:solidFill>
                <a:latin typeface="Verdana"/>
                <a:ea typeface="Microsoft YaHei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Регистрационные процедуры (запись личных данных беженцов, иммигрантов и тп.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при определении статуса беженца и при переселении (напр. в третьи страны) и др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Мониторинг — сбор информации об охране, правах, здоровье «клиентов»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труктурированные собеседования для получения информации о возникающих рисках, об их причинах и возможных вариантах решения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-консультации у врача, у юриста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c0504d"/>
                </a:solidFill>
                <a:latin typeface="Verdana"/>
                <a:ea typeface="Microsoft YaHei"/>
              </a:rPr>
              <a:t>Собеседования с людьми, пережившими насилие, пытки и другие травматизирующие события с целью получить более подробную информацию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0A596-771F-4784-8C1E-13C3B5279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1746F2-C4E0-49A6-A2AA-8ED30C61C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624B7-5B01-49C5-9B61-260E951D9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  <a:ea typeface="Microsoft YaHei"/>
              </a:rPr>
              <a:t>Вопрос: Как вы будете решать ситуацию, когда Вы как переводчик не владеете языком в достаточной мере, но другого переводчика нет. Приходит ли вам в голову какая-либо стратегия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603C5-0C16-4B6B-B147-297E19D62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231f20"/>
                </a:solidFill>
                <a:latin typeface="Symbol"/>
                <a:ea typeface="Symbol"/>
              </a:rPr>
              <a:t></a:t>
            </a:r>
            <a:r>
              <a:rPr b="1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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Je t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vyslechnout ženu – uprchlici a vy jste jediný dostupný tlumo</a:t>
            </a:r>
            <a:r>
              <a:rPr b="1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1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. Jste mu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B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hem pohovoru vycítíte, že vám ta žena ne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uje, možná kv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i tomu, jaké má 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zkušenosti s muži obec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Microsoft YaHei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Microsoft YaHei"/>
              </a:rPr>
              <a:t>. Jak byste postupoval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Symbol"/>
                <a:ea typeface="Symbol"/>
              </a:rPr>
              <a:t>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Slyšeli jste n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kdy názor, že ženy by nem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ě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y zaujímat d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ů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ležité role, jako t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ř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eba roli tlumo</a:t>
            </a:r>
            <a:r>
              <a:rPr b="0" lang="cs-CZ" sz="1800" spc="-1" strike="noStrike">
                <a:solidFill>
                  <a:srgbClr val="231f20"/>
                </a:solidFill>
                <a:latin typeface="TimesNewRoman"/>
                <a:ea typeface="Symbol"/>
              </a:rPr>
              <a:t>č</a:t>
            </a: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ník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231f20"/>
                </a:solidFill>
                <a:latin typeface="Times New Roman"/>
                <a:ea typeface="Symbol"/>
              </a:rPr>
              <a:t>Что вы думаете о роли, трудностях и возможностях переводчика с гендерной точки зрения пола ? Какие сложности могут возникнуть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91C435-C3AE-497B-A9B2-8284B2256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kte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 žadatelé se na vás pokoušejí vyvíjet nátlak úplatky nebo hrozbami, a žádají, abyste b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hem pohovoru jejich jménem lh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Tazatel vás požádá, a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ť 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u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eknete vše, co o žadateli víte, o jeho život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, o tom, co si o n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m myslí 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lenové komunity. Nakonec vás tazatel požádá i o váš názor na p</a:t>
            </a:r>
            <a:r>
              <a:rPr b="1" lang="cs-CZ" sz="2000" spc="-1" strike="noStrike">
                <a:solidFill>
                  <a:srgbClr val="231f20"/>
                </a:solidFill>
                <a:latin typeface="TimesNewRoman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ípad žadate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61615-FF77-4011-B9B9-272E86B66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oznámka: Tlumočník nebude poskytovat žádné sociologické, antropologické ani historick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informace, aby vyjádřil svůj názor nebo pomáhal zformovat názor tazatele na případ, 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kterém tlumočí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231f20"/>
                </a:solidFill>
                <a:latin typeface="Times New Roman"/>
                <a:ea typeface="Times New Roman"/>
              </a:rPr>
              <a:t>Na druhou stranu,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hlo by být velmi už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é mít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 jako zdroj informací o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mi p</a:t>
            </a:r>
            <a:r>
              <a:rPr b="0" i="1" lang="cs-CZ" sz="2000" spc="-1" strike="noStrike">
                <a:solidFill>
                  <a:srgbClr val="000000"/>
                </a:solidFill>
                <a:latin typeface="TimesNewRoman,Italic"/>
                <a:ea typeface="TimesNewRoman,Italic"/>
              </a:rPr>
              <a:t>ů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du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V jakých situacích by to podle vás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? Kdyby to bylo prosp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né, dá se to skloubit s Kodexem chování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a? Pokud ano, jak by m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tlumo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ík pracova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E991-F8B3-44DF-8C88-FF1D9762D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275-0750-4141-A99D-8BB34E36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6149-6F5B-410D-A384-5390438EF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469-7ABF-4F1E-AC6F-FEF3363C5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F99C-2885-4EB1-8543-E4425F3D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245A-49C4-4598-9875-A20C9E49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E7-DA87-46B8-A049-D3A83B3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0A6D-EDE8-41D3-BBBB-EEEF488C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342C-6565-41B2-9987-76A6663A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3D29-9976-4761-8275-CD760ACA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026F-2715-445C-A88D-D26312334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2CFA-0455-46AE-A897-C62DF505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C7151-F1F7-47F4-A8CE-2E1605BB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E7BA-1698-4C0D-A3B7-0857BAC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F1D8C-2135-4618-93A1-EC5F7B99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364E5-5063-4883-AE45-0768B7BE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9347-B26F-4C88-9009-718DDC0B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0510-B224-47F4-AA80-1F20BB276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182A-A0F4-4A9E-A7CE-6A435F22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95C0-1790-40E0-A482-16E5252FF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51437-E206-4B64-B371-B16C8E5DA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90F107-7B5C-453F-81E4-855555834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F42B-68D6-412F-A2C5-04173626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0F64A-E545-41D5-B34E-88842583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C3B8-682C-482B-B11F-34B74671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E1638-316C-490F-A052-84B3116C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38709-2524-4C62-BCCD-126227C5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40032-320C-404E-80FB-0E6C9B3D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1B9F4-9E00-4D96-8ED5-C6B2613C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E9CE1-BE61-48B7-90E7-75985CE3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ECD4-BE99-44C5-B204-5DFA256C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056B-C59F-44CF-ABE6-4164A4F3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C2A89-03D3-4B4B-AE5A-1BDAABE33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DB66A-8B04-4AA8-A742-6622F70E9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2D9A7-FC58-4034-BCBC-BA347637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AAF30-A64A-496E-BEF2-FD5DA152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AD5B-C35B-4905-92DD-0645FED5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3EB4D-116B-43FA-AA39-81FDF407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35EE-497A-47FE-AC69-E0D74832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FE076-7372-4292-B665-8F7C806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F79C7-A6FE-4AA5-85D1-8ACD7176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29EA-5697-4972-B53A-B445C72E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83D6A-CCAF-4050-ABB3-16970043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CED31-2CD0-40CB-BBF2-52A6F6CD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E6813-A492-4440-89D5-0E9DA13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7DA16-AF15-4558-A771-979A04001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A75E7-F8A3-4715-BAD9-D9B2BC84C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0F5BA-C81F-4B34-82C1-05AB223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D4EFA-2124-4AD4-BEBF-A4CA57543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0CEE7-AF23-4910-89CD-62368405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19F2E-AFFF-48C8-96C8-7C31C791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874283-FF62-4610-BA1B-84D2169F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5EA7-848D-4EDA-AE26-96761290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9DF73-9482-481E-9706-0F1AD927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C182B-2FD2-4AF5-A8A2-B94F9A6E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9981A-DA98-444D-8518-34B885C9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1E733-C1ED-4C7F-B264-C20F5C18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27640-FCE2-46D7-BE2B-150A1B74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2B6C-87BF-4EE3-A8CC-0DBE79A5D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617EA-1BCE-48B0-9A2D-093000B44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5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4962B-17E7-42E1-AC8C-143F2279B7E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B5B370E-D909-4129-BC39-4F401475A0E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7E1413D-76B3-4F40-8E67-A67A55128A5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7E41577-15BA-4F5A-9EC0-12B0DFC3E56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25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B03E710-B6F5-41B8-9209-17AC9DC2346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4140360"/>
            <a:ext cx="5580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ociální tlumočení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Устный перевод в социальной сфер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AutoShape 1"/>
          <p:cNvSpPr/>
          <p:nvPr/>
        </p:nvSpPr>
        <p:spPr>
          <a:xfrm>
            <a:off x="900000" y="1619280"/>
            <a:ext cx="7559640" cy="395928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079640" y="1676520"/>
            <a:ext cx="7199280" cy="37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3600360" y="2340000"/>
            <a:ext cx="362268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2879640" y="3060720"/>
            <a:ext cx="5940360" cy="2700360"/>
          </a:xfrm>
          <a:prstGeom prst="roundRect">
            <a:avLst>
              <a:gd name="adj" fmla="val 5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4" descr=""/>
          <p:cNvPicPr/>
          <p:nvPr/>
        </p:nvPicPr>
        <p:blipFill>
          <a:blip r:embed="rId1"/>
          <a:stretch/>
        </p:blipFill>
        <p:spPr>
          <a:xfrm>
            <a:off x="3060720" y="3240000"/>
            <a:ext cx="558000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1979640" y="3959280"/>
            <a:ext cx="6300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440000" y="1619280"/>
            <a:ext cx="75596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ciální nebo komunitní tlumoče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Community Interpre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Cоциаль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щественны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вод в социальной сфе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ровождающий пере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ный перевод для этнической     диаспоры…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079640" y="1698480"/>
            <a:ext cx="7380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Сложность рабочих усло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Психологическая нагруз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Неравноценная позиция участников общ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Возможное давление на перевод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Равновесие между соблюдением интересов    организации и проявлением участия по отношению к клиенту, нейтралит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c0504d"/>
                </a:solidFill>
                <a:latin typeface="Calibri"/>
              </a:rPr>
              <a:t>- Ограниченность во 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2"/>
          <p:cNvSpPr/>
          <p:nvPr/>
        </p:nvSpPr>
        <p:spPr>
          <a:xfrm>
            <a:off x="1260360" y="179280"/>
            <a:ext cx="774072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Специфика перевода в социальной сфер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079640" y="900000"/>
            <a:ext cx="7740360" cy="62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Отношения с организацие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или учреждением, для которого вы переводите, правомочия данной организации, ее задачи и ц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Условия работы, ожидания клиента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 - возможный конфликт между тем, что ожидает клиент или организация и вашими возможностями, между вашей личной системой ценностей и этическими нормами поведения переводчика и т. 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1f497d"/>
                </a:solidFill>
                <a:uFillTx/>
                <a:latin typeface="Calibri"/>
              </a:rPr>
              <a:t>Переводчик - главное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:   </a:t>
            </a:r>
            <a:r>
              <a:rPr b="1" i="1" lang="ru-RU" sz="2400" spc="-1" strike="noStrike">
                <a:solidFill>
                  <a:srgbClr val="1f497d"/>
                </a:solidFill>
                <a:latin typeface="Calibri"/>
              </a:rPr>
              <a:t>самостоятельный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анализ трудностей, умение задать (себе) вопросы и ответить, умение находить нужную информацию, дневник переводчика (трудности, примеры, инфо, и т.п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2519280" y="81000"/>
            <a:ext cx="42433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1f497d"/>
                </a:solidFill>
                <a:latin typeface="Calibri"/>
              </a:rPr>
              <a:t>Ключевые мо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1440000" y="84240"/>
            <a:ext cx="7380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f497d"/>
                </a:solidFill>
                <a:uFillTx/>
                <a:latin typeface="Verdana"/>
              </a:rPr>
              <a:t>Трудности и особенност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f497d"/>
                </a:solidFill>
                <a:latin typeface="Verdana"/>
              </a:rPr>
              <a:t>важность роли переводчик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Правильная интерпретация слов клиента -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от вас может зависить судьба конкретно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f497d"/>
                </a:solidFill>
                <a:latin typeface="Verdana"/>
              </a:rPr>
              <a:t>человека, дальнейшее решение его ситуа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2"/>
          <p:cNvSpPr/>
          <p:nvPr/>
        </p:nvSpPr>
        <p:spPr>
          <a:xfrm>
            <a:off x="1260360" y="2340000"/>
            <a:ext cx="738036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3" descr=""/>
          <p:cNvPicPr/>
          <p:nvPr/>
        </p:nvPicPr>
        <p:blipFill>
          <a:blip r:embed="rId1"/>
          <a:stretch/>
        </p:blipFill>
        <p:spPr>
          <a:xfrm>
            <a:off x="1440000" y="2511360"/>
            <a:ext cx="70196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1619280" y="541440"/>
            <a:ext cx="69912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Деликатные/сложные вопросы, например в случаях сексуального насил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1260360" y="1979640"/>
            <a:ext cx="7380360" cy="4140000"/>
          </a:xfrm>
          <a:prstGeom prst="roundRect">
            <a:avLst>
              <a:gd name="adj" fmla="val 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4" name="Picture 3" descr=""/>
          <p:cNvPicPr/>
          <p:nvPr/>
        </p:nvPicPr>
        <p:blipFill>
          <a:blip r:embed="rId1"/>
          <a:srcRect l="0" t="0" r="44880" b="0"/>
          <a:stretch/>
        </p:blipFill>
        <p:spPr>
          <a:xfrm>
            <a:off x="1440000" y="2160720"/>
            <a:ext cx="7019640" cy="37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237960"/>
            <a:ext cx="7199280" cy="17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Неправомерное использование вашего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влияния на клиента. С другой стороны, давление на вас со стороны клиента или сотрудника организаци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AutoShape 2"/>
          <p:cNvSpPr/>
          <p:nvPr/>
        </p:nvSpPr>
        <p:spPr>
          <a:xfrm>
            <a:off x="1260360" y="2160720"/>
            <a:ext cx="7199280" cy="3779640"/>
          </a:xfrm>
          <a:prstGeom prst="roundRect">
            <a:avLst>
              <a:gd name="adj" fmla="val 4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49942" t="0" r="0" b="0"/>
          <a:stretch/>
        </p:blipFill>
        <p:spPr>
          <a:xfrm>
            <a:off x="1440000" y="2340000"/>
            <a:ext cx="684036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1"/>
          <p:cNvSpPr/>
          <p:nvPr/>
        </p:nvSpPr>
        <p:spPr>
          <a:xfrm>
            <a:off x="1581120" y="179280"/>
            <a:ext cx="756288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1f497d"/>
                </a:solidFill>
                <a:latin typeface="Verdana"/>
              </a:rPr>
              <a:t>Различать между ролью переводчика и ролью ведущего собеседования: задавать вопросы, внимательно слушать ответы, оценивать ситуацию конкретного человека — это задачи анкетера, Вы предоставляете сторонам собеседования нейтральный коммуникационный канал!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2"/>
          <p:cNvSpPr/>
          <p:nvPr/>
        </p:nvSpPr>
        <p:spPr>
          <a:xfrm>
            <a:off x="1260360" y="2700360"/>
            <a:ext cx="7199280" cy="3419280"/>
          </a:xfrm>
          <a:prstGeom prst="roundRect">
            <a:avLst>
              <a:gd name="adj" fmla="val 46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rcRect l="0" t="0" r="39891" b="10075"/>
          <a:stretch/>
        </p:blipFill>
        <p:spPr>
          <a:xfrm>
            <a:off x="1440000" y="2879640"/>
            <a:ext cx="68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0:20Z</dcterms:modified>
  <cp:revision>88</cp:revision>
  <dc:subject/>
  <dc:title>Snímek 1</dc:title>
</cp:coreProperties>
</file>