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dt" idx="16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54231-A88B-42D0-B77C-8D18DD722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B49785-D04C-44D0-B0A4-004304E64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41544-EBED-4E35-8E08-7B33FB99B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905A7-F107-4F0D-8053-780FFDF37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B758C-2AA1-4706-922B-85276F1C1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7A7C0-5FE0-4FE6-A3A1-6A1737D5D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4B135-2194-460C-B408-C2F7B5DA8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F03A4-C7DE-4B9D-B315-FD7B6361FE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E3B00-D055-41D2-88F6-40BB12D49F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5003B-806A-4EC4-9580-1B1CE1D674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C2C85-52BF-43F0-8602-D76158DEF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28E5D-1F3D-4BCF-8315-F95A9C4A6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B677C-159C-436E-9D96-C1C883389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354663-55A4-4147-901F-C74B2B21D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126FF-017D-4098-89EC-B13A41E579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EB4A7-A3C1-4E02-ACEA-1B4C28303A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379401-7FDD-4768-B5D8-7EFFE61D4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A44AA-842B-463D-BA9C-3B7A2DD46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586A4-D350-41B1-8B7A-00DE843DF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17AC28-1CDC-42C1-BF0D-523CABB068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C013A7-815A-4446-8815-AA4952269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27D922-84F6-442F-85D4-460ED4CAC8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C95-826A-4D68-BCBC-351E87F95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A192-3B47-4E24-A3D3-25C00BD9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6FDD-128A-4261-BA84-F75D6776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E15D-90D3-4403-A65D-B2DA085D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D076-AA6D-401C-ADA7-E38BA50DD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311D-CB76-4B01-966D-2F7C6D39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DC5-C9F9-43BD-BFC4-6BDF68C3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1686-BD93-4EF7-88BB-6E5BA98A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1E99-845E-4DDB-9CE7-F0EFFDC98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E753-4587-45D5-AA4B-B080FE725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85AB-FEA9-4ED8-9E53-76B31213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FBCB-CFB7-4096-89E1-86AD099B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A2F89-3AE4-4692-B964-0386A2B1A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43AA-D52E-4DF0-AE0A-48E3BBCB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F293-9A1B-45E7-9D02-30076E04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1CC10-D04A-4402-A28A-8CA07D77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2944-7C21-4793-B878-CAACF9B0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1CA9-E118-4AB3-A411-EC765C82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F874-1734-45D5-9DB7-B979E82B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321F-A118-4C36-8959-C9AFE3B6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8849-EC65-472C-B37A-C1343BD9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BFAC2-54B1-42B4-A43F-1B54C074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00662-1C2A-4DB1-946A-9CAB2990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60AC-8669-447C-9ED8-6C0EA5F5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055AC-8A41-4AB7-AFE0-ABB69699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049CB-6E00-4186-B9E9-B7FA2067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F4CA8-4533-428A-8C21-8E6ED9EC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FD64-050D-4B9D-B0F9-6A6241D70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8D34C-DB78-42CF-B516-3261EA102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5958-0B50-46B8-A9D3-D597698B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2B3-8DE9-436D-9E90-B78C7D7E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13E84-DD57-4250-A7A6-0AA70094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C25FF-7313-48BA-B230-70A9F389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20A7-DD6E-4974-820D-4083A4839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A3B31-7D1D-48A0-9365-DD6CC521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BC170-66B1-4535-8B32-78CCF94A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0731F-293C-483D-9E86-AE7CFFDF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3398D-053F-439F-B193-2016BA30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C6C10-AB2A-48CB-9944-45792AF7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23BE4-6AB0-4C34-B577-C2F0063A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F9F2D-32D7-4E50-895F-0D150EBB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5E3-B29A-4D64-A7B7-2358EA06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3460-BAE6-42BA-B381-E613113C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6AA3-3A32-4F1F-9D21-904C93EA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50551F-F23A-44BE-AAD1-40990CEC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41DF0-878A-4AB6-9E32-277C90AD9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83B3B-0538-41C6-B17F-928EB32E4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D1873-0E90-4B33-819C-282A14399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4086E-8F40-46A8-99A0-4B7B70D5E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790A-FBE7-4867-AB4C-5CDDE292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729B4-6484-46EB-ABA8-EA72602DE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3813F-6F4A-41D1-89F1-836004271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F6C-515B-49B2-8A7F-95B0C4C6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FCC77-4DDE-4525-A82C-A049CFA4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76D30-7187-4B76-AAA3-2ED315C7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DDC6E-1B4A-4601-9110-33B1EFB8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F38F-FEA3-48ED-AEF5-634AC15F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DC84-41EF-4699-BA4C-260AED508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E2C79-7AD5-43EC-8558-A15C333B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BE14D-8BF7-4800-8E69-4D3300770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868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9080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3280"/>
            <a:ext cx="21290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25949-FDF4-49AA-9149-87542BDDC7C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1040" y="0"/>
            <a:ext cx="10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1103B5F-97C7-46B5-A35F-AC753AF39EC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1040" y="0"/>
            <a:ext cx="10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9C54596-57E4-4584-9D93-CE94FA7E7CF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41D8C61-3971-47F7-8991-FE7CDE44028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00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9440" y="1440"/>
            <a:ext cx="1116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9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40B8388-8227-4D7A-B7DD-4D8BF23191AE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portal.gov.cz/" TargetMode="External"/><Relationship Id="rId2" Type="http://schemas.openxmlformats.org/officeDocument/2006/relationships/hyperlink" Target="http://portal.gov.cz/" TargetMode="External"/><Relationship Id="rId3" Type="http://schemas.openxmlformats.org/officeDocument/2006/relationships/hyperlink" Target="http://www.mpo.cz/" TargetMode="External"/><Relationship Id="rId4" Type="http://schemas.openxmlformats.org/officeDocument/2006/relationships/hyperlink" Target="http://www.mpo.cz/" TargetMode="External"/><Relationship Id="rId5" Type="http://schemas.openxmlformats.org/officeDocument/2006/relationships/hyperlink" Target="http://www.mfcr.cz/" TargetMode="External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"/>
          <p:cNvSpPr/>
          <p:nvPr/>
        </p:nvSpPr>
        <p:spPr>
          <a:xfrm>
            <a:off x="3060720" y="3959280"/>
            <a:ext cx="5580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Podnikání v Č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539640" y="179280"/>
            <a:ext cx="8280360" cy="61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ловар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ý list/ výpis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 živnostenského rejstříku - Лицензия на ведение предпринимательской деятельност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é podnikání - Малое предпринимательств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vnostnik 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лый / частный предпринимате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ý rejstřík -  реестр частных предприним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Živnostenský úřad - муниципальный орган по предпринимательской деятельности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nanční úřad - Налоговая инспек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ová sprava - Налоговый уч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ové přiznání - Налоговая делар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 z příjmů - Подоходный нал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Daňová evidence - Налоговый уче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vidence příjmů - Учет доходов и расх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Přehled o příjmech a výdajích - Приходно-расходная ведомо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720720" y="0"/>
            <a:ext cx="80992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ртал общественного управления –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ortal.go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Životni situace ►Podnikatel ►Živnostnic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ы, контролирующие предпринимательскую деятельность, перечень приведен на Портале общественного управления –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portal.gov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Adresař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б-сайт Министерства промышленности и торговли –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www.mpo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Podpora podnikani ►Živnostenske podnikani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нформационный материал для иностранных физических лиц, осуществляющих предпринимательскую деятельность, веб-сайт Министерства промышленности и торговли: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www.mpo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►Podpora podnikání ►Živnostenske podnikani ►Integrace cizinc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б-сайт Министерства финансов - 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www.mfcr.cz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1" descr=""/>
          <p:cNvPicPr/>
          <p:nvPr/>
        </p:nvPicPr>
        <p:blipFill>
          <a:blip r:embed="rId1"/>
          <a:stretch/>
        </p:blipFill>
        <p:spPr>
          <a:xfrm>
            <a:off x="1619280" y="685800"/>
            <a:ext cx="6172200" cy="54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1619280" y="179280"/>
            <a:ext cx="7020000" cy="52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víčení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Živnostenské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 oprávn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jistíme, zda ke své činnosti potřebujeme živnostenské nebo jiné oprávnění. Například 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autoři, spisovatelé, herci a hudebníci živnostenské oprávnění nepotřebují -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OSVČ bez živnosti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ostatní činnosti vyžadují živnost (volná, v</a:t>
            </a:r>
            <a:br>
              <a:rPr sz="20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1800360" y="268200"/>
            <a:ext cx="648000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Registrace na živnostenském úřad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Na začátku podnikání zajdeme v každém případě na kterýkoliv živnostenský úřad a vyplní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Jednotný registrační formulář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Tím provedeme najednou všechna potřebná ohlášení a registrace - na zdravotní a sociální pojištění, daň z příjmu a případně další daně (DPH, silniční daň, plátce daně "z mezd",...), a případně ohlásíme živnost. Výpis z rejstříku trestů nepotřebujeme, úřad si vše zjistí sá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1"/>
          <p:cNvSpPr/>
          <p:nvPr/>
        </p:nvSpPr>
        <p:spPr>
          <a:xfrm>
            <a:off x="1979640" y="720720"/>
            <a:ext cx="6661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dravotní a sociální pojiště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jistíme, zda musíme platit zálohy na pojištění. Jestliže máme podnikání jak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vní činnost, musíme od počátku podnikání platit měsíčně zálohy na zdravotní pojištění i sociální pojištění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lejší činnost, zdravotní i sociální pojištění doplatíme až po skončení roku po podání daňového přiznání a Přehledu o příjmech a výdajích. Budeme-li mít nízký zisk, sociální pojištění nebudeme muset plat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"/>
          <p:cNvSpPr/>
          <p:nvPr/>
        </p:nvSpPr>
        <p:spPr>
          <a:xfrm>
            <a:off x="1979640" y="539640"/>
            <a:ext cx="57592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900000" y="539640"/>
            <a:ext cx="774072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43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Microsoft YaHei"/>
              </a:rPr>
              <a:t>Daňová evidence a další evid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43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ěhem roku schováváme doklady a z nich uděláme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buď daňovou evidenci (musíme schovávat všechny doklady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nebo evidenci příjmů, budeme-li uplatňovat paušální výdaje (stačí schovávat příjmové doklady a vydané faktury)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Pokud jsme se zaregistrovali jako plátci DPH, vedeme také evidenci podle zákona o DPH, a to čtvrtletně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1800360" y="360360"/>
            <a:ext cx="504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1"/>
          <p:cNvSpPr/>
          <p:nvPr/>
        </p:nvSpPr>
        <p:spPr>
          <a:xfrm>
            <a:off x="1079640" y="900000"/>
            <a:ext cx="7380000" cy="55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 skončení roku podáme daňové přiznání k dani z příjmu a Přehledy pojištění a zaplatíme daň z příjmu a pojištěn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estliže jsme plátci DPH, během roku plníme všechny povinnosti plátce DPH a podáváme daňové přiznání k DPH po každém čtvrtlet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kud uplatňujeme výdaje na auto, platíme čtvrtletně zálohy na silniční daň a po konci roku podáme daňové přiznán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2"/>
          <p:cNvSpPr/>
          <p:nvPr/>
        </p:nvSpPr>
        <p:spPr>
          <a:xfrm>
            <a:off x="1260360" y="293760"/>
            <a:ext cx="66596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1" marL="431640" indent="-431640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  <a:ea typeface="Microsoft YaHei"/>
              </a:rPr>
              <a:t>Daňová přiznání a přehledy pojištění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539640" y="539640"/>
            <a:ext cx="8280360" cy="54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Перед заключением брака жених и невеста заполняют стандартный бланк, который подают в тот орган ЗАГС, в котором намерены провести обряд бракосочетания. Одновременно с заполненным бланком представляются требуемые документы. Церковный брак может бы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заключен лишь после того, как вступающие в брак предоставят лицу, проводящему бракосочетание, подтверждение о том, что они выполнили все требования закона для заключения действительного бра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Если предоставляемые документы выданы органами иностранных государств, должен быть предоставлен ихзаверенный перевод, документы должны быть снабжены необходимыми заверениями. Орган ЗАГС может освободить жениха и невесту от необходимости заверять документы, если получение данного заверения связано с труднопреодолимым препятств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заключением брака иностранец предоставит органу ЗАГС справку, выданную Полицией Чешской Республики, подтверждающую законность пребывания в Чешской Республике. В день заключения брака данное подтверждение не должно быть старше 7 рабочих дн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539640" y="0"/>
            <a:ext cx="774072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ключение брака и регистрированного партнерст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720720" y="303120"/>
            <a:ext cx="8099280" cy="53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nem 1. července 2006 nabyl účinnosti zákon č. 115/2006 Sb., o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registrovaném partner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 o změně některých souvisejících zákonů. Registrované partnerství, (dále je „partnerství“), vzniká projevem vůle dvou osob stejného pohlaví činěným formou souhlasného svobodného a úplnéh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hlášení těchto osob o tom, že spolu vstupují do partnerství. Prohlášení činí osobně před matričním úřadem v kraji, který je podle místa trvalého pobytu alespoň jedné z osob vstupujících do partnerství příslušný k přijetí prohlášení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soby, které chtějí vstoupit do partnerství, vyplní před prohlášením předepsaný tiskopis a předloží jej příslušnému matričnímu úřadu. K tiskopisu připojí stanovené doklad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kud jsou předkládané doklady vystaveny orgány cizích států předkládají se s úředním překladem do českého jazyka a musí být opatřeny potřebnými ověřením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dobně jako u uzavírání manželství, cizinec, který chce vstoupit do partnerství a který nemá povolen trvalý pobyt na území České republiky, předloží příslušnému matričnímu úřadu před vstupem do partnerství potvrzení vydané Policií České republiky o oprávněnosti pobytu na území České republiky. Toto potvrzení nesmí být ke dni vstupu do partnerství starší 7 pracovních dnů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079640" y="360360"/>
            <a:ext cx="7394400" cy="58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Лицо, которое самостоятельно занимается доходной деятельностью, т.е. предпринимательской или иной хозяйственной деятельностью, называется 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лицом, самостоятельно зарабатывающим (osoba samostatně výdělečně činná – OSVČ).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В русскоязычных источниках обычно употребляется название „Индивидуальный/частный предприниматель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1"/>
          <p:cNvSpPr/>
          <p:nvPr/>
        </p:nvSpPr>
        <p:spPr>
          <a:xfrm>
            <a:off x="720720" y="179280"/>
            <a:ext cx="8099280" cy="68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lvl="2" marL="1143000" indent="-227160">
              <a:lnSpc>
                <a:spcPct val="100000"/>
              </a:lnSpc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SimSun"/>
              </a:rPr>
              <a:t>Необходимые документ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7160">
              <a:lnSpc>
                <a:spcPct val="100000"/>
              </a:lnSpc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Dotazník k uzavření manželstv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Doklad, kterým je možno prokázat totožn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Rodný 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Doklad o právní způsobilosti k uzavření manželství, který nesmí být k datu uzavření manželství starší 6 měsíců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Potvrzení o osobním stavu a pobytu, je-li cizím státem vydáváno; jsou-li tyto údaje součástí předloženého dokladu o právní způsobilosti k uzavření manželství - potvrzení se nepředklá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Úmrtní list zemřelého manžela, jde-li o ovdovělého cizince, tento doklad není třeba předkládat, je-li tato skutečnost uvedena v dokladu o právní způsobilosti k uzavření manželství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Pravomocný rozsudek o rozvodu manželství, je-li cizinec, který chce uzavřít manželství, rozveden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143000"/>
                <a:tab algn="l" pos="1590840"/>
                <a:tab algn="l" pos="2039760"/>
                <a:tab algn="l" pos="2489040"/>
                <a:tab algn="l" pos="2938320"/>
                <a:tab algn="l" pos="3387600"/>
                <a:tab algn="l" pos="3836880"/>
                <a:tab algn="l" pos="4286160"/>
                <a:tab algn="l" pos="4735440"/>
                <a:tab algn="l" pos="5184720"/>
                <a:tab algn="l" pos="5634000"/>
                <a:tab algn="l" pos="6083280"/>
                <a:tab algn="l" pos="6532560"/>
                <a:tab algn="l" pos="6981840"/>
                <a:tab algn="l" pos="7431120"/>
                <a:tab algn="l" pos="7880400"/>
                <a:tab algn="l" pos="8329680"/>
                <a:tab algn="l" pos="8778960"/>
                <a:tab algn="l" pos="9228240"/>
                <a:tab algn="l" pos="9677520"/>
                <a:tab algn="l" pos="10126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720720" y="539640"/>
            <a:ext cx="774072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Закон № 455/1991 Сб. законов, «О предпринимательской деятельности»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Физическое лицо, постоянно проживающее за пределами ЧР или юридическое лицо с местонахождением за пределами ЧР (иностранное лицо) может заниматься предпринимательской деятельностью в Чешской Республике на тех же условиях и в таком же объеме, как и чешское лицо, если законом «О предпринимательской деятельности» или иным законом не определено ино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Чешским лицом считается физическое лицо, имеющее разрешение на постоянное проживание, лицо, которому было предоставлено убежище и юридическое лицо с местонахождением в Чешской Республике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1"/>
          <p:cNvSpPr/>
          <p:nvPr/>
        </p:nvSpPr>
        <p:spPr>
          <a:xfrm>
            <a:off x="720720" y="179280"/>
            <a:ext cx="792000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бщая информ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Иностранцы, имеющие разрешение на постоянное проживание и лица, которым было предоставлено убежище, в области предпринимательской деятельности имеют такой же статус, как и граждане ЧР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Иностранцы, не имеющие разрешение на постоянное проживание в ЧР и не являющиеся гражданами стран-членов Европейского Союза, гражданами страны-члена Соглашения о Европейском экономическом сообществе и гражданами Швейцарской конфедерации, для занятий предпринимательской деятельностью должны иметь разрешение на проживание (визу, разрешение на долгосрочное пребывание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720720" y="179280"/>
            <a:ext cx="809928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слови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ми условиями являются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остижение возраста 18 лет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ееспособно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несудимость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пецифическими условиями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ля занятия предпринимательской деятельностью является профессиональная или иная компетентность, в соответствии с требованиями закона о предпринимательской деятельности или иных законодательных актов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720720" y="360360"/>
            <a:ext cx="7559640" cy="450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Типы предприним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latná právní úprava rozeznává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živnosti ohlašovací, u nichž právo provozovat živnost vzniká ve většině případů již ohlášením živnosti živnostenskému úřadu a osvědčuje se vydáním výpisu z živnostenského rejstřík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živnosti koncesované, u nichž je právo podnikat vázáno na souhlasné stanovisko věcně příslušného orgánu státní správy; vzniká udělením koncese a osvědčuje se vydáním výpisu z živnostenského rejstřík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539640" y="179280"/>
            <a:ext cx="8280360" cy="54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 соответствии с действующим законодательством выделяются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предпринимательская деятельность явочно-нормативная (право занятий предпринимательской деятельностью возникает, в большинстве случаев, после подачи заявления в соответствующий орган по частному предпринимательству и удостоверяется выдачей выписки из реестра частных предпринимателей)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- предпринимательская деятельность лицензионная, когда для осуществления права заниматься предпринимательской деятельностью необходимо разрешение соответствующего органа государственного управления, такое право возникает с выдачей лицензии и подтверждается выдачей выписки из реестра частных предпринимател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900000" y="539640"/>
            <a:ext cx="7199280" cy="37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ové přiznání</a:t>
            </a: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aňové přiznání k dani z příjmů fyzických osob je povinen podat každý, jehož roční příjmy přesáhly 15.000,- Kč. Daňové přiznání se podává na místně příslušném finančním úřadě do 31. 3. příslušného roku nebo do 30. 6. v případě, že formuláře k daňovému přiznání vyplňuje daňový poradce. S dotazy na vaše daňové povinnosti při výkonu živnostenského podnikání se můžete obrátit na finanční úřad v místě výkonu vašeho podnikání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900000" y="539640"/>
            <a:ext cx="75596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логовая деклар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логовую декларацию на подоходный налог физических лиц обязано подать каждое лицо, суммарный годовой доход которого превысил 15 000 чешских крон. Налоговая декларация подается в местную налоговую инспекцию до 31 марта соответствующего года или до 30 июня в случае, если налоговую декларацию заполняет лицензированный бухгалтер. С вопросами относительно налогообложения Вы можете обратиться в налоговую инспекцию по месту занятия предпринимательской деятельностью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45Z</dcterms:modified>
  <cp:revision>88</cp:revision>
  <dc:subject/>
  <dc:title>Snímek 1</dc:title>
</cp:coreProperties>
</file>