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9F97-8B26-47B5-8126-47BD9BFB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7D15-E152-4C27-947B-0CF7368F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6F4-A4DF-4FFF-85CD-1BBA536F0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387E-CACD-4076-9833-22618257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60F1-3C70-479B-9858-33B29EA7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468D-051B-49AC-B7D5-4859F828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31AA-858D-4FE2-BE6E-66083CF2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AA93-5CAB-408B-8A93-687F1479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9F58-12B5-4754-812D-36DE7610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B77F-5FFE-4DC1-A7B5-0806D195B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372F-AE66-41B6-A8A4-2EF843257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C48E-4EE1-4968-AAF2-638A02DE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14A07-1710-4779-BE45-93E919B9E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70CBD-9588-4426-9E31-3AA42738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3D544-88CA-4824-A666-1F0F1FD8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1B77-B8D8-444E-AB08-DE0B45C0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A5D0-02D7-4E90-91C9-CA359171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EB96-56B9-4DE9-AA4F-9E5E93FA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55E8-8442-40CB-A75C-D27FFD5E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C954-D32A-4B64-93D9-DEAC2E27A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EF4D-26E4-412A-902A-B7C257D58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E0A76-6EE8-4807-92B6-FD44B1439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67A27-DDEC-4DBC-8210-F3F6324C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AC4C-3A30-4F3F-9B99-70922107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F11F9-557B-43D8-A12A-83BAADBD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909B5-7626-436E-974E-F2833E52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78D31-8791-4E53-94AC-C887380E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8D352-977F-4CF0-A6F4-FFC2E15F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180F-CE7F-4357-83FB-748E816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771AE-D174-4ADE-86CE-6AFBB6B89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7386-D027-4BF2-BFC7-C6C3A3F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78963-190D-4ADB-B13A-B6282B00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A80AB-E4E8-4F21-A461-2EA0B0C25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B7128-96BB-4FA1-B63F-8E768C37D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0A9BF-C94E-436C-859C-8A687577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DB61E-8FC6-43E0-8C86-62189727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E02D2-832C-437B-9966-1DF6A585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9993E-9A6A-4B10-AF39-0F37252D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67307-04EC-4458-A51B-CD2A68E91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867B7-9294-4B90-A56B-88154FB6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FB82-F0D4-4078-A0EA-8208FDE04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C978-CCDA-43E8-A01A-D2311C6F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19262-0812-4B02-A636-65798087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FA100-49CC-45E9-B5BB-C7907C1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2936-0C9A-4573-8D15-5A05BFF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1A59-AB96-4E5B-8710-930947D0C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F1BD2-D25F-42D8-AF81-F035AC7E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4C1DB-646F-42F0-8EB5-D7A0DE937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DA6519-B2DF-48A3-B07E-510234ED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603A6-18F3-4834-8CCA-C64D1A741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AFAC3-8EC5-4280-BDB1-DFB32399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98E33-80EB-4A7D-8DD1-38DB1E6A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507B-52B2-46A3-9311-C8A630862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18CE4-C059-4F82-9314-A31C1F48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BCCEB-0AD7-4DC2-8FF7-3A7A2206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BFE40-A652-46FA-9DDA-8F5E321A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993DD-D49F-47A5-8361-84EFFEB3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238B2-F8B2-4337-A226-1A5FCB51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5B795-6897-439F-A798-837FE0EA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7FD71-C70F-414C-B207-947DD5E3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D602-797F-47CD-A47A-D5E896BE579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28BD-684A-45AA-8D62-A7FCE036D00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351F-1320-41A5-A273-F433E4AE438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12AC-B06C-473E-BC21-CA29D0AF518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6F0C-BC80-4242-9208-745D83B740F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EB32-3930-4E41-B90A-157D4F83593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C053-E636-43F1-A3C3-39C271C4EA3C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01D2-DC7C-44DA-912C-DDB908DFBDD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B5C03-721C-44A6-9E68-F30D402EB6F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B516-C01B-4349-8E27-DAED784A852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дравоохран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Медицинское страх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бязательное медицинское страхование (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řejné zdravotní pojištění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договорное медицинское страхование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(smluvní zdravotní pojištění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уристическое ( краткосрочное и долгосрочное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cestovní zdravotní pojištění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омплексное медицинское страхование для иностранцев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komplex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í zdravotní pojištěn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adstandardní  výk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mluvní nemocn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ř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FD4B-FC82-405E-BE71-BA5D09A3FBD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990033"/>
                </a:solidFill>
                <a:latin typeface="Verdana"/>
              </a:rPr>
              <a:t>Виды медицинской помощи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mbulan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амбулаторная медицинск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v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emocniční léčba)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тационарная медицинск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Lůžková péče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стационарн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eventivní péče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профилактическ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ispenzární péč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диспансерн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Lázeňská péč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санаторно-курортн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éče v odborných dětských léčebnách a ozdravovnách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лечение в специализированных детских лечебницах и санатория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Závodní  preventivní péč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заводское профилактическое обслужива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u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neodklad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é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неотложная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imární péče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первичн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помощ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oúrazová a pooperační rehabilitace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п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осттравматическая и послеоперационная реабилитац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Konziliární vyšetře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обследование врачебным консилиумом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Repatriac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F167-B04C-4C0F-BCED-60AC267640D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Verdana"/>
              </a:rPr>
              <a:t>Неотложная и скорая помощь</a:t>
            </a:r>
            <a:br>
              <a:rPr sz="2400"/>
            </a:b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(P</a:t>
            </a: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ohotovostní a záchrann</a:t>
            </a: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á</a:t>
            </a: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 služb</a:t>
            </a:r>
            <a:r>
              <a:rPr b="1" lang="cs-CZ" sz="2000" spc="-1" strike="noStrike">
                <a:solidFill>
                  <a:srgbClr val="990033"/>
                </a:solidFill>
                <a:latin typeface="Verdana"/>
              </a:rPr>
              <a:t>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 prv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i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SP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ran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S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ych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L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ychl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i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omoc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ZP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eteck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hran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Z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prav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u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ZS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anitka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dravot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a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ř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Ř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di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č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hran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ář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EDBF6-AACF-4FF2-BF10-79FAAE13EC2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дравоохране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27Z</dcterms:modified>
  <cp:revision>94</cp:revision>
  <dc:subject/>
  <dc:title>Snímek 1</dc:title>
</cp:coreProperties>
</file>