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A1C3-25F1-4421-8740-53FE06C5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E039-E18C-415C-9365-2DF93D88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7449-490F-448C-8CAB-D8702200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017-5A55-41E4-9974-5D601366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4F88-A193-4D0B-8404-F8641AA9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321-6C7A-4BB2-A319-BA7ED601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2411-C84A-40F1-A293-9F64A4D1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58799-3533-4139-B6BE-3E66273B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1FBC-6977-4379-B29C-827DD9D2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5BE0-995A-4210-9E1F-DED533A8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2125-F434-4886-8C82-D57F396FD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48032-0980-40FB-8198-18D3EAFB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BF77-02FB-4010-AE45-666AD57B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DAA8-28B7-4345-8444-A0706B017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57FC-B236-4A6F-9B61-DA28E1B5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1C095-CC71-45CF-9EDB-D3721F25E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8A14-1EDB-4EB8-8CF2-B3E8069A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731B-84B2-416A-B45E-E15683EC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861FF-1D7E-4B81-9650-DE4E50CC5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8233-58D5-4B08-A1AB-FFF56052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E6CE-2BC7-443F-8BEC-037848EB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16B68-9A84-422C-9677-E46067CC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30E46-6E95-423F-A318-3D23085E7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E85CF-A41C-4B3A-80EE-53DA903C0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42C5-3BEA-4A4E-A528-6BB35A1A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09ED0-E86D-4819-990F-A174C0C9D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3F18F-62CA-450A-877D-1C04947C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8C10A-7E30-465E-8EBE-195BFCF7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D80C5-7ABB-4126-9E52-1314AE1E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4EB59-FB4E-45FE-816E-5FA09CCD4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0936-5E1A-4CA1-949D-12ECC1E1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0DD86-3048-4850-BC50-4C92E9FA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3AB0D-8A96-40B3-B9FD-93AD1590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3B8DB-9BC6-4A5C-95F7-4C047F3C5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26E55-80FF-459B-91AD-168314B3A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6EBD0-F4A2-4057-850F-238C0027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FA2A6D-96AC-4914-BD45-3838DD22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078FE-7E91-44F0-9A1E-38A3F1396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0A672-0F59-4F3F-8307-DD43157F7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4F115-54A6-4571-B510-0DFC34DB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FC928-A602-4113-A173-225D1153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3D5F-1B45-4BCA-ABDB-818865DC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B7061-D8A6-4984-9396-B8E25541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DF8D8-223D-477B-A8AC-27633AE4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B2943-48E6-4EED-A20D-2C114B27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9E99F3-6775-41DE-84B4-36084940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08FB8-8888-4FFB-BDD6-295F4757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6101E-75BE-42E5-BF9A-573E0EAF6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CF25D-54E3-47FE-9E81-F987F19C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FE3CA6-BD41-4269-B5AD-9EDA9D7E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D223D5-D7F7-4134-A03B-D11440AD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C124A7-2E59-4369-8637-2C563C82D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E86B-520C-4B80-B944-9BE3B9BE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46783-880F-48E1-810A-9CD9096A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60FC2-629F-40BC-98B9-F43D4127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F93E1-A2D1-465A-88DD-16D60223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0C4AF-E421-4CFC-B498-4424DEFF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9BD13-CF36-45DC-A279-A2DC1FCF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EB830-4C84-4369-B321-DBB7977DD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0F64D-84C4-4AF7-8305-DF5B5BDD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6F2C-435B-44AF-8C8D-DD54ECD80B6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80B0-7797-4DE8-92A4-4B6DE754BA8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DE08-5FB2-4A5F-8E9E-95869A9AF2FE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623E-8F77-4A96-B297-7D192D2D532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94DC-7432-498A-BB4A-3F90AD906DA8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0B50-35C7-42B6-9E31-986139670E8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kitka_meta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18" descr="logoMPSV-c-sm.jpg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8B0F-81CB-432D-918C-15C674A2FE0D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4A9D-D4A2-434E-AE48-50EFDD9D412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Obdélník 6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bdélník 7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23" descr="logo_meta_1_tmavší_FIN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kitka_meta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kitka_meta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5" descr="kitka_meta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Obrázek 19" descr="logoMPSV-c-sm.jpg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9D63-AC97-4339-93B7-CEA2CA04DC32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45B5-7FD0-4143-9A9F-9A67617033A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Образова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Slovníček pojmů</a:t>
            </a: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 1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Žákovská knížka (ŽK) – knížka, do které se zapisují známky, poznámky a jiná sdělení rodičů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týsek – malé děti ho mají místo žákovské knížk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námky – jsou od 1 – 5, nejlepší je 1 (výborná), nejhorší je 5 (nedostatečná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mácí úkol (DÚ) – zadaná práce na doma, kterou musí žák udělat a mít podepsanou od rodič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známka – pokud se žák chová špatně (zlobí, je drzý, neposlouchá, atd.), dostane od učitele poznámk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chvala – za přínos kolektivu, dobrý prospěch, atd. dostávají žáci pochva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ůtka – při opakovaném porušování školního řádu může být udělena důtka (nejprve třídního učitele, pak ředitel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mluvenka – při nepřítomnosti je nutné napsat do ŽK, proč žák chyběl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ísemka – písemný test znalost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setiminutovka nebo pětiminutovka – kratší písemný t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ktát – písemné ověření znalostí pravopis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koušení – ústní ověřování znalost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Slovníček pojmů </a:t>
            </a: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Školní družina – po škole chodí menší děti (na prvním stupni) do družiny, kde si hrají, at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Školní jídelna – zde se žáci stravují, obědy je nutné si kupov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řídní učitel – každá třída má svého učitele, který se o ni stará, řeší organizační i administrativní záležitosti žák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Ředitel – řídí školu, řeší organizační i administrativní záležitosti ško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ysvědčení – doklad o prospěchu a chování, žáci ho dostávají po každém pololet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řídní schůzky – konají se většinou každé pololetí, rodiče mají možnost konzultovat prospěch a chování svých dět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ázdniny – volno – nechodí se do ško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Ředitelské volno – ředitel vyhlašuje maximálně 5 x za rok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ýlet – organizovaný výjezd mimo školu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dividuální vzdělávací plán (IVP) – škola, když je potřeba, zpracovává IVP, aby zohlednila odlišné vzdělávací potřeby žáků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90033"/>
              </a:solidFill>
              <a:latin typeface="Verdan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928800" y="1714680"/>
            <a:ext cx="78580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Структура образования в Чех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8" name="Picture 8" descr=""/>
          <p:cNvPicPr/>
          <p:nvPr/>
        </p:nvPicPr>
        <p:blipFill>
          <a:blip r:embed="rId1"/>
          <a:stretch/>
        </p:blipFill>
        <p:spPr>
          <a:xfrm>
            <a:off x="857160" y="2570040"/>
            <a:ext cx="79264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Mateřské školy (MŠ)– předškolní vzdělávání </a:t>
            </a: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Od 3 – 6 let</a:t>
            </a: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Zápis do MŠ podáním žádosti k předškolnímu vzdělávání v termínu vyhlášení zápis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Doklady nutné k zápisu 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vyplněná žádost k předškolnímu vzděláván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vyjádření dětského lékař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doklad o pravidelném očkování dítě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OP / pas zákonného zástup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U cizinců jsou potřebná další potvrzení. Informace o nich obdrží zákonný zástupce dítěte od ředitele mateřské škol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Druhy poplatků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za předškolní vzdělávání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travn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Základní škola (ZŠ)- povinná školní docházka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Od 6 – 15 l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ovinná školní docházka trvá 9 l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ápis do první třídy ZŠ  - oficiální zápisy do prvních tříd probíhají v době mezi 15. lednem a 15. únorem kalendářního roku, v němž má dítě zahájit povinnou školní docházku. Jinak je možno zapsat dítě kdykoliv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ákonní zástupci mohou žádat o odklad školní docház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oklady nutné k zápisu : rodný list dítěte a pas zákonného zástupce, informace o zdravotním pojiště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ápis do vyšších tříd je možný kdykoliv během školního rok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K tomu je dobré doložit vysvědčení z posledního absolvovaného ročníku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Základní škola se dělí na dva stupně:   </a:t>
            </a:r>
            <a:br>
              <a:rPr sz="1200"/>
            </a:b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1. stupeň  je od  1.- 5. ročník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209680" indent="-3808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2. stupeň je od  6.- 9. ročník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cs-CZ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Přechod z prvního na druhý stupeň základní školy je automatick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Část povinné školní docházky můžou děti absolvovat také na víceletých gymnázií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na osmiletá gymnázia dělají žáci přijímací zkoušky po ukončení 5. ročník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na šestiletá gymnázia po 7. ročníku základní ško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součástí přijímacích zkoušek jsou testy z českého jazyka, matematiky a všeobecného přehled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Verdana"/>
              </a:rPr>
              <a:t>Střední školy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Od 15 let – končí dle typu ško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Střední školy navazují na základní školy a připravují na budoucí povolání, popřípadě na další stud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Volba typu školy závisí na prospěchu a zájmovém zaměření žák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Přijímací zkoušky vyhlašují konkrétní školy, dle svých požadavků. Žáci posílají přihlášky do prvního kola nejpozději 15. března, v případě přihlášky do oborů vzdělání s talentovou zkouškou do 30. listopadu.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Střední škola může cizincům u přijímacích zkoušek odpustit test z českého jazyka, popřípadě ho nahradit pohovor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Většinou je již ke studiu na střední škole vyžadována alespoň základní znalost češtin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Druhy středních šk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Gymnázium - poskytuje všeobecné vzdělání zakončené maturitní zkouškou a jedná se především o přípravu studentů ke studiu na VŠ nebo VOŠ. Délka studia je většinou 4 rok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Střední odborná škola - poskytuje úplné střední odborné vzdělání zakončené maturitní zkouškou v technicko-hospodářských, ekonomických, zdravotnických, pedagogických a dalších oborech.  Délka studia činí zpravidla čtyři rok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Střední odborné učiliště (SOU) poskytuje střední vzdělání zakončené závěrečnou učňovskou zkouškou. Délka studia jsou dva až tři roky. Absolventi získávají výuční list a jsou kvalifikováni pro výkon dělnických a podobných povolání. Mohou ovšem i pokračovat ve studiu na nástavbách zakončených maturitou</a:t>
            </a:r>
            <a:r>
              <a:rPr b="1" lang="cs-CZ" sz="1400" spc="-1" strike="noStrike">
                <a:solidFill>
                  <a:srgbClr val="ea157a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Organizace školního rok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Vyučování začíná zpravidla v 8 : 00 a končí na prvním stupni nejpozději kolem půl jedné, na druhém stupni mají žáci již odpolední vyučování. Žáci prvního stupně mají většinou možnost navštěvovat družinu až do odpoledních hod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Školní rok pro všechny typy škol začíná 1. září běžného roku a končí 31. srpna následujícího roku; člení se na období školního vyučování a období školních prázdnin.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Období školního vyučování  - začíná 1. září a končí 30. června následujícího kalendářního roku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člení se na první a druhé pololetí. První pololetí začíná 1. září a končí 31. ledna následujícího kalendářního roku. Druhé pololetí začíná 1. února a končí 30. června. Za obě pololetí dostávají žáci vysvědčení.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Prázdniny – období voln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Podzimní prázdniny - trvají dva dny a přičleňují se ke státnímu svátku 28. říj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Vánoční prázdniny - od 23. prosince do 2. ledna následujícího kalendářního rok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Pololetní prázdniny - trvají jeden den a připadají na pátek v době od 29. 1. do 4.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Jarní prázdniny - trvají jeden týden a jejich termín stanoví vyhláška podle sídla školy v rozmezí od prvního úplného týdne února do posledního úplného týdne březn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Velikonoční prázdniny - připadají na čtvrtek a pátek předcházející Pondělí velikonočním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Hlavní prázdniny -od 1. července do 31. srp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Verdana"/>
              </a:rPr>
              <a:t>Ze závažných důvodů, zejména organizačních a technických, může ředitel školy vyhlásit pro žáky volné dny, a to maximálně pět v jednom školním ro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Vyšší odborné školy (VOŠ) a Vysoké školy V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857160" y="1571400"/>
            <a:ext cx="79264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omaturitní studium,  zvyšování kvalifikace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VOŠ trvají většinou 3 roky, studium je zakončeno absolutoriem a udělením titulu diplomovaný specialista (DiS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VŠ mají většinou třístupňovou strukturu – bakalářský ( 3 – 4 roky), navazující magisterský (1 – 3  roky) a doktorský ( 3 roky ) progr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Vysoké školy mají jako jediné možnost udělovat akademické tituly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řijímací zkoušky – nutnost doložit ukončené střední vzdělání maturitním vysvědčením, v případě zahraničních zkoušek je nutná nostrifikace vysvědčení. Zkoušky jsou z konkrétních oborů, na které se uchazeč hlásí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Оцен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928800" y="1628280"/>
            <a:ext cx="78580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—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ýborn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— отличн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—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chvalitebn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— хорош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—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dobř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— удовлетворительн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—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dostatečn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— неудовлетворительн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—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n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edostatečně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— очень плох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Разбираемся в титула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187280" y="1584360"/>
          <a:ext cx="7632720" cy="4898880"/>
        </p:xfrm>
        <a:graphic>
          <a:graphicData uri="http://schemas.openxmlformats.org/drawingml/2006/table">
            <a:tbl>
              <a:tblPr/>
              <a:tblGrid>
                <a:gridCol w="3681720"/>
                <a:gridCol w="3951000"/>
              </a:tblGrid>
              <a:tr h="4624560">
                <a:tc>
                  <a:txBody>
                    <a:bodyPr anchor="t">
                      <a:noAutofit/>
                    </a:bodyPr>
                    <a:p>
                      <a:pPr marL="228600" indent="-228600">
                        <a:lnSpc>
                          <a:spcPct val="150000"/>
                        </a:lnSpc>
                        <a:buClr>
                          <a:srgbClr val="000000"/>
                        </a:buClr>
                        <a:buFont typeface="Verdan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тулы перед имен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Академические титул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c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бакалав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cA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бакалавр искус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r.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магист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gA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магистр искус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g.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инженер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специалист с высшим техническим или экономическим образованием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так наз. «Ригорозные»  титул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«</a:t>
                      </a:r>
                      <a:r>
                        <a:rPr b="0" lang="cs-CZ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ý doktorát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»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Dr.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доктор филосо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Dr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доктор медици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NDr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доктор естественных нау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UDr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доктор пра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Dr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доктор теолог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 indent="-228600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edDr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доктор педагоги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c4dc4a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c4a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чёные звания преподавателей ВУЗ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c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цен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f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фессо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итулы за имене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Учёные степен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hD.</a:t>
                      </a: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ктор философ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D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ктор теолог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tD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ктор искусст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Sc.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андидат нау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rSc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октор нау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.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–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ипломированный специалист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неакадемический титул выпускников Высших специальных школ и консерватори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4dc4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c4a">
                        <a:alpha val="20000"/>
                      </a:srgbClr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5760">
                      <a:solidFill>
                        <a:srgbClr val="c4dc4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4dc4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2:37Z</dcterms:modified>
  <cp:revision>102</cp:revision>
  <dc:subject/>
  <dc:title>Snímek 1</dc:title>
</cp:coreProperties>
</file>