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EDC9-02D7-43AF-9E44-6E62D4B05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7213-3C0B-4A78-A269-1E1F9053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5736-39CC-4D22-9192-944114622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AB8E-E8A4-438E-B880-B11EA9873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572E-3648-4ADE-B19B-B7D6782C8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FF47-CF1A-4ED4-9AF2-F4EDFCCB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D8B4-8841-4640-9F1C-0E4F70B6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21E41-67FA-4C17-A21E-DEABEA0C0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855D-CE23-4F6C-A2FD-594C55D6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16CC-851E-4513-BF1B-1D3A7600E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E9447-E844-47AC-B112-2744F6AAB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8F0E8-6B5D-449C-AB4E-B7D15B3E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133E3-AB87-4D8B-8245-1DEEC2C6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7257-BBE7-4CC4-B76F-C563F8E9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058F-B073-4ACC-B2F2-F91551A4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003C1-E979-4885-B1BD-1F3791EA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C92F-0014-4610-98A0-CF03C108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ACAF-1E43-4E6D-BB76-F33A0A1B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3475-B4DD-4E21-8110-41E200BB4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386C-0C76-464D-BC9C-8223EA72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C5828-D550-4868-8F38-ED67BBF8D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61D39-1FA7-4DD5-9E38-04E83A098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CA89BC-7513-4A87-AA56-9770A0C6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2A6FC-AB84-4047-A96A-E1C9A25E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68427-C6AC-4F77-8036-1D760E733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DA233-2D57-4CDE-A3E9-0844886C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B5086-333B-476B-85AB-17C90A55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297E4-1A28-48BF-93FB-B7ABBBCE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3C8CE-BD2A-4FA1-9B56-00D40992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13B8B-18A6-42D6-AEDE-FF6F86ED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0CD7-7BE7-4EE3-A7E6-62A60EC0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EA74A-0EAD-4950-9DFF-1A712543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DC880-D89F-441C-B383-9B6661A44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A8623-2E71-4C7D-A990-56642F5AA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42206-E526-4EE5-B10B-BFEF4AF62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2C583-A08F-4AFF-AA06-7CCC63A9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4E9B4-1688-4D29-A39C-61CF5442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34950-B1E0-4962-B362-7FEB6A81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0457E-ADD2-4C7C-8E2B-16B2292BD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C27EE-C775-4AA0-AE04-C76EBC335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9C8F7-1C5B-41F7-95F6-7EFBC9D4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67DF-4A71-4B96-9D61-98076005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41121-E548-4FCF-B375-3780307C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E6D77-E0A7-4F0F-BA60-6B8816F1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12E14-2D8A-4F9C-83F0-52FBFC62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A5F44-ACF8-469D-83C0-9D00F1D09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2EC14-1A59-40D1-ABB3-8C36B66EA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173EA-3619-4650-BFF1-3B86D9DC0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28E7D-4DD6-4A2C-BD35-07BD33D2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D1753-1280-48BD-9198-78C6DD8C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C8438-86B4-4935-B846-02E1D4A9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E30CFB-470C-4BC9-935E-8B7806E2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B7C5-2FEF-42E4-AA35-DBF87A29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F4F67-D72B-4F1B-8352-613518EE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6B282-1824-4411-AED8-4149D096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7C141-924E-4F26-A2A2-D4669751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14675-8B9C-41BF-8BDD-BF41CD51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C9022-7AB2-4F8F-BF5E-63CB130C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5906D-7824-43E4-B401-5B8C0D0B9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0DFE4-6DF7-4C3A-8845-FED551276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9F70-6766-48F5-90E8-BA531EE78E8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71F6-04FD-4D49-BB33-C998A654A49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logo_meta_1_tmavší_FIN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Obrázek 19" descr="logoMPSV-c-sm.jpg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kitka_meta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kitka_meta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logo_meta_1_tmavší_FIN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9" descr="logoMPSV-c-sm.jpg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4323-507C-4FEC-B171-1E0BB73D5FE4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B45A-6CD7-4140-93F0-64E161FDD5C7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4246-0E9E-4CCC-A6FF-87288E08E0A5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0D4F-0B52-46E5-A904-377A03FDE7B7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kitka_meta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Obrázek 18" descr="logoMPSV-c-sm.jpg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D4DA-C8A4-4AF9-9028-C7B9A62206A5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A8E6-1FAF-4052-BC78-CCA842248D66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3" descr="logo_meta_1_tmavší_FIN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kitka_meta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kitka_meta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kitka_meta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Obrázek 19" descr="logoMPSV-c-sm.jpg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7239-58DD-4EFE-A36B-9FCA53D4B941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74B4-4418-4D9E-B499-95FA21B54B54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928960" y="3886200"/>
            <a:ext cx="58579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авонаруш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Verdana"/>
              </a:rPr>
              <a:t>Институ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Ministerstvo spravedlnosti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Министерство юсти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Státní zastupitelství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– Прокуратур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Státní policie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– государственная полиц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Obecní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policie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– муниципальная полиц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Městská policie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– городская полиц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Dopravní policie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– ГИБД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Номер слайда 4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8E1A-B292-4DA2-8ED1-C9A3FDCCAB15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Verdana"/>
              </a:rPr>
              <a:t>Суд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Obecné soudy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- Суды общей юрисдик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Nejvyšší soud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Верховн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ый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су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Nejvyšší správní soud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Верховного административн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ый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су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Vrchní soud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– высший су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Krajský soud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– областной су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Okresní soud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– районный суд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Soudnictví civilní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– гражданское правосуд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soudnictví obchodní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торговое правосуд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soudnictví rodinné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семейное правосуд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soudnictví dědické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наследственное правосуд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Soudnictví trestní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– уголовное правосуд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Soudnictví správní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– административное правосуд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Номер слайда 4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E716-AF03-4F25-BF8D-622BC6A5F154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Verdana"/>
              </a:rPr>
              <a:t>Виды правонаруш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928800" y="1628280"/>
            <a:ext cx="78580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řestupek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– правонаруш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právní delikt (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дминистративное правонарушение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právní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úřady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– административные орган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pr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 ř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ízení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административное правосуд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Trestný čin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уголовное правонарушение (преступление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restní  zákoník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- Уголовный кодек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rest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 ří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ze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  - уголовное правосуд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ú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ysl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ý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rest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ý č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мышленное правонаруш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dbalost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rest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ý č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авонарушение по неосторожности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Номер слайда 4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4A73-27C0-4AF7-9F2C-3F32AA0278C4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Verdana"/>
              </a:rPr>
              <a:t>Виды преступлен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Zloč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řeč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Kráde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Odcizen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Zpronevě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abov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Loupe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Vražd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Номер слайда 4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D916-CB15-4DC8-ADB0-815214B32405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Verdana"/>
              </a:rPr>
              <a:t>Действующие ли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900000" y="1557000"/>
            <a:ext cx="78580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Strážník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bhájce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átní zástupce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bviněný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dezřelý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bžalovaný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dsouzený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chate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Zločinec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oškozený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znamovatel 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vědek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Номер слайда 4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7EF97-E24E-40CC-A5E6-5E29B6F760A7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33"/>
                </a:solidFill>
                <a:latin typeface="Verdana"/>
              </a:rPr>
              <a:t>Санк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Zadržen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Zajištění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azba (vzetí do vazby)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st odnětí svobody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apomenutí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kut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Zákaz  činnosti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padnutí  věci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Номер слайда 4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2089-31BE-4F07-AA8C-05B93DC001C9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Verdana"/>
              </a:rPr>
              <a:t>Транспортные правонаруш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Dopravní policie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Botička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Dopravní nehoda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Bodový systém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Odtah vozidla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Bloková pokuta (BP) - pokuta v blokovém řízení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Номер слайда 4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1F68-1C5A-4B78-9533-366C2F645FEF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авонаруш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6:02:05Z</dcterms:modified>
  <cp:revision>95</cp:revision>
  <dc:subject/>
  <dc:title>Snímek 1</dc:title>
</cp:coreProperties>
</file>