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7DBD7-C526-45FA-B4B0-24D8453E30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26881-7B2E-409D-868E-F83ECD818EE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9209C-DCFE-42B2-87A8-20F10AE46F4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00E822-5D75-40E3-91D3-FA7391DC762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5DA20-FDE1-49C9-91CE-8413210B147C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68DDBF-E95A-4FBA-A289-EF4E6E435713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67EFD-53C4-413A-AE5A-2E6EAD57416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2220A-9658-4B91-A0B0-D7AB2DBB75C0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164AC-E61C-4527-8169-D94872BF13C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DDADE-DF91-434A-9552-A5151C1C3361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5F746-00F8-4C7B-B807-B9069847A63B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D4C3F-954B-4B5F-81F9-D2AB6D6DCAF8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BAF6E8-148C-489D-BCC2-6F300E43B9FF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90C13-4079-4F6A-AB21-992A9878E6D7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496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D3305-6258-4A01-B4D9-5FAB9A416236}" type="slidenum">
              <a:rPr b="0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8B0D-A61F-46F8-88DA-4333E7DB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31B-A16B-40CD-B39B-CC91993E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2CC2-3636-44B5-B425-23B4CB94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769-D5D5-43CC-9675-C4F5C58E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BEF7-7A82-4E8A-A69D-AD740345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5D3F-D43B-4DEB-8924-BF25F56D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17E2-0973-499A-BF92-ABAC945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796A0-8452-4BC6-8E14-862517624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C159-DE0D-473B-8CDA-9B0E25EB7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5C51-5682-4F14-9267-F2D95DAC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08D51-16D7-4FB3-BABF-E8722B46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4870-5374-41C6-B7DD-725E5755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77B41-CD94-4142-8816-4DCB584F8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3F68-360A-4E6D-B25E-8CE2DF0B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AFEF1-BC7B-415D-A649-11E2C7DE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D6C6-8716-4299-B56B-C71D77D1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0B0F7-0062-4334-B024-9CBFAC17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80B4-7F45-499F-B599-5BCF1A90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FF3C-4DB8-425D-BA24-2F15F51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1623-0612-4CE6-B353-A432FCD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4E22-34F5-46D3-BAB7-58E666069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7C170-1834-4BC6-9A28-58193AEAD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7BDDC-103F-43D5-A91C-6D480047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61292-F36D-4DF0-B301-5F13A2059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1782-EC82-4F5E-8FD4-5E7BAD9B9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0DC3B-074B-4FD3-8F46-E01ABED6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0FED8-2E01-471A-9339-94BEBB169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C413A-A4DC-4035-AEAC-4FB0A86F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EE4E9-3FB6-42A7-B086-D06D9E7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B78B7-930F-42CB-B974-60D44BFD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8EB-8896-43FD-8239-7458D7A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8A19-EF93-4466-BD30-D8C142B7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94997-5296-4558-A049-2685C9E0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1311-319F-4397-A67E-5538E861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6D8C4-D984-426D-90BA-3AF98C4BA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942B-5FAD-4717-8262-11219F4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A0CD5B-38E3-4F79-B9CE-0FFEA35F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63B27-4DF0-4EA7-9CB3-6AF547034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67E0B-E93F-4047-AB03-F7927600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0378F-4820-4555-8DC4-1C798241B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78620-C537-4BBE-8C9A-7A3CD644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FA87-10B9-48BE-9E77-F5A900C7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9EF68-BA4F-452E-9946-9D458E73D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3A209-B28C-43E5-8D8C-97A65B03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4B0D0-26FC-4285-91A7-F7976CE0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A5CC8-3C6F-4816-A0AE-F893917F7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A1023-2039-41FF-9C4E-861226D6A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44E89-06C1-49C6-8394-F62DD0B1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1A696-F0FF-4E5D-85CD-316BF918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C0AAE-D57F-40CE-B119-78AE7FAB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E6B23-E875-4612-BC4A-0064567C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96CE3-A117-462D-9380-E4D5BE56E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846-D52D-4632-BAFD-FB8CAD9D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6BA49-5AF2-4FD4-9702-64D0D12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EF48-AA94-405C-8A35-49755ABB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CBB1-13E0-4F82-8EAE-907CCD5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146B24-F39F-462F-A09D-2FF0DF8B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EB244-4FA4-4850-B952-279BB7A95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9CB22-67F1-47DF-92B5-8E9C1BC8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974D2-8AD9-46D7-8518-91D74054A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56A27A-9D80-483F-A787-A2BE5B474DF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4BA6F0-1F9D-4065-A242-79C42528FAE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7193816-E8A3-4FEC-BD7B-61B861E515F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418A38-22C1-4147-B4C2-A1CBC8ADA5E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B67501-E4F4-46B1-B7B5-609575826C0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psv.cz/" TargetMode="External"/><Relationship Id="rId2" Type="http://schemas.openxmlformats.org/officeDocument/2006/relationships/hyperlink" Target="http://www.cssz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zabe</a:t>
            </a:r>
            <a:r>
              <a:rPr b="1" lang="cs-CZ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z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pe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циальное обеспеч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179280"/>
            <a:ext cx="73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ýplata dávek nemocenského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ávky nemocenského pojištění vyplácí příslušná okresní správa sociálního zabezpečení. Okresní správa sociálního zabezpečení vyplatí dávku ve lhůtě jednoho měsíce následujícího po dni, v němž byla žádost této správě doručena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jištěnec má možnost si zvolit způsob výplaty dávky. Upřednostní-li výplatu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a sv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j ú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ený u peněžního ústavu v České republice, uvede v žádosti o dávku číslo tohoto účtu. Druhou možností je výplata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hotov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poštovní poukázkou);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 takovém p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ípad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hradí náklady za dor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ení pojišt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Výš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emocenského, ošetřovného, peněžité pomoci v mateřství se odvíjí od výše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íjmů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1"/>
          <p:cNvSpPr/>
          <p:nvPr/>
        </p:nvSpPr>
        <p:spPr>
          <a:xfrm>
            <a:off x="539640" y="179280"/>
            <a:ext cx="792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Выплата пособий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средств страхования на случай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я со средств страхования на случай болезни выплачивает соответствующее управление социального обеспечения. Районное управление социального обеспечения проведет выплату пособия в срок одного месяца, следующего после дня получения управлением заявл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Застрахованное лицо имеет возможность выбрать способ выплаты пособия. При перечислении средств на счет застрахованного лица, открытый в финансовом учреждении в Чешской Республике, в заявлении необходимо указать номер счета. Второй возможностью является выплата наличными (почтовым переводом), в данном случае застрахованное лицо оплачивает расходы, связанные с переводом денежных средст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Размер пособий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, по уходу, денежной помощи в материнстве зависит от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размера доход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líže viz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mps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Nemocenské pojištení - Výpocet dávek nemocenského pojištení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lší informace o provádení nemocenského pojištení viz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cssz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Nemocenské pojište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720720" y="179280"/>
            <a:ext cx="7920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Пенсионное страховани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Пенсионное страхование в ЧР является обязательным для всех экономически активных ли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Ze základního d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chodového pojišt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ě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ní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se poskytují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y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starobní, invalidní, vdovský,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vdovecký a sirot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í (zákon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. 155/1995 Sb.).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chod se skládá ze dvou složek, a to ze základní výměry (stanovené pevnou částkou stejnou pro všechny druhy důchodů bez ohledu na délku doby pojištění a výši výdělků) a z procentní výměry. O nároku na důchod, jeho výši a výplatě rozhoduje Česká správa sociálního zabezpečí v Praze (zákon č. 582/1991 Sb.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Žádost o p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iznání kteréhokoliv druhu d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ů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chodu se podává u okresní správy sociálního zabezpe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  <a:ea typeface="Times New Roman"/>
              </a:rPr>
              <a:t>e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28036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уществуют три взаимосвязанные и взаимодополняющие системы социальной защиты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1. социальное страхован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ociální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2. государственное социальное пособие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 státní sociální podpo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3. социаль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я помощь - sociální pomo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280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Управление и принятие решений по выплатам осуществляют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айонные управления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O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жское управление социального обеспечения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(PSSZ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Чешское управление социального обеспечени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Прага), которое руководит работой OSSZ и PSSZ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государственного социального пособия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осуществляют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центры занят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ыплату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пособия по бедности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- уполномоченные муниципалитеты (городские администрации) по месту жительств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62000"/>
            <a:ext cx="755964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141414"/>
                </a:solidFill>
                <a:latin typeface="Arial"/>
              </a:rPr>
              <a:t>Cоциальное страхование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включает: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(nemocenské pojištění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en-US" sz="2200" spc="-1" strike="noStrike">
                <a:solidFill>
                  <a:srgbClr val="141414"/>
                </a:solidFill>
                <a:latin typeface="Arial"/>
              </a:rPr>
              <a:t>базовое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бязательное пенсионное страхование (základní povinné důhodové pojiště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А также взнос на государственную политику занятости (příspěvek na státní politiku zaměstnání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539640" y="120600"/>
            <a:ext cx="828036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(Nemocenské pojištěn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cs-CZ" sz="2000" spc="-1" strike="noStrike">
                <a:solidFill>
                  <a:srgbClr val="141414"/>
                </a:solidFill>
                <a:latin typeface="Arial"/>
              </a:rPr>
              <a:t>(закон</a:t>
            </a:r>
            <a:r>
              <a:rPr b="1" lang="cs-CZ" sz="2000" spc="-1" strike="noStrike">
                <a:solidFill>
                  <a:srgbClr val="141414"/>
                </a:solidFill>
                <a:latin typeface="Arial"/>
              </a:rPr>
              <a:t> № 187/2006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б. законов)</a:t>
            </a: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предназначено для лиц, получающих дохо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141414"/>
                </a:solidFill>
                <a:latin typeface="Arial"/>
              </a:rPr>
              <a:t>Страхование на случай болезни </a:t>
            </a: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служит для обеспечения денежными средствами в промежутки времени, когда застрахованное лицо временно теряет доход по какой-либо краткосрочной причине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временной нетрудоспособности по причине болезни, травмы, карантина (dočásná pracovní neschopnost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члене семьи (ošetřování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беременности, материнств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- заботы о ребенке (péče o dítě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Для целей страхования на случай болезни, в соответствии с законом о страховании на случай болезни, гражданство застрахованного лица не имеет знач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страховании на случай болезни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участвуют работники, или лица, поставленные на уровень работников (кто именно считается работником, определено в законе о страховании на случай болезни) и самостоятельно зарабатывающие лиц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средств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трахования на случай болезни работникам (их участие в системе страхования обязательно) выплачиваются 4 пособ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болезни (nemocensk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 уходу (oš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vné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компенсационное пособие по беременности и материнству (vyrovnávací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ís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k v 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tenství a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 (pe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tá pomoc v m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ví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Со средств страхования на случай болезни предпринимателям выплачиваютс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пособие по болез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денежная помощь в материнст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Nemocenské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rok na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mocenské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má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anec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ný nemocenského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, který byl uznán lékařem dočasně práce neschopným k výkonu dosavadního zaměstnání, nebo z důvodu nařízené karantény. Nemocenské lze poskytovat maximálně 380 kalendářních dnů počítaných od vzniku dočasné pracovní neschopnost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emocenské se od 1. 1. 2011 vyplácí vždy až od 22. dne trvání do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sné pracov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schopnosti, a to za kalendářní dny.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 dobu prvních 21 kalendářních dnů je zaměstnanec,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terému trvá pracovní vztah zakládající účast na nemocenském pojištění, zabezpečen náhradou mzdy, kterou poskytuje zaměstnavatel. Náhrada mzdy náleží za pracovní dny a to při dočasné pracovní neschopnosti od 4. pracovního dne (při karanténě od 1.pracovního dn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mocenské náleží rovněž ve stanovených případech, jestliže ke vzniku dočasné pracovní neschopnosti došlo po skončení pojištěného zaměstnání v tzv.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chranné lh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. Ochranná lhůta v případě uplatňování nároku na nemocenské čin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7 kalend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ích d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ů ode d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ko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ní za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nání, které zakládalo ú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st na nemocenském pojiš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03280" y="179280"/>
            <a:ext cx="864072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latňování náro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árok na dávku nemocenského pojištění uplatní pojištěnec předložením předepsaného tiskopisu vystaveného ošetřujícím lékařem. Žádost o dávku podávají zaměstnanci u své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ěstnavatele. Zaměstnavatelé přijímají žádosti o dávku i od svých bývalých zaměstnanc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VČ podávají žádost o dávku u okresní správy sociálního zabezpečení, příslušné podlé místa svého trvalého bydliště nebo výkonu samostatné výdělečné činnosti (nemá-li OSVČ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ísto trvalého pobytu na území Č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09964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Применени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аво на пособие со средств страхования на случай болезни застрахованное лицо подтверждает предоставлением определенного бланка, заполненного лечащим врачом. Заявление о выплате пособия подают работники своему работодателю. Работодатели принимают заявления о выплате пособия и от своих бывших работник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Предприниматель подает заявление о выплате пособия районному управлению социального обеспечения, по месту постоянного проживания или предпринимательской деятельности (если предприниматель не имеет место постоянного проживания за пределами территории ЧР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55Z</dcterms:modified>
  <cp:revision>89</cp:revision>
  <dc:subject/>
  <dc:title>Snímek 1</dc:title>
</cp:coreProperties>
</file>