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dt" idx="1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17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B56DE-9260-4CB5-99EE-2CD5C8737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E37B84-4152-497A-A80D-02C87D963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C7896-9A2A-4F72-A283-A761074A8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1D0816-95B2-4AD8-A5B1-33346FD8C0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27D33-0468-4620-92B2-68BF7B4E09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275C3-154C-4352-93E9-4CDB27A72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D6743-CCC6-44AA-A88B-BCA15E832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8FB4B-4199-4A0D-8D23-38236EF5C6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31355-310A-4A72-BC1D-7DCA0E138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41465-4DE3-4F79-851B-C02D49E65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35B99-5682-4F32-9AA9-24D69D43EF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E42FD8-67E8-4875-A126-6ABE09735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7F896-D9AB-4406-8C33-6D5B08297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8F9FC-DADA-45C4-9C98-C0ECD9FA3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E615F-9107-45CA-9FE3-17921889D8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7BFFB-DDA2-4EE2-9C2A-E37EE4BFD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A1BA-DF03-42A3-9D19-03659B50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6061-350F-40CA-AB67-F1E48BA8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A76-140D-4E60-AE9D-F2C8332F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DED3-751B-4738-8856-81C712DD7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F43C-743B-458D-984F-CBFB5FD8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F662-6705-4900-9AB5-6ED30DF8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8C51-DBE1-4D0D-87D4-C810EA9C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3731-F90C-4195-A065-8E3C5413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3C12-FCF8-41C6-A9A8-CE976DEA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9829-54EF-4D95-8396-AA02A86D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FE75-7AFD-44FD-9CCE-94CF594D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08BE4-1486-4C4F-B456-D611D68B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5DF3-8D17-466F-B0DD-79D83BBF6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6EB6-9C7C-4CFB-9940-75DC7820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A1F4-6BBE-4C86-9AC0-EE2E74A7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EA72D-8C0E-4295-B6BB-2F5339D6C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9DBD4-FE8B-4C5E-AEB4-A986476E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E589-B26D-4A50-8AA9-CDD6540D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091B-F653-4564-930D-C5DD5859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B3FF-A2D4-41E2-A877-38ADD731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89480-08EE-44DB-A667-CEE6FAA6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F1879-4436-4A1E-BE0D-D0D4FA738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705ED-C839-44D0-8081-7390AB82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BC099-24C7-4BD4-9917-10EEA967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A4712-EE8D-4B25-8BEA-E6A00E3E1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BFE8D-A09C-42ED-B77C-5F6583BD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43953-5C20-4019-99B3-1543B997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5D8FC-F2BE-4E70-AB0E-F44641FFF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0FAC7-1E02-4C8E-965E-600DD1EF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66A50-E45D-464B-80C1-A5779237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E1F4-368A-4E15-94BD-715EB9BB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D7D21-7FAC-4CC1-B9ED-CB048AE1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7E522-9EA8-49CB-BD0E-4F87F84B8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5AFF9-D747-4DC5-80B6-653696BF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289B1-5E87-4919-93E6-962E4F2F9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BF75A-CF39-47F3-9D33-DBE3D7E7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646D3-4257-4971-A979-2B57C8A04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CFCC0-FA3B-47CC-A9A4-99DBF6A7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544B3-51A4-47E5-983F-94A68F888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33D6E-8C43-44FF-BE61-61137733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4CB48-06D1-474C-9715-C61FD3BE4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E9CE-79E4-4455-A15B-35D3F9C7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C3442-71B3-41C3-90F6-D9CBD000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68199-C306-4D0E-B3BB-0BA4442C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66326-97D2-4BDE-A298-4102E57F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4037F-2C2E-463A-AD72-70FE9E4FD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DEEE2-F10E-441E-AFAF-E233C175B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FDFAF7-9B60-4BFF-9675-44162E65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51F24-9455-4C02-BC04-735924D7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CED67-BF70-4BAE-9D3C-0919C2C8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D69B3-EE65-4915-ACD9-C4E43E68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93DA7-87BC-4816-8707-355B7ECF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9CDE-9DC5-4A12-99EE-32AE9407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B35D32-E77F-4CEB-A016-2945BEB7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E1E3A-4F8D-47BD-AF5C-FCAF1B55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3215A-D463-456A-AC0D-41AFD63E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E5488-A1AE-49DE-BAAF-D0489899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7DF85-B280-4F85-8290-9E27ED67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6F850-A388-4CFD-B99C-C037D3C8C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4676C-6828-4F9F-AE0E-B4BFE66D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.10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079680"/>
            <a:ext cx="289404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to projekt je realizován v rámci veřejné zakázky MP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F296AB2-25AE-4F91-8C30-739747B87B3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853920" y="0"/>
            <a:ext cx="5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6.10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5636F2C-6842-47A0-BE3A-3238929D381B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53920" y="0"/>
            <a:ext cx="5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6.10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0C24F26-BDA3-464B-AA6E-65A07BE16CE2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6.10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35E191D-8B4A-4F30-88DE-431AE8ECF03B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6.10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F939639-894D-4289-A0E4-4E87EB85467F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1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"/>
          <p:cNvSpPr/>
          <p:nvPr/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бщение с госучреждениям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Основные понятия и термины </a:t>
            </a:r>
            <a:br>
              <a:rPr sz="2400"/>
            </a:b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(3)Процеду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Group 2"/>
          <p:cNvGrpSpPr/>
          <p:nvPr/>
        </p:nvGrpSpPr>
        <p:grpSpPr>
          <a:xfrm>
            <a:off x="1042920" y="1557360"/>
            <a:ext cx="0" cy="4572000"/>
            <a:chOff x="1042920" y="1557360"/>
            <a:chExt cx="0" cy="4572000"/>
          </a:xfrm>
        </p:grpSpPr>
        <p:sp>
          <p:nvSpPr>
            <p:cNvPr id="524" name="Line 5"/>
            <p:cNvSpPr/>
            <p:nvPr/>
          </p:nvSpPr>
          <p:spPr>
            <a:xfrm>
              <a:off x="1042920" y="1557360"/>
              <a:ext cx="0" cy="4572000"/>
            </a:xfrm>
            <a:prstGeom prst="line">
              <a:avLst/>
            </a:prstGeom>
            <a:ln w="5760">
              <a:solidFill>
                <a:srgbClr val="c4dc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5" name="Text Box 6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5EE9649-F477-4CD3-8924-72CB30CEDBD8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Упражнение 1.</a:t>
            </a:r>
            <a:r>
              <a:rPr b="0" lang="ru-RU" sz="2000" spc="-1" strike="noStrike">
                <a:solidFill>
                  <a:srgbClr val="990033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2"/>
          <p:cNvSpPr/>
          <p:nvPr/>
        </p:nvSpPr>
        <p:spPr>
          <a:xfrm>
            <a:off x="900000" y="1628640"/>
            <a:ext cx="788688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9640" indent="-341280">
              <a:lnSpc>
                <a:spcPts val="3061"/>
              </a:lnSpc>
              <a:spcBef>
                <a:spcPts val="349"/>
              </a:spcBef>
              <a:tabLst>
                <a:tab algn="l" pos="0"/>
                <a:tab algn="l" pos="5396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9640" indent="-341280"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5396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7A140B-E78E-4A30-B21B-378505E1FF26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29" name=""/>
          <p:cNvGraphicFramePr/>
          <p:nvPr/>
        </p:nvGraphicFramePr>
        <p:xfrm>
          <a:off x="1042920" y="1700280"/>
          <a:ext cx="7489800" cy="4321080"/>
        </p:xfrm>
        <a:graphic>
          <a:graphicData uri="http://schemas.openxmlformats.org/drawingml/2006/table">
            <a:tbl>
              <a:tblPr/>
              <a:tblGrid>
                <a:gridCol w="3745080"/>
                <a:gridCol w="3744720"/>
              </a:tblGrid>
              <a:tr h="4321080">
                <a:tc>
                  <a:txBody>
                    <a:bodyPr lIns="66600" rIns="66600" tIns="0" bIns="0" anchor="t">
                      <a:noAutofit/>
                    </a:bodyPr>
                    <a:p>
                      <a:pPr algn="just">
                        <a:lnSpc>
                          <a:spcPct val="10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Oslovení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itu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1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Hodno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lvl="1" marL="816120" indent="-455760" algn="just">
                        <a:lnSpc>
                          <a:spcPct val="101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aní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16120" indent="-455760" algn="just">
                        <a:lnSpc>
                          <a:spcPct val="202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c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16120" indent="-455760" algn="just">
                        <a:lnSpc>
                          <a:spcPct val="202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gr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16120" indent="-455760" algn="just">
                        <a:lnSpc>
                          <a:spcPct val="202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apitá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16120" indent="-455760" algn="just">
                        <a:lnSpc>
                          <a:spcPct val="202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á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16120" indent="-455760" algn="just">
                        <a:lnSpc>
                          <a:spcPct val="202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f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16120" indent="-455760" algn="just">
                        <a:lnSpc>
                          <a:spcPct val="202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c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16120" indent="-455760" algn="just">
                        <a:lnSpc>
                          <a:spcPct val="202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lukovní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16120" indent="-455760" algn="just">
                        <a:lnSpc>
                          <a:spcPct val="202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leč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lvl="1" marL="816120" indent="-455760" algn="just">
                        <a:lnSpc>
                          <a:spcPct val="202000"/>
                        </a:lnSpc>
                        <a:tabLst>
                          <a:tab algn="l" pos="0"/>
                          <a:tab algn="l" pos="816120"/>
                          <a:tab algn="l" pos="1730520"/>
                          <a:tab algn="l" pos="2644920"/>
                          <a:tab algn="l" pos="3559320"/>
                          <a:tab algn="l" pos="4473720"/>
                          <a:tab algn="l" pos="5388120"/>
                          <a:tab algn="l" pos="6302520"/>
                          <a:tab algn="l" pos="7216920"/>
                          <a:tab algn="l" pos="8131320"/>
                          <a:tab algn="l" pos="9045720"/>
                          <a:tab algn="l" pos="9960120"/>
                          <a:tab algn="l" pos="1087452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hD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Упражнение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2"/>
          <p:cNvSpPr/>
          <p:nvPr/>
        </p:nvSpPr>
        <p:spPr>
          <a:xfrm>
            <a:off x="1042920" y="1700280"/>
            <a:ext cx="774396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hůty pro vyřízení stanoví obecný předpis o správním řízen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e stanovené lhůt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a požádán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e znění pozdějších předpisů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 případech hodných zvláštního zřetel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úředně ověřená kopi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rohlašuji, že jsem byl/a seznámen/a s podmínkami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rohlašuji, že výše uvedené údaje jsou přesné, pravdivé a úpln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7E81AC5-090F-47C8-B779-C1EB0BEA9C5A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Упражнение 3. Формуля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2"/>
          <p:cNvSpPr/>
          <p:nvPr/>
        </p:nvSpPr>
        <p:spPr>
          <a:xfrm>
            <a:off x="1042920" y="1714680"/>
            <a:ext cx="7743960" cy="40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Čestné prohlášení o pravdivosti údajů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Já .............................., datum narození ......................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bytem ................................., tímto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čestně prohlašuji,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že v dokumentu, jehož je toto prohlášení nedílnou přílohou, jsem uvedl přesné, pravdivé a úplné údaje. Jsem si vědom toho, že pokud by mnou uvedené informace byly obráceny v opak, budu čelit všem z toho vyplývajícím právním následkům.</a:t>
            </a: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 ..................... dne ....................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..................................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odp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80697F-B70F-4407-AF0E-80873D04676B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0033"/>
                </a:solidFill>
                <a:latin typeface="Verdana"/>
              </a:rPr>
              <a:t>Возможные проблем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Text Box 2"/>
          <p:cNvSpPr/>
          <p:nvPr/>
        </p:nvSpPr>
        <p:spPr>
          <a:xfrm>
            <a:off x="104292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сихологический фактор – изначально негативное отношение к чиновникам, боязнь, ожидание худшег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ременные затраты – на перевод необходимых документов, зачастую повторные визиты в госучрежд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ольшое количество необходимых документов, которые необходимо предоставлять при общении с различными ведомствами и постоянно обновлять. В большинстве случаев эти проблемы связаны с нахождением в Чехии на основании ВНЖ, тогда как при наличии ПМЖ многие из них отпадаю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астые изменения в законодательстве, касающемся иностранцев, которые сложно отслеживат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3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C33C500-D42B-4537-B2AB-371635744711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1"/>
          <p:cNvSpPr/>
          <p:nvPr/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щение с госучреждени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2"/>
          <p:cNvSpPr/>
          <p:nvPr/>
        </p:nvSpPr>
        <p:spPr>
          <a:xfrm>
            <a:off x="3419640" y="2519280"/>
            <a:ext cx="32684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Text Box 3"/>
          <p:cNvSpPr/>
          <p:nvPr/>
        </p:nvSpPr>
        <p:spPr>
          <a:xfrm>
            <a:off x="2879640" y="360360"/>
            <a:ext cx="1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Органы власти, с которыми сталкиваемся чаще все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1042920" y="1628640"/>
            <a:ext cx="774396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играционные орган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оли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тры занятости (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úřa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práce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логовые инспекции (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aňové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finanční úřady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ы государственного и местного управлени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инистерства, мэрии, областные администрации, муниципалитет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011AA3A-B748-40C4-9228-CC35C968799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Государственно-общественное управление Чех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Group 2"/>
          <p:cNvGrpSpPr/>
          <p:nvPr/>
        </p:nvGrpSpPr>
        <p:grpSpPr>
          <a:xfrm>
            <a:off x="826920" y="1484280"/>
            <a:ext cx="7848720" cy="4751280"/>
            <a:chOff x="826920" y="1484280"/>
            <a:chExt cx="7848720" cy="4751280"/>
          </a:xfrm>
        </p:grpSpPr>
        <p:sp>
          <p:nvSpPr>
            <p:cNvPr id="490" name="Rectangle 3"/>
            <p:cNvSpPr/>
            <p:nvPr/>
          </p:nvSpPr>
          <p:spPr>
            <a:xfrm>
              <a:off x="826920" y="1484280"/>
              <a:ext cx="367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осударственное управле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Rectangle 4"/>
            <p:cNvSpPr/>
            <p:nvPr/>
          </p:nvSpPr>
          <p:spPr>
            <a:xfrm>
              <a:off x="4498920" y="1484280"/>
              <a:ext cx="41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Самоуправление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7"/>
            <p:cNvSpPr/>
            <p:nvPr/>
          </p:nvSpPr>
          <p:spPr>
            <a:xfrm>
              <a:off x="4498920" y="2004840"/>
              <a:ext cx="0" cy="4230720"/>
            </a:xfrm>
            <a:prstGeom prst="line">
              <a:avLst/>
            </a:prstGeom>
            <a:ln w="5760">
              <a:solidFill>
                <a:srgbClr val="c4dc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3" name="Rectangle 8"/>
          <p:cNvSpPr/>
          <p:nvPr/>
        </p:nvSpPr>
        <p:spPr>
          <a:xfrm>
            <a:off x="1187280" y="1628640"/>
            <a:ext cx="3024360" cy="36036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9e0000"/>
                </a:solidFill>
                <a:latin typeface="Calibri"/>
              </a:rPr>
              <a:t>Государственное управл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9"/>
          <p:cNvSpPr/>
          <p:nvPr/>
        </p:nvSpPr>
        <p:spPr>
          <a:xfrm>
            <a:off x="4788000" y="1628640"/>
            <a:ext cx="3384360" cy="36036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9e0000"/>
                </a:solidFill>
                <a:latin typeface="Calibri"/>
              </a:rPr>
              <a:t>Самоуправление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95" name="AutoShape 10"/>
          <p:cNvCxnSpPr/>
          <p:nvPr/>
        </p:nvCxnSpPr>
        <p:spPr>
          <a:xfrm>
            <a:off x="2626920" y="2852280"/>
            <a:ext cx="2520" cy="289440"/>
          </a:xfrm>
          <a:prstGeom prst="straightConnector1">
            <a:avLst/>
          </a:prstGeom>
          <a:ln w="31680">
            <a:solidFill>
              <a:srgbClr val="c4dc4a"/>
            </a:solidFill>
            <a:miter/>
            <a:tailEnd len="med" type="triangle" w="med"/>
          </a:ln>
        </p:spPr>
      </p:cxnSp>
      <p:cxnSp>
        <p:nvCxnSpPr>
          <p:cNvPr id="496" name="AutoShape 11"/>
          <p:cNvCxnSpPr/>
          <p:nvPr/>
        </p:nvCxnSpPr>
        <p:spPr>
          <a:xfrm>
            <a:off x="2626920" y="4365720"/>
            <a:ext cx="2520" cy="288000"/>
          </a:xfrm>
          <a:prstGeom prst="straightConnector1">
            <a:avLst/>
          </a:prstGeom>
          <a:ln w="31680">
            <a:solidFill>
              <a:srgbClr val="c4dc4a"/>
            </a:solidFill>
            <a:miter/>
            <a:tailEnd len="med" type="triangle" w="med"/>
          </a:ln>
        </p:spPr>
      </p:cxnSp>
      <p:sp>
        <p:nvSpPr>
          <p:cNvPr id="497" name="Text Box 12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0315CC-5973-4C7F-BA35-7CBE0938248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Административные органы Праг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2"/>
          <p:cNvSpPr/>
          <p:nvPr/>
        </p:nvSpPr>
        <p:spPr>
          <a:xfrm>
            <a:off x="857160" y="1571760"/>
            <a:ext cx="79264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брание депутатов Праги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astupitelstvo hlav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 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 Prahy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овет Праги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ada hlav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 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 Prahy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эр Праги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i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r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эрия Праги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gistr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 hlav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 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 Prahy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собые органы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vl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rg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y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униципальная полиция Праги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sk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licie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 algn="just">
              <a:lnSpc>
                <a:spcPct val="150000"/>
              </a:lnSpc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сю важную информацию о деятельности органов государственно-общественного управления в ЧР можно найти на соответствующих веб-сайтах. Актуальный список веб-сайтов размещен по адресу: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ttp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://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ortal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ov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z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, где приведены ссылки на муниципалитеты, областные и городские администрации, а также другая полезная информац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CBDE2A-48BB-4E66-9F22-112813FD2D21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Официально-деловой стиль речи </a:t>
            </a:r>
            <a:r>
              <a:rPr b="0" lang="ru-RU" sz="2000" spc="-1" strike="noStrike">
                <a:solidFill>
                  <a:srgbClr val="990033"/>
                </a:solidFill>
                <a:latin typeface="Verdana"/>
              </a:rPr>
              <a:t>(</a:t>
            </a:r>
            <a:r>
              <a:rPr b="0" lang="cs-CZ" sz="2000" spc="-1" strike="noStrike">
                <a:solidFill>
                  <a:srgbClr val="990033"/>
                </a:solidFill>
                <a:latin typeface="Verdana"/>
              </a:rPr>
              <a:t>administrativní funkční st</a:t>
            </a:r>
            <a:r>
              <a:rPr b="0" lang="en-US" sz="2000" spc="-1" strike="noStrike">
                <a:solidFill>
                  <a:srgbClr val="990033"/>
                </a:solidFill>
                <a:latin typeface="Verdana"/>
              </a:rPr>
              <a:t>y</a:t>
            </a:r>
            <a:r>
              <a:rPr b="0" lang="cs-CZ" sz="2000" spc="-1" strike="noStrike">
                <a:solidFill>
                  <a:srgbClr val="990033"/>
                </a:solidFill>
                <a:latin typeface="Verdana"/>
              </a:rPr>
              <a:t>l</a:t>
            </a:r>
            <a:r>
              <a:rPr b="0" lang="ru-RU" sz="2000" spc="-1" strike="noStrike">
                <a:solidFill>
                  <a:srgbClr val="990033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2"/>
          <p:cNvSpPr/>
          <p:nvPr/>
        </p:nvSpPr>
        <p:spPr>
          <a:xfrm>
            <a:off x="1076400" y="1260360"/>
            <a:ext cx="774360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93232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Обслуживает правовую и административно-общественную сферы деятельност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93232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Используется при написании документов: международных договоров, государственных актов, юридических законов, постановлений, уставов, инструкций, служебной переписки, разных видов документации в учреждениях (заявлений, справок, отчетов, протоколов и т. п.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9323280" algn="just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Приме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a za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 pro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ú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y povinnosti 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 plat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é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vole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k za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va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je i pl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ú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kol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ů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ypl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aj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 z p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ř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d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u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nosti pr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nick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é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soby zaji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šť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va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 spole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ke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atut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 org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m nebo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nem statut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 org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u nebo ji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 org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u obchod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ole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sti pro obchod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ole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st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nem dru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va nebo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nem statut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 nebo ji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o org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u dru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va pro dru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vo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8F41C8C-37F2-4688-8B0A-87F31D270420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0033"/>
                </a:solidFill>
                <a:latin typeface="Verdana"/>
              </a:rPr>
              <a:t>Разбираемся в аббревиатурах (1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5" name="Group 2"/>
          <p:cNvGrpSpPr/>
          <p:nvPr/>
        </p:nvGrpSpPr>
        <p:grpSpPr>
          <a:xfrm>
            <a:off x="900000" y="1492200"/>
            <a:ext cx="7829640" cy="4602240"/>
            <a:chOff x="900000" y="1492200"/>
            <a:chExt cx="7829640" cy="4602240"/>
          </a:xfrm>
        </p:grpSpPr>
        <p:sp>
          <p:nvSpPr>
            <p:cNvPr id="506" name="Rectangle 3"/>
            <p:cNvSpPr/>
            <p:nvPr/>
          </p:nvSpPr>
          <p:spPr>
            <a:xfrm>
              <a:off x="900000" y="1492200"/>
              <a:ext cx="782964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1. Органы власт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6"/>
            <p:cNvSpPr/>
            <p:nvPr/>
          </p:nvSpPr>
          <p:spPr>
            <a:xfrm>
              <a:off x="4716360" y="2013120"/>
              <a:ext cx="0" cy="4081320"/>
            </a:xfrm>
            <a:prstGeom prst="line">
              <a:avLst/>
            </a:prstGeom>
            <a:ln w="5760">
              <a:solidFill>
                <a:srgbClr val="c4dc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8" name="Text Box 7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E749CB7-F832-4D6D-87FA-81961E0B5EFB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0033"/>
                </a:solidFill>
                <a:latin typeface="Verdana"/>
              </a:rPr>
              <a:t>Разбираемся в аббревиатурах (2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0" name="Group 2"/>
          <p:cNvGrpSpPr/>
          <p:nvPr/>
        </p:nvGrpSpPr>
        <p:grpSpPr>
          <a:xfrm>
            <a:off x="900000" y="1492200"/>
            <a:ext cx="7848720" cy="4435560"/>
            <a:chOff x="900000" y="1492200"/>
            <a:chExt cx="7848720" cy="4435560"/>
          </a:xfrm>
        </p:grpSpPr>
        <p:sp>
          <p:nvSpPr>
            <p:cNvPr id="511" name="Rectangle 3"/>
            <p:cNvSpPr/>
            <p:nvPr/>
          </p:nvSpPr>
          <p:spPr>
            <a:xfrm>
              <a:off x="900000" y="1492200"/>
              <a:ext cx="38163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2. Полици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Rectangle 4"/>
            <p:cNvSpPr/>
            <p:nvPr/>
          </p:nvSpPr>
          <p:spPr>
            <a:xfrm>
              <a:off x="4716360" y="1492200"/>
              <a:ext cx="4032360" cy="4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1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Verdana"/>
                </a:rPr>
                <a:t>3. Остальные аббревиатур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7"/>
            <p:cNvSpPr/>
            <p:nvPr/>
          </p:nvSpPr>
          <p:spPr>
            <a:xfrm>
              <a:off x="4716360" y="1906560"/>
              <a:ext cx="0" cy="4021200"/>
            </a:xfrm>
            <a:prstGeom prst="line">
              <a:avLst/>
            </a:prstGeom>
            <a:ln w="5760">
              <a:solidFill>
                <a:srgbClr val="c4dc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4" name="Text Box 8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4E6EABE-F16B-42C9-A5A6-CDF3C7A8F54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Основные понятия и термины </a:t>
            </a:r>
            <a:br>
              <a:rPr sz="2800"/>
            </a:b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(1)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990033"/>
                </a:solidFill>
                <a:latin typeface="Verdana"/>
              </a:rPr>
              <a:t>Государственное управление и органы вла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2"/>
          <p:cNvSpPr/>
          <p:nvPr/>
        </p:nvSpPr>
        <p:spPr>
          <a:xfrm>
            <a:off x="900000" y="1628640"/>
            <a:ext cx="7886880" cy="44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Kraj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Obec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Okre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tatutární město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Městská část, městský obvo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právní orgán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Zastupitelstv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tátní zastupitelství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Rad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Městská rada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Krajský úřa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Obecní úřad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Magistrá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Krajské pracoviště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646200" indent="-35892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216080"/>
                <a:tab algn="l" pos="2130480"/>
                <a:tab algn="l" pos="3044880"/>
                <a:tab algn="l" pos="3959280"/>
                <a:tab algn="l" pos="4873680"/>
                <a:tab algn="l" pos="5788080"/>
                <a:tab algn="l" pos="6702480"/>
                <a:tab algn="l" pos="7616880"/>
                <a:tab algn="l" pos="8531280"/>
                <a:tab algn="l" pos="9445680"/>
                <a:tab algn="l" pos="10360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Odbor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FF215C-5478-4A41-A46E-00B3853E17A7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Основные понятия и термины </a:t>
            </a:r>
            <a:br>
              <a:rPr sz="2400"/>
            </a:b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(2)</a:t>
            </a:r>
            <a:r>
              <a:rPr b="0" lang="en-US" sz="1800" spc="-1" strike="noStrike">
                <a:solidFill>
                  <a:srgbClr val="990033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990033"/>
                </a:solidFill>
                <a:latin typeface="Verdana"/>
              </a:rPr>
              <a:t>Докуме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Group 2"/>
          <p:cNvGrpSpPr/>
          <p:nvPr/>
        </p:nvGrpSpPr>
        <p:grpSpPr>
          <a:xfrm>
            <a:off x="1042920" y="1628640"/>
            <a:ext cx="0" cy="4608720"/>
            <a:chOff x="1042920" y="1628640"/>
            <a:chExt cx="0" cy="4608720"/>
          </a:xfrm>
        </p:grpSpPr>
        <p:sp>
          <p:nvSpPr>
            <p:cNvPr id="520" name="Line 5"/>
            <p:cNvSpPr/>
            <p:nvPr/>
          </p:nvSpPr>
          <p:spPr>
            <a:xfrm>
              <a:off x="1042920" y="1628640"/>
              <a:ext cx="0" cy="4608720"/>
            </a:xfrm>
            <a:prstGeom prst="line">
              <a:avLst/>
            </a:prstGeom>
            <a:ln w="5760">
              <a:solidFill>
                <a:srgbClr val="c4dc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1" name="Text Box 6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14D5EE-26FE-4106-916E-F7EE4765D3DD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0:35Z</dcterms:modified>
  <cp:revision>136</cp:revision>
  <dc:subject/>
  <dc:title>Snímek 1</dc:title>
</cp:coreProperties>
</file>