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FCE0-119A-4BB4-85A8-C306781F67FB}" type="datetime">
              <a:rPr b="0" lang="en-US" sz="1200" spc="-1" strike="noStrike">
                <a:solidFill>
                  <a:srgbClr val="000000"/>
                </a:solidFill>
                <a:latin typeface="Gill San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F9B-E630-4741-8A60-373D7272020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F2F-A06F-43AE-9C26-F8724D24826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3B7-B908-4F03-BC89-C9044E938708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4C00-9ECA-4B20-9B14-04B229AF3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20D7-5486-4BAD-BA41-CFA128E19D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5262-F7EB-4F73-94DA-8D3FA1AA46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F787-3756-4ABE-A0D5-B2DE023A7E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5ADE-3E7D-4EF6-B6AA-E001774D9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0764-62D6-4D73-8DFA-5508E50360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182F-3899-4B67-B32E-F9B3E7F94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8E34-4B22-4E27-B33A-C33E540AA4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F401-8C7A-460A-ACF3-2E0E52B1A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2B98-5D80-467D-ABFF-87CEFAF934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A3D7-FDAF-459B-9DD8-791FA90F6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2843-E170-4717-BE4B-0AF788CA68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407E-0732-446F-9F04-6263BF7402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6B18-CCC8-4256-956A-BF2E4B4E9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60AA-5945-478F-9439-DB030FE666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9FAC-3E1F-4495-A3D2-223C13CA79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5A71-FD05-485D-8610-3FFA1E4F1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68DA-363D-4B60-A082-0252877658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285F-1DE9-4232-A25E-733E3D00AE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C90A-56BF-4692-AB7B-DDF2C47C15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0676-776D-49E7-BE15-6FA3D63F3B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A54E-C26C-4BEE-8C33-18325E7C05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553B-5ED7-4EAE-8F52-DC668775BA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A065-14DB-49B9-B39C-5D501C45F9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76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519040" y="298440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7588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6976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519040" y="6075720"/>
            <a:ext cx="363924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75880" y="914040"/>
            <a:ext cx="1130292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560" y="607572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588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67560" y="2984400"/>
            <a:ext cx="551556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5880" y="6075720"/>
            <a:ext cx="11302920" cy="28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30240" y="1700280"/>
            <a:ext cx="13053960" cy="344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2000"/>
          </a:bodyPr>
          <a:p>
            <a:pPr marL="21240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212400" indent="-212400"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212400" indent="-212400"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212400" indent="-212400"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8200" y="2603520"/>
            <a:ext cx="10566360" cy="165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184480" y="406440"/>
            <a:ext cx="40766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useo Sans Rounded 300"/>
              </a:rPr>
              <a:t>Strategie reformy psychiatrické péč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1168560" y="406440"/>
            <a:ext cx="888840" cy="888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9893160" y="622440"/>
            <a:ext cx="182880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75880" y="298440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1" marL="45720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4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5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lvl="6" marL="711360" indent="-25416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7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2242160" y="306000"/>
            <a:ext cx="5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0D1-2DF3-4F5C-89D6-487EA639A7AE}" type="slidenum">
              <a:rPr b="0" lang="en-US" sz="1800" spc="-1" strike="noStrike">
                <a:solidFill>
                  <a:srgbClr val="666666"/>
                </a:solidFill>
                <a:latin typeface="Museo Sans Rounded 300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914040"/>
            <a:ext cx="1130328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Museo Sans Rounded 300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76240" y="3479760"/>
            <a:ext cx="7112160" cy="542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1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4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5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  <a:p>
            <a:pPr lvl="6" marL="343080" indent="-343080">
              <a:spcBef>
                <a:spcPts val="2401"/>
              </a:spcBef>
              <a:buClr>
                <a:srgbClr val="000000"/>
              </a:buClr>
              <a:buFont typeface="Museo Sans Rounded 300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eo Sans Rounded 30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Museo Sans Rounded 300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35040" y="635040"/>
            <a:ext cx="11734920" cy="4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930240" y="306000"/>
            <a:ext cx="295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700"/>
                <a:ea typeface="ヒラギノ角ゴ ProN W3"/>
              </a:rPr>
              <a:t>REFORMA PÉČE O DUŠEVNÍ ZDRAVÍ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112040" y="306000"/>
            <a:ext cx="227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Rounded 300"/>
                <a:ea typeface="ヒラギノ角ゴ ProN W3"/>
              </a:rPr>
              <a:t>Pracovní skupina 15.5.201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6316560" y="9245160"/>
            <a:ext cx="357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C11C-2EAE-41EB-A2A7-3E3221F1FE5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200" y="2590920"/>
            <a:ext cx="10566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27080" rIns="127080" tIns="127080" bIns="127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Strategie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reformy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sychiatrické</a:t>
            </a:r>
            <a:r>
              <a:rPr b="0" lang="en-US" sz="4800" spc="-1" strike="noStrike">
                <a:solidFill>
                  <a:srgbClr val="ffffff"/>
                </a:solidFill>
                <a:latin typeface="Museo Sans Rounded 900"/>
              </a:rPr>
              <a:t> </a:t>
            </a: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péče</a:t>
            </a:r>
            <a:br>
              <a:rPr sz="4800"/>
            </a:br>
            <a:r>
              <a:rPr b="0" lang="cs-CZ" sz="4800" spc="-1" strike="noStrike">
                <a:solidFill>
                  <a:srgbClr val="ffffff"/>
                </a:solidFill>
                <a:latin typeface="Museo Sans Rounded 900"/>
              </a:rPr>
              <a:t>a geriatrická problematika transformace psychiatrických služeb</a:t>
            </a:r>
            <a:endParaRPr b="0" lang="en-US" sz="4800" spc="-1" strike="noStrike">
              <a:solidFill>
                <a:srgbClr val="ffffff"/>
              </a:solidFill>
              <a:latin typeface="Museo Sans Rounded 9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8200" y="5562360"/>
            <a:ext cx="10566360" cy="327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082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UDr. Simona Papežová / Bc. Vanda Horná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Ministerstvo zdravotnictví ČR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14. 6. 2016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10825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Rada vlády pro seniory a stárnutí popul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101600" y="339840"/>
            <a:ext cx="51436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75880" y="1563840"/>
            <a:ext cx="11302920" cy="73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včasné a správné diagnózy syndromu demen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Úhrada léčby z veřejného zdravotního pojišt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lepšení přístupu k vhodné péči, zajištění vhodné péče a její koordin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dpory pro pečovatel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jištění edukace rodinných pečujících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 asistentů sociální péč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revence v rámci zdravotních a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výšení povědomí široké veřejnosti </a:t>
            </a:r>
            <a:br>
              <a:rPr sz="3600"/>
            </a:b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20480" indent="-420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0497-F627-453A-94A5-8588112CDAC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Cíle Národního akčního plánu II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75880" y="1852560"/>
            <a:ext cx="11302920" cy="70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chova k ohleduplnosti vůči seniorům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odpora a rozvoj vzdělávání pro profesionální pečují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zdělávání pracovníků ve školství a veřejném sektoru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Koordinované úsilí v oblasti výzkumu včetně využití již dostupných výsledk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e epidemiologického dozoru a sledová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452520" indent="-4525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apojení ČR do evropské spoluprá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DED-DEB7-4F0D-BA92-13D1EA169BF8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Aktuální stav</a:t>
            </a: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75880" y="2068560"/>
            <a:ext cx="11302920" cy="683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lnění některých cílů bude probíhat v rámci  pracovní skupiny pro neurodegenerativní onemocnění  (SRPP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Tím se dostáváme ke geriatrické problematice transformace psychiatrický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chází k posunu směrem k terénní psychiatrii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o systému by v souladu s cílem 3. mělo dojít k zapojení terénních psychiatrických sester (sestra pro péči v psychiatrii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94C-2242-4070-860D-85A32209228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Změny v síti psychiatrické péč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85600" y="2068200"/>
            <a:ext cx="1130292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Museo Sans Rounded 700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utní oddělení v rámci VN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Psychiatrická nemocnice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CDZ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tní péče,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mbulance s rozšířenou péčí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o duševně nemocné  - přesun péče do komuni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 pomocí a podporou psychiatrických sester, sociálních pracovníků a dalších specialistů</a:t>
            </a:r>
            <a:endParaRPr b="0" lang="en-US" sz="36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3" marL="711360" indent="-254160">
              <a:spcBef>
                <a:spcPts val="700"/>
              </a:spcBef>
              <a:buClr>
                <a:srgbClr val="000000"/>
              </a:buClr>
              <a:buFont typeface="Museo Sans Rounded 3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FCD-AE30-4557-A429-E02147AD656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85600" y="163656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 současné době probíhají jednání na úrovni krajských úřad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ýstupem by měl být 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trategický plán psychiatrické péče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v kraji v návaznosti na SRPP (transformační plán psychiatrických nemocnic v návaznosti na rozvoj dalších složek psychiatrické péče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ktualizace kapitol zdravotního a střednědobého plánu sociálních služeb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BD9F-FABF-40DC-A4E3-EB5218E6FBA2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85600" y="773280"/>
            <a:ext cx="11302920" cy="122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Ukázka práce na udržitelném financování – </a:t>
            </a:r>
            <a:br>
              <a:rPr sz="3600"/>
            </a:br>
            <a:r>
              <a:rPr b="1" lang="cs-CZ" sz="3600" spc="-1" strike="noStrike">
                <a:solidFill>
                  <a:srgbClr val="0070c0"/>
                </a:solidFill>
                <a:latin typeface="Arial"/>
                <a:ea typeface="Arial"/>
              </a:rPr>
              <a:t>odb. 914 – psychiatrická sestra</a:t>
            </a: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85600" y="2068200"/>
            <a:ext cx="11302920" cy="748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Zavedení/ukončení individuální psychiatrické rehabilitace, konzultace, administrativní činnost psychiatrické sestry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iatrická rehabilitace individuáln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erénní krizová intervence prováděná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sychoterapeutické činnosti poskytované sestrou (pod odborným vedením a indikací psychiatra či psychologa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Sociální šetření a objektivní anamnéza v pacientově prostředí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Reedukace psychiatrickou sestrou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1280" indent="-25128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Museo Sans Rounded 700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B6BF-C390-4AD6-B29D-A030405AEBD3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08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Souhrn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3960" y="242856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RPP řeší problematiku duševních onemocnění komplexně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Jsme na počátku procesu, který by měl kvalitativně změnit péči poskytovanou duševně nemocným všech věkových skupin a diagnostického spektra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ůležitá je koordinovaná a provázaná změna ve všech oblastech péče o duševně nemocné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A6C-DB0A-4BCE-9571-7BDD1627C01D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Zvýšení </a:t>
            </a: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kvality</a:t>
            </a:r>
            <a:r>
              <a:rPr b="1" lang="cs-CZ" sz="4000" spc="-1" strike="noStrike">
                <a:solidFill>
                  <a:srgbClr val="0070c0"/>
                </a:solidFill>
                <a:latin typeface="Museo Sans Rounded 300"/>
              </a:rPr>
              <a:t> života duševně nemocných – globální cíl našeho společného snažení</a:t>
            </a:r>
            <a:endParaRPr b="0" lang="en-US" sz="40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A871-FBA6-4B9A-8A02-37787800EC9C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389240" y="2459160"/>
            <a:ext cx="10383840" cy="727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Děkuji za Vaši pozornost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85600" y="1923840"/>
            <a:ext cx="1130292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 Papežov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simona.papezov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 Horná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vanda.horna</a:t>
            </a:r>
            <a:r>
              <a:rPr b="0" lang="en-US" sz="3800" spc="-1" strike="noStrike">
                <a:solidFill>
                  <a:srgbClr val="000000"/>
                </a:solidFill>
                <a:latin typeface="Museo Sans Rounded 700"/>
              </a:rPr>
              <a:t>@</a:t>
            </a:r>
            <a:r>
              <a:rPr b="0" lang="cs-CZ" sz="3800" spc="-1" strike="noStrike">
                <a:solidFill>
                  <a:srgbClr val="000000"/>
                </a:solidFill>
                <a:latin typeface="Museo Sans Rounded 700"/>
              </a:rPr>
              <a:t>mzcr.cz </a:t>
            </a: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0707-FCF0-48D4-87F5-03E4EBBC84D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Hlavní cíl SRPP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75880" y="2355840"/>
            <a:ext cx="11302920" cy="6546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osun péče co nejblíže do vlastního sociálního prostředí pacienta (komunitní – terénní péče)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ůra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na destigmatizaci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umanizaci péč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respektování potřeb pacienta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zlepšení dostupnosti i kvality péče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ý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záchyt a včas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léč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vážně duševně nemocných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0F5-375F-4302-9C63-93D4C98735DB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2139840"/>
            <a:ext cx="11302920" cy="591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říjen 2013 – Strategie schválena  ministrem zdravotnictví Martinem Holcátem, MBA. 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nyní jsme v první fázi procesu implementace:</a:t>
            </a: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niciace a zajištění podmínek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. Realiz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lvl="2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III. Vyhodnocení a evaluace</a:t>
            </a:r>
            <a:endParaRPr b="0" lang="en-US" sz="3200" spc="-1" strike="noStrike">
              <a:solidFill>
                <a:srgbClr val="000000"/>
              </a:solidFill>
              <a:latin typeface="Museo Sans Rounded 300"/>
            </a:endParaRPr>
          </a:p>
          <a:p>
            <a:pPr marL="254160" indent="-254160"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2A86-FE5B-43FB-B645-6FCF812350E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Geneze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6880" y="1924200"/>
            <a:ext cx="1130292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schváleno institucionální ukotvení 8 pracovních skupi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inklusivní přístup zachován i v procesu implementac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700"/>
              </a:rPr>
              <a:t>v roce 2015 byly k reformě jmenovány další 3 skupiny: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Museo Sans Rounded 300"/>
              </a:rPr>
              <a:t>PS pro neurodegenerativní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dětské a dorostové psychiatrie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Museo Sans Rounded 300"/>
              </a:rPr>
              <a:t>PS pro problematiku závislost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7A0-50C6-4A83-B583-F9A577B90AE5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75880" y="2212920"/>
            <a:ext cx="11302920" cy="669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C6E-D40B-457E-A1AA-A7AE1FB86A8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461960" y="1060560"/>
            <a:ext cx="10031400" cy="759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5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75880" y="2644560"/>
            <a:ext cx="11302920" cy="62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Současně na MZ pracovala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 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loňské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roc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Mezirezortní a mezioborová skupina pro přípravu Národního akčního plánu pro Alzheimerovu nemoc a další obdobná onemocněn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Účelem akčního plánu je zajistit odpovídající péči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 pacienty ve všech stadiích tohoto závažného onemocnění, podle potřeb, které průběh onemocnění přináší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4C3-0D6E-481A-B5CE-F47EE6293BA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3960" y="988920"/>
            <a:ext cx="11302920" cy="10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6666"/>
                </a:solidFill>
                <a:latin typeface="Museo Sans Rounded 300"/>
              </a:rPr>
              <a:t> </a:t>
            </a:r>
            <a:r>
              <a:rPr b="1" lang="cs-CZ" sz="4400" spc="-1" strike="noStrike">
                <a:solidFill>
                  <a:srgbClr val="0070c0"/>
                </a:solidFill>
                <a:latin typeface="Arial"/>
                <a:ea typeface="Arial"/>
              </a:rPr>
              <a:t>Rok 2016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72880" y="1924200"/>
            <a:ext cx="11302920" cy="707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ne 3.2.2016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Vláda svým usnesením přijala Národní akční plan pro Alzheimerovu nemoc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a další obdobná onemocněnéná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 léta 2016 -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2019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dkaz na Národní akční plán: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zcr.cz/Odbornik/dokumenty/narodni-akcni-plan-pro-alzheimerovu-nemoc-a-dalsi-obdobna-onemocneni-na-leta-201_11429_2785_3.html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D719-B8AC-4C99-AB03-2D8231AA817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5880" y="914040"/>
            <a:ext cx="11302920" cy="79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70c0"/>
                </a:solidFill>
                <a:latin typeface="Museo Sans Rounded 300"/>
              </a:rPr>
              <a:t>Usnesení č. 85 </a:t>
            </a:r>
            <a:endParaRPr b="0" lang="en-US" sz="44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5836-169B-46F9-9814-E69261ABC179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" name="Zástupný symbol pro obsah 6" descr="Bez názvu.png"/>
          <p:cNvPicPr/>
          <p:nvPr/>
        </p:nvPicPr>
        <p:blipFill>
          <a:blip r:embed="rId1"/>
          <a:stretch/>
        </p:blipFill>
        <p:spPr>
          <a:xfrm>
            <a:off x="2901960" y="1827360"/>
            <a:ext cx="6232680" cy="707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5880" y="914400"/>
            <a:ext cx="11302920" cy="4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Národní akční plán </a:t>
            </a:r>
            <a:r>
              <a:rPr b="1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byl </a:t>
            </a:r>
            <a:r>
              <a:rPr b="1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tvořen </a:t>
            </a:r>
            <a:r>
              <a:rPr b="0" lang="en-GB" sz="3600" spc="-1" strike="noStrike">
                <a:solidFill>
                  <a:srgbClr val="666666"/>
                </a:solidFill>
                <a:latin typeface="Arial"/>
                <a:ea typeface="Arial"/>
              </a:rPr>
              <a:t>ve spolupráci s</a:t>
            </a:r>
            <a:r>
              <a:rPr b="0" lang="cs-CZ" sz="3600" spc="-1" strike="noStrike">
                <a:solidFill>
                  <a:srgbClr val="666666"/>
                </a:solidFill>
                <a:latin typeface="Arial"/>
                <a:ea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Museo Sans Rounded 300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75880" y="1923840"/>
            <a:ext cx="11302920" cy="697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práce a sociálních věcí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inisterstvem školství, mládeže a tělovýchovy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Sdružení měst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bcí, krajů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zdravotních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pojišťoven 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Museo Sans Rounded 70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zástupci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odborných společnost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 (neurologická, psychiatrická)</a:t>
            </a: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  <a:p>
            <a:pPr marL="254160" indent="-2541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useo Sans Rounded 700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6316560" y="9245520"/>
            <a:ext cx="35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AC9F-4BDA-4D15-8915-D8FDBE67556F}" type="slidenum">
              <a:rPr b="0" lang="en-US" sz="1800" spc="-1" strike="noStrike">
                <a:solidFill>
                  <a:srgbClr val="666666"/>
                </a:solidFill>
                <a:latin typeface="Museo Sans Rounded 300"/>
                <a:ea typeface="ヒラギノ角ゴ ProN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20:36:45Z</dcterms:created>
  <dc:creator>Duškov Ivan PhDr.</dc:creator>
  <dc:description/>
  <dc:language>en-US</dc:language>
  <cp:lastModifiedBy>Horná Vanda</cp:lastModifiedBy>
  <dcterms:modified xsi:type="dcterms:W3CDTF">2016-06-13T10:57:06Z</dcterms:modified>
  <cp:revision>199</cp:revision>
  <dc:subject/>
  <dc:title>Sociální dopady Národního plánu péče o osoby s duševním onemocněním</dc:title>
</cp:coreProperties>
</file>