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A924-7024-40DF-9EE0-30BEEB3D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998A-2B92-4803-9DCC-DBCEBBFD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E5E6-608B-4490-804B-FC114B12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AD5E-4302-4FF6-83A8-2AC971C7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6901-A994-48B3-B1FD-CC708D7E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B022-4151-4AF4-9A0C-C85535C5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6818-ADF0-4E97-A092-64F65105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C97D-1F7A-4698-A63A-FBA566CF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1FF1-8588-4457-9A4D-B245A339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DBC9-EC7F-4327-B131-6A0E1644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9375-B0EA-4D1C-B4EC-645CB532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5474-8998-4352-BC56-464FD128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3C19-CA9F-4F5C-8596-F59F095B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5C21-7A84-4C14-9752-F6E03BF6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F308-7841-425D-A227-24353369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D588-CF73-49A6-80BE-AA73BD83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CA35-4CE0-4D75-8C05-BE049BBC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B216-526A-47EE-B0E8-E7D8DBD7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BEAF-1D9A-45C7-A6CC-F2D4FCC1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1DDE-80F5-4528-A82E-73BC452B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BF52-98CB-4811-A10C-C71F65B4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C935-9B1E-4085-9815-D0CAE823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26C2-B338-40D3-A86E-13CC6039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F207-E6B2-4D2D-ABF4-B2204FEA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78be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be1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03640" y="259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strana </a:t>
            </a:r>
            <a:fld id="{8D8FD009-41A7-45F2-A212-447FD5036A95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1187280" y="260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0"/>
            <a:ext cx="4572000" cy="2276640"/>
          </a:xfrm>
          <a:prstGeom prst="rect">
            <a:avLst/>
          </a:prstGeom>
          <a:solidFill>
            <a:srgbClr val="78be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4572000" y="0"/>
            <a:ext cx="4572000" cy="2276640"/>
          </a:xfrm>
          <a:prstGeom prst="rect">
            <a:avLst/>
          </a:prstGeom>
          <a:solidFill>
            <a:srgbClr val="50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C:\Users\AVC\Desktop\powerpoint\logo_MENDELU_CMYK_neg1.jpg"/>
          <p:cNvPicPr/>
          <p:nvPr/>
        </p:nvPicPr>
        <p:blipFill>
          <a:blip r:embed="rId2"/>
          <a:stretch/>
        </p:blipFill>
        <p:spPr>
          <a:xfrm>
            <a:off x="285840" y="142920"/>
            <a:ext cx="2428920" cy="2025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be1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46C1-ECB8-48FA-95E2-1DDA6FDF8D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63640" y="2852640"/>
            <a:ext cx="7596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8be14"/>
                </a:solidFill>
                <a:latin typeface="Arial"/>
              </a:rPr>
              <a:t>Analýza kvality života seniorů v ČR</a:t>
            </a:r>
            <a:endParaRPr b="1" lang="en-US" sz="40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63640" y="3716280"/>
            <a:ext cx="759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Prezentace výsledků projektu TAČR č.TB05MPSV004 „Výzkum v oblasti kvality života seniorů v ČR“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859280" y="26028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11.4.2017, B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il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doc. Ing. Lea Kubíčková, Ph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99128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Roční frekvence návštěvy obvodního lékaře ve vztahu ke zdravotnímu stavu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15" name="Zástupný symbol pro obsah 4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7704000" cy="3888000"/>
          </a:xfrm>
          <a:prstGeom prst="rect">
            <a:avLst/>
          </a:prstGeom>
          <a:ln w="0">
            <a:noFill/>
          </a:ln>
        </p:spPr>
      </p:pic>
      <p:sp>
        <p:nvSpPr>
          <p:cNvPr id="116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469F45FA-67DE-44E6-9028-C777F51CD282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Finanční situace</a:t>
            </a:r>
            <a:br>
              <a:rPr sz="3200"/>
            </a:b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18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129800" cy="4032360"/>
          </a:xfrm>
          <a:prstGeom prst="rect">
            <a:avLst/>
          </a:prstGeom>
          <a:ln w="0">
            <a:noFill/>
          </a:ln>
        </p:spPr>
      </p:pic>
      <p:sp>
        <p:nvSpPr>
          <p:cNvPr id="119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A118836A-EE2B-4778-9758-9666ED2C352F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Pocit bezpečí ve vztahu k zdravotnímu stavu 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21" name="Zástupný symbol pro obsah 4" descr=""/>
          <p:cNvPicPr/>
          <p:nvPr/>
        </p:nvPicPr>
        <p:blipFill>
          <a:blip r:embed="rId1"/>
          <a:stretch/>
        </p:blipFill>
        <p:spPr>
          <a:xfrm>
            <a:off x="1332000" y="2292480"/>
            <a:ext cx="6851520" cy="4016160"/>
          </a:xfrm>
          <a:prstGeom prst="rect">
            <a:avLst/>
          </a:prstGeom>
          <a:ln w="0">
            <a:noFill/>
          </a:ln>
        </p:spPr>
      </p:pic>
      <p:sp>
        <p:nvSpPr>
          <p:cNvPr id="122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93E8E423-5181-49CD-8F3F-1370D54453C5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Pocit bezpečí ve vztahu k velikosti obce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24" name="Zástupný symbol pro obsah 4" descr=""/>
          <p:cNvPicPr/>
          <p:nvPr/>
        </p:nvPicPr>
        <p:blipFill>
          <a:blip r:embed="rId1"/>
          <a:stretch/>
        </p:blipFill>
        <p:spPr>
          <a:xfrm>
            <a:off x="1116000" y="2292480"/>
            <a:ext cx="7067520" cy="4232160"/>
          </a:xfrm>
          <a:prstGeom prst="rect">
            <a:avLst/>
          </a:prstGeom>
          <a:ln w="0">
            <a:noFill/>
          </a:ln>
        </p:spPr>
      </p:pic>
      <p:sp>
        <p:nvSpPr>
          <p:cNvPr id="125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95EBCA89-9E40-4CEE-BF35-FE21EDF08E47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32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8be14"/>
                </a:solidFill>
                <a:latin typeface="Arial"/>
              </a:rPr>
              <a:t>Pocit bezpečí seniorů s ohledem na to, s kým senior žije, popř. zda žije sám/a</a:t>
            </a:r>
            <a:br>
              <a:rPr sz="2800"/>
            </a:br>
            <a:endParaRPr b="1" lang="en-US" sz="28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27" name="Zástupný symbol pro obsah 4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6985080" cy="3887640"/>
          </a:xfrm>
          <a:prstGeom prst="rect">
            <a:avLst/>
          </a:prstGeom>
          <a:ln w="0">
            <a:noFill/>
          </a:ln>
        </p:spPr>
      </p:pic>
      <p:sp>
        <p:nvSpPr>
          <p:cNvPr id="128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B1A7146E-D3A6-4EEE-A82B-6526616758B9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Důvody, proč se senioři necítí bezpečně</a:t>
            </a:r>
            <a:br>
              <a:rPr sz="3200"/>
            </a:b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30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6996240" cy="3960720"/>
          </a:xfrm>
          <a:prstGeom prst="rect">
            <a:avLst/>
          </a:prstGeom>
          <a:ln w="0">
            <a:noFill/>
          </a:ln>
        </p:spPr>
      </p:pic>
      <p:sp>
        <p:nvSpPr>
          <p:cNvPr id="131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765B26B9-2854-4C85-9CD1-6D287B99A3C4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3200"/>
            </a:b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enioři nad 75 let - bezpečí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33" name="Zástupný symbol pro obsah 4" descr=""/>
          <p:cNvPicPr/>
          <p:nvPr/>
        </p:nvPicPr>
        <p:blipFill>
          <a:blip r:embed="rId1"/>
          <a:stretch/>
        </p:blipFill>
        <p:spPr>
          <a:xfrm>
            <a:off x="1116000" y="2292480"/>
            <a:ext cx="6840720" cy="4160880"/>
          </a:xfrm>
          <a:prstGeom prst="rect">
            <a:avLst/>
          </a:prstGeom>
          <a:ln w="0">
            <a:noFill/>
          </a:ln>
        </p:spPr>
      </p:pic>
      <p:sp>
        <p:nvSpPr>
          <p:cNvPr id="134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F1015558-1D2B-4678-A8A2-652319344A57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3200"/>
            </a:b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enioři nad 75 let - dobrovolnictví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36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6553440" cy="3960720"/>
          </a:xfrm>
          <a:prstGeom prst="rect">
            <a:avLst/>
          </a:prstGeom>
          <a:ln w="0">
            <a:noFill/>
          </a:ln>
        </p:spPr>
      </p:pic>
      <p:sp>
        <p:nvSpPr>
          <p:cNvPr id="137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6E995D24-360C-49EF-B884-5969E6466263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2800"/>
            </a:br>
            <a:r>
              <a:rPr b="1" lang="cs-CZ" sz="2800" spc="-1" strike="noStrike">
                <a:solidFill>
                  <a:srgbClr val="78be14"/>
                </a:solidFill>
                <a:latin typeface="Arial"/>
              </a:rPr>
              <a:t>Předčasný odchod do důchodu - motivy</a:t>
            </a:r>
            <a:endParaRPr b="1" lang="en-US" sz="28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39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2492280"/>
            <a:ext cx="6996240" cy="3961080"/>
          </a:xfrm>
          <a:prstGeom prst="rect">
            <a:avLst/>
          </a:prstGeom>
          <a:ln w="0">
            <a:noFill/>
          </a:ln>
        </p:spPr>
      </p:pic>
      <p:sp>
        <p:nvSpPr>
          <p:cNvPr id="140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C0B59EA2-92C7-41F7-A851-7D9BF61F8486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1125000"/>
            <a:ext cx="7356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3200"/>
            </a:b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etrvání na trhu práce  - motivy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6E29BEDC-CE23-4271-95AE-A9DE148F5EDE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Zástupný symbol pro obsah 6" descr=""/>
          <p:cNvPicPr/>
          <p:nvPr/>
        </p:nvPicPr>
        <p:blipFill>
          <a:blip r:embed="rId1"/>
          <a:stretch/>
        </p:blipFill>
        <p:spPr>
          <a:xfrm>
            <a:off x="971640" y="2739960"/>
            <a:ext cx="721188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ástupný symbol pro číslo snímku 5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813E72BD-36FE-4F0F-B45B-E2A7BB7293F1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Hlavní cíl projektu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provést </a:t>
            </a:r>
            <a:r>
              <a:rPr b="1" lang="cs-CZ" sz="3200" spc="-1" strike="noStrike">
                <a:solidFill>
                  <a:srgbClr val="505050"/>
                </a:solidFill>
                <a:latin typeface="Arial"/>
              </a:rPr>
              <a:t>detailní a komplexní analýzu kvality života českých seniorů</a:t>
            </a: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, na jejímž základě bude možno formulovat návrhy, jež by vedly ke zkvalitnění jejich života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3200"/>
            </a:b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etrvání na trhu práce – další důvody</a:t>
            </a:r>
            <a:br>
              <a:rPr sz="3200"/>
            </a:b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45" name="Zástupný symbol pro obsah 4" descr=""/>
          <p:cNvPicPr/>
          <p:nvPr/>
        </p:nvPicPr>
        <p:blipFill>
          <a:blip r:embed="rId1"/>
          <a:stretch/>
        </p:blipFill>
        <p:spPr>
          <a:xfrm>
            <a:off x="1403280" y="2654280"/>
            <a:ext cx="6481800" cy="3727440"/>
          </a:xfrm>
          <a:prstGeom prst="rect">
            <a:avLst/>
          </a:prstGeom>
          <a:ln w="0">
            <a:noFill/>
          </a:ln>
        </p:spPr>
      </p:pic>
      <p:sp>
        <p:nvSpPr>
          <p:cNvPr id="146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E302FF7B-4E5F-4592-9C0E-45D3267E18FB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E0375229-A9B3-44A3-8B0D-4ADD22CB3BBD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Děkuji Vám za pozornost.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416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truktura projektu a metody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Analýza dat z výsledků EU SILC,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Primární výzkum: 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50505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05050"/>
                </a:solidFill>
                <a:latin typeface="Arial"/>
              </a:rPr>
              <a:t>kvantitativní část – dotazníkové šetření </a:t>
            </a: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 celkem 3071 zpracovaných dotazníků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50505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05050"/>
                </a:solidFill>
                <a:latin typeface="Arial"/>
              </a:rPr>
              <a:t>kvalitativní část – hloubkové rozhovory             </a:t>
            </a: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3 cílové skupiny (senioři nad 75 let, kteří odešli v řádném čase do důchodu; senioři, kteří odešli do předčasného důchodu; senioři, kteří setrvávají na trhu práce),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D7A95C42-7C5E-4641-86CF-2D5B01FEF614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Výsledky kvantitativního šetření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Životní situace seniorů a oblast bydlení seniorů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Důvody setrvání v zaměstnání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Zdravotní stav seniorů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Spojenost s finanční situací u seniorů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Pocit bezpečí seniorů</a:t>
            </a:r>
            <a:r>
              <a:rPr b="1" i="1" lang="cs-CZ" sz="32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5CBD9DEE-141C-4BFB-B070-A8C79CE21AE8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Životní situace seniorů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00" name="Zástupný symbol pro obsah 6" descr=""/>
          <p:cNvPicPr/>
          <p:nvPr/>
        </p:nvPicPr>
        <p:blipFill>
          <a:blip r:embed="rId1"/>
          <a:stretch/>
        </p:blipFill>
        <p:spPr>
          <a:xfrm>
            <a:off x="1187280" y="2133720"/>
            <a:ext cx="6983640" cy="4435200"/>
          </a:xfrm>
          <a:prstGeom prst="rect">
            <a:avLst/>
          </a:prstGeom>
          <a:ln w="0">
            <a:noFill/>
          </a:ln>
        </p:spPr>
      </p:pic>
      <p:sp>
        <p:nvSpPr>
          <p:cNvPr id="101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D5669C31-9A44-4A2F-92AD-392E3CFCB963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Oblast bydlení seniorů</a:t>
            </a:r>
            <a:br>
              <a:rPr sz="3200"/>
            </a:b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03" name="Zástupný symbol pro obsah 4" descr=""/>
          <p:cNvPicPr/>
          <p:nvPr/>
        </p:nvPicPr>
        <p:blipFill>
          <a:blip r:embed="rId1"/>
          <a:stretch/>
        </p:blipFill>
        <p:spPr>
          <a:xfrm>
            <a:off x="1116000" y="1903320"/>
            <a:ext cx="7201080" cy="4405320"/>
          </a:xfrm>
          <a:prstGeom prst="rect">
            <a:avLst/>
          </a:prstGeom>
          <a:ln w="0">
            <a:noFill/>
          </a:ln>
        </p:spPr>
      </p:pic>
      <p:sp>
        <p:nvSpPr>
          <p:cNvPr id="104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8DF2930C-6D5F-4233-A135-2938CD205EA1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Percepce odchodu  do důchodu – vazba na vzdělání 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06" name="Zástupný symbol pro obsah 4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98508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D4EB0241-3741-4045-B137-B86E77BC77F2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69962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8be14"/>
                </a:solidFill>
                <a:latin typeface="Arial"/>
              </a:rPr>
              <a:t>Typický respondent pro jednotlivé důvody setrvání/nesetrvání v zaměstnání</a:t>
            </a:r>
            <a:endParaRPr b="1" lang="en-US" sz="2400" spc="-1" strike="noStrike">
              <a:solidFill>
                <a:srgbClr val="78be14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17600" y="2122560"/>
          <a:ext cx="8331120" cy="4403520"/>
        </p:xfrm>
        <a:graphic>
          <a:graphicData uri="http://schemas.openxmlformats.org/drawingml/2006/table">
            <a:tbl>
              <a:tblPr/>
              <a:tblGrid>
                <a:gridCol w="3867120"/>
                <a:gridCol w="4464000"/>
              </a:tblGrid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no, protože mi důchod nepostačuje na pokrytí životních ná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Žena ve věku méně než 65 let, má střední vzdělání s maturitou a žije s 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no, chci mít vyšší životní úrove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Žena ve věku méně než 65 let, má střední vzdělání s maturitou a </a:t>
                      </a: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Calibri"/>
                          <a:ea typeface="SimSun"/>
                        </a:rPr>
                        <a:t>žije s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6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no, chci být mezi lid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Žena ve věku méně než 65 let, má střední vzdělání s maturitou a žije s 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no, práce mě ba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Žena ve věku méně než 65 let, má </a:t>
                      </a: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Calibri"/>
                          <a:ea typeface="SimSun"/>
                        </a:rPr>
                        <a:t>vysokoškolské vzdělání</a:t>
                      </a:r>
                      <a:r>
                        <a:rPr b="0" lang="cs-CZ" sz="1800" spc="-1" strike="noStrike">
                          <a:solidFill>
                            <a:srgbClr val="ff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 žije s 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0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no, z jiných důvo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Žena ve věku méně než 65 let, má střední vzdělání s maturitou a žije s 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Žena ve věku 66-70 let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má střední vzdělání s maturitou a žije s 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10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D39D60A2-F0CD-472A-B5C9-377D2536437C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Vnímání zdravotního stavu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12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2292480"/>
            <a:ext cx="6996240" cy="4016160"/>
          </a:xfrm>
          <a:prstGeom prst="rect">
            <a:avLst/>
          </a:prstGeom>
          <a:ln w="0">
            <a:noFill/>
          </a:ln>
        </p:spPr>
      </p:pic>
      <p:sp>
        <p:nvSpPr>
          <p:cNvPr id="113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EE6DB0DC-5551-469A-BF04-48B5DAEC5E51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3:47:14Z</dcterms:created>
  <dc:creator>František Dařena</dc:creator>
  <dc:description/>
  <dc:language>en-US</dc:language>
  <cp:lastModifiedBy>Lea</cp:lastModifiedBy>
  <dcterms:modified xsi:type="dcterms:W3CDTF">2017-04-10T05:54:11Z</dcterms:modified>
  <cp:revision>23</cp:revision>
  <dc:subject/>
  <dc:title>Snímek 1</dc:title>
</cp:coreProperties>
</file>